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6858000" cy="9144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12480" y="767880"/>
            <a:ext cx="287676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BE1C1-ED8B-4E04-B292-271B0DC4C954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CE80-15FC-4667-99F0-343D4055F153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2112840" y="768240"/>
            <a:ext cx="2876760" cy="3837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9BA9A-71C3-42FA-98F0-F19D283205A1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2112840" y="768240"/>
            <a:ext cx="2876760" cy="3837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FDED-B99E-44DA-A4BA-442305A3E041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2112840" y="768240"/>
            <a:ext cx="2876760" cy="3837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0332-1B3E-487C-8FF5-6B77F0E92EE0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12840" y="768240"/>
            <a:ext cx="287676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6AC6-E549-4886-BF6F-6CECA4458FD5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112840" y="768240"/>
            <a:ext cx="2876760" cy="3837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8BD9-38E5-4A48-B6C3-E17119CA4A30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2112840" y="768240"/>
            <a:ext cx="2876760" cy="3837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2888F-40EB-4276-8D2D-055FC2683878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2112840" y="768240"/>
            <a:ext cx="2876760" cy="3837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97D3-B2EF-4FF5-9514-FC5611A4E1DE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2112840" y="768240"/>
            <a:ext cx="2876760" cy="3837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9129-8F53-4132-A555-E5D26CC8B474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2112840" y="768240"/>
            <a:ext cx="2876760" cy="3837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4365-A65C-432C-A275-A04CC5AF4DCD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2112840" y="768240"/>
            <a:ext cx="2876760" cy="3837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9F97E-C293-4C48-AC1D-FB267D955C75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2112840" y="768240"/>
            <a:ext cx="2876760" cy="3837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B53A-9FE4-4CA6-89EE-9799DC16DBC6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2112840" y="768240"/>
            <a:ext cx="2876760" cy="3837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022640" y="9721800"/>
            <a:ext cx="30783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1061-19DB-4C9D-8224-8075EBE5C5BC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2112840" y="768240"/>
            <a:ext cx="2876760" cy="3837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9200" y="4861080"/>
            <a:ext cx="568332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D63F-51D1-4B64-9C60-FB4AC3D8D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0A3F-D930-4B79-9E71-3B5F8159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5F09-06EE-49F4-8A13-C83880C60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3250-B032-40B9-8281-5296297B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09ED-B277-45C6-A16E-78F3D960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2A33-1597-4552-9CF1-4176AF382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31B6-7770-46A1-B4C1-903D183F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9DF-81FA-4FFB-BB1B-5DC5ACD03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7773-8B36-4C22-904D-03F1E4507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2264-D4B9-4EF6-9B32-F58D9369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A398-C5E0-4BEE-B598-04404876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D2EC-D2A0-4E3C-990A-F6DFDD22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307800" indent="-3078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666720" indent="-2556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564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1436760" indent="-204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184788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184788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1847880" indent="-20628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955F-F15A-4893-BBD9-ABE42409341C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81000" y="684360"/>
            <a:ext cx="5461200" cy="2882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BIOQUÍMICA</a:t>
            </a:r>
            <a:br>
              <a:rPr sz="1400"/>
            </a:b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Tema II: Metabolismo de los glúcidos, lípidos y aminoácidos</a:t>
            </a:r>
            <a:br>
              <a:rPr sz="1400"/>
            </a:b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Conferencia 4           Actividad N0: 6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Método: elaboración conjunto y expositivo.</a:t>
            </a:r>
            <a:br>
              <a:rPr sz="1400"/>
            </a:b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Título: Metabolismo de los Carbohidratos. </a:t>
            </a:r>
            <a:br>
              <a:rPr sz="1400"/>
            </a:b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Sumario: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Degradación del Almidón y el glucógeno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Glicólisis.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Fermentación.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Balance material y energético</a:t>
            </a:r>
            <a:br>
              <a:rPr sz="1400"/>
            </a:b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Vía del fosfoclucona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836640" y="3924360"/>
            <a:ext cx="527040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OBJETIVO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Describir las características del proceso de degradación del almidón y de la glicólisis 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Expresar la importancia de la vía glicolítica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Expresar la importancia de la vía del fosfogluconato (vía de las pentosas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OBJETIVOS METODOLÓGICO Y EDUCATIVOS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Estimular   el  desarrollo  de  la  responsabilidad  a  través  del  cumplimiento de tareas docentes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Book Antiqua"/>
              </a:rPr>
              <a:t>Reforzar los hábitos correctos de educación formal a través del proceso docente educativo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Book Antiqua"/>
              </a:rPr>
              <a:t>Reflexionar sobre situación mundial con el agua y la alimentació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87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Book Antiqua"/>
              </a:rPr>
              <a:t>BIBLIOGRAFÍA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Bioquímica para Estudiantes de Ciencias Agropecuarias p. 148 - 168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Book Antiqua"/>
              </a:rPr>
              <a:t>Bioquímica. A.L. Lehninger Cap. 16 y 17. 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876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131840" y="2349360"/>
            <a:ext cx="35546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015920" y="836640"/>
            <a:ext cx="50310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VÍA OXIDATIVA DE  LAS PENTOSA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888840" y="1098720"/>
            <a:ext cx="5143680" cy="13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La vía de las pentosas fosfato oxida la glucosa y bajo ciertas condiciones la glucosa puede oxidarse completamente a CO</a:t>
            </a:r>
            <a:r>
              <a:rPr b="0" lang="es-ES" sz="11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y agua. Sin embargo, esta vía es principalmente una vía anabólica que utiliza los 6 carbonos de la glucosa para generar azúcares de 5 carbonos y equivalentes de reducción.  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Reacción General: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6600"/>
                </a:solidFill>
                <a:latin typeface="Book Antiqua"/>
                <a:ea typeface="Arial"/>
              </a:rPr>
              <a:t>                            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  <a:ea typeface="Arial"/>
              </a:rPr>
              <a:t>3 Glucosa-6-Fosfato + 6 NADP</a:t>
            </a:r>
            <a:r>
              <a:rPr b="1" lang="es-ES" sz="1100" spc="-1" strike="noStrike" baseline="30000">
                <a:solidFill>
                  <a:srgbClr val="000000"/>
                </a:solidFill>
                <a:latin typeface="Book Antiqua"/>
                <a:ea typeface="Arial"/>
              </a:rPr>
              <a:t>+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  <a:ea typeface="Arial"/>
              </a:rPr>
              <a:t> + 3 H</a:t>
            </a:r>
            <a:r>
              <a:rPr b="1" lang="es-ES" sz="1100" spc="-1" strike="noStrike" baseline="-30000">
                <a:solidFill>
                  <a:srgbClr val="000000"/>
                </a:solidFill>
                <a:latin typeface="Book Antiqua"/>
                <a:ea typeface="Arial"/>
              </a:rPr>
              <a:t>2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  <a:ea typeface="Arial"/>
              </a:rPr>
              <a:t>O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3048120" y="2147760"/>
            <a:ext cx="0" cy="195480"/>
          </a:xfrm>
          <a:prstGeom prst="line">
            <a:avLst/>
          </a:prstGeom>
          <a:ln w="0">
            <a:solidFill>
              <a:srgbClr val="0000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Rectangle 11"/>
          <p:cNvSpPr/>
          <p:nvPr/>
        </p:nvSpPr>
        <p:spPr>
          <a:xfrm>
            <a:off x="1015920" y="2343240"/>
            <a:ext cx="53341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  <a:ea typeface="Arial"/>
              </a:rPr>
              <a:t>2 Fructosa-6-Fosfato + Gliceraldehido-3-Fosfato + 6 NADPH + 6 H</a:t>
            </a:r>
            <a:r>
              <a:rPr b="1" lang="es-ES" sz="1100" spc="-1" strike="noStrike" baseline="30000">
                <a:solidFill>
                  <a:srgbClr val="000000"/>
                </a:solidFill>
                <a:latin typeface="Book Antiqua"/>
                <a:ea typeface="Arial"/>
              </a:rPr>
              <a:t>+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  <a:ea typeface="Arial"/>
              </a:rPr>
              <a:t> + 3 CO</a:t>
            </a:r>
            <a:r>
              <a:rPr b="1" lang="es-ES" sz="1100" spc="-1" strike="noStrike" baseline="-30000">
                <a:solidFill>
                  <a:srgbClr val="000000"/>
                </a:solidFill>
                <a:latin typeface="Book Antiqua"/>
                <a:ea typeface="Arial"/>
              </a:rPr>
              <a:t>2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952560" y="2671920"/>
            <a:ext cx="520704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.En este proceso se pueden considerar dos grandes etapas: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En la primera, la glucosa es oxidada por la glucosa 6-fosfato deshidrogenasa formándose el Acido 6-fosfoglucónico. Posteriormente este se descarboxila, catalizada por la 6-fosfoglucónicos deshidrogenasa, originando ribulosa 5-fosfato (una pentosa). La coenzima utilizada por estas deshidrogenasas es NADP</a:t>
            </a:r>
            <a:r>
              <a:rPr b="0" lang="es-ES" sz="1100" spc="-1" strike="noStrike" baseline="30000">
                <a:solidFill>
                  <a:srgbClr val="000000"/>
                </a:solidFill>
                <a:latin typeface="Book Antiqua"/>
              </a:rPr>
              <a:t>+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.  ¿De que vitamina proviene?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1523880" y="5751360"/>
            <a:ext cx="88920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3" name="Picture 44" descr=""/>
          <p:cNvPicPr/>
          <p:nvPr/>
        </p:nvPicPr>
        <p:blipFill>
          <a:blip r:embed="rId1"/>
          <a:stretch/>
        </p:blipFill>
        <p:spPr>
          <a:xfrm>
            <a:off x="1015920" y="5818320"/>
            <a:ext cx="5149800" cy="16635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5"/>
          <p:cNvSpPr/>
          <p:nvPr/>
        </p:nvSpPr>
        <p:spPr>
          <a:xfrm>
            <a:off x="1079640" y="7389720"/>
            <a:ext cx="48895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Funciones: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Producción de NADPH que se utiliza en la síntesis de ácidos grasos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Formación de pentosas precursoras en la síntesis de nucleótidos  y de  ácidos nucleicos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Conversión de pentosas en hexosas y viceversa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Text Box 48"/>
          <p:cNvSpPr/>
          <p:nvPr/>
        </p:nvSpPr>
        <p:spPr>
          <a:xfrm>
            <a:off x="903240" y="4692600"/>
            <a:ext cx="538344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6" name="Text Box 49"/>
          <p:cNvSpPr/>
          <p:nvPr/>
        </p:nvSpPr>
        <p:spPr>
          <a:xfrm>
            <a:off x="888840" y="4768920"/>
            <a:ext cx="527076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En la segunda etapa ocurre una serie de interconversiones, entre diferentes azúcares, que permite la transformación reciproca entre pentosas y hexosas que tienen otros azúcares como intermediarios. Todas las reacciones son reversibles y son catalizadas por dos tipos de enzimas, la transcetolasa que transfiere unidades de dos carbonos y la transaldolasa que transfiere unidades de 3 carbonos, como puede apreciarse a continuación:                                        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(Profundizar en el estudio independiente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37" name="Picture 50" descr=""/>
          <p:cNvPicPr/>
          <p:nvPr/>
        </p:nvPicPr>
        <p:blipFill>
          <a:blip r:embed="rId2"/>
          <a:stretch/>
        </p:blipFill>
        <p:spPr>
          <a:xfrm>
            <a:off x="952560" y="3851280"/>
            <a:ext cx="514188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4600" y="377640"/>
            <a:ext cx="5829120" cy="974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Conclusiones</a:t>
            </a:r>
            <a:br>
              <a:rPr sz="1300"/>
            </a:b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Realizar resumen a través de preguntas y por elaboración conjunta.</a:t>
            </a:r>
            <a:br>
              <a:rPr sz="1300"/>
            </a:b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Diga las características del procesos de degradación del:</a:t>
            </a:r>
            <a:br>
              <a:rPr sz="1300"/>
            </a:b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a) almidón</a:t>
            </a:r>
            <a:br>
              <a:rPr sz="1300"/>
            </a:b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b) Glucos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507960" y="2098800"/>
            <a:ext cx="162072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        </a:t>
            </a: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Almidón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Line 5"/>
          <p:cNvSpPr/>
          <p:nvPr/>
        </p:nvSpPr>
        <p:spPr>
          <a:xfrm>
            <a:off x="1461960" y="22939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1" name="Line 6"/>
          <p:cNvSpPr/>
          <p:nvPr/>
        </p:nvSpPr>
        <p:spPr>
          <a:xfrm>
            <a:off x="1905120" y="22939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Line 8"/>
          <p:cNvSpPr/>
          <p:nvPr/>
        </p:nvSpPr>
        <p:spPr>
          <a:xfrm>
            <a:off x="2286000" y="2293920"/>
            <a:ext cx="32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2603520" y="2098800"/>
            <a:ext cx="11444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Glucosa 6P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3492360" y="2293920"/>
            <a:ext cx="10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3683160" y="2293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3938760" y="2293920"/>
            <a:ext cx="43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4317840" y="2163600"/>
            <a:ext cx="12970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Ac. Pirúvico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8" name="Line 15"/>
          <p:cNvSpPr/>
          <p:nvPr/>
        </p:nvSpPr>
        <p:spPr>
          <a:xfrm flipV="1">
            <a:off x="4952880" y="1967040"/>
            <a:ext cx="19224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4826160" y="1638360"/>
            <a:ext cx="1187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Ac. Lactico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4952880" y="3408480"/>
            <a:ext cx="25416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5207040" y="3540240"/>
            <a:ext cx="7286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etanol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Line 19"/>
          <p:cNvSpPr/>
          <p:nvPr/>
        </p:nvSpPr>
        <p:spPr>
          <a:xfrm flipH="1">
            <a:off x="4508640" y="2622600"/>
            <a:ext cx="255600" cy="52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4952880" y="3736800"/>
            <a:ext cx="10130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4064040" y="3147840"/>
            <a:ext cx="10810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Acetil</a:t>
            </a:r>
            <a:r>
              <a:rPr b="1" lang="en-US" sz="1300" spc="-1" strike="noStrike">
                <a:solidFill>
                  <a:srgbClr val="000000"/>
                </a:solidFill>
                <a:latin typeface="Book Antiqua"/>
              </a:rPr>
              <a:t>~</a:t>
            </a: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COA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4699080" y="3540240"/>
            <a:ext cx="108000" cy="38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6" name="Oval 23"/>
          <p:cNvSpPr/>
          <p:nvPr/>
        </p:nvSpPr>
        <p:spPr>
          <a:xfrm>
            <a:off x="4508640" y="3933720"/>
            <a:ext cx="703080" cy="1150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5094360" y="4705200"/>
            <a:ext cx="3236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8" name="Text Box 25"/>
          <p:cNvSpPr/>
          <p:nvPr/>
        </p:nvSpPr>
        <p:spPr>
          <a:xfrm>
            <a:off x="4572000" y="4390920"/>
            <a:ext cx="5936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CK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Text Box 26"/>
          <p:cNvSpPr/>
          <p:nvPr/>
        </p:nvSpPr>
        <p:spPr>
          <a:xfrm>
            <a:off x="5145120" y="4522680"/>
            <a:ext cx="82404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Cte; FO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4952880" y="5046840"/>
            <a:ext cx="63720" cy="13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1" name="Text Box 28"/>
          <p:cNvSpPr/>
          <p:nvPr/>
        </p:nvSpPr>
        <p:spPr>
          <a:xfrm>
            <a:off x="4637160" y="524340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CO</a:t>
            </a:r>
            <a:r>
              <a:rPr b="1" lang="es-ES" sz="1300" spc="-1" strike="noStrike" baseline="-25000">
                <a:solidFill>
                  <a:srgbClr val="000000"/>
                </a:solidFill>
                <a:latin typeface="Book Antiqua"/>
              </a:rPr>
              <a:t>2    </a:t>
            </a: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H</a:t>
            </a:r>
            <a:r>
              <a:rPr b="1" lang="es-ES" sz="13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O</a:t>
            </a:r>
            <a:r>
              <a:rPr b="1" lang="es-ES" sz="1300" spc="-1" strike="noStrike" baseline="-25000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ATP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2" name="Line 29"/>
          <p:cNvSpPr/>
          <p:nvPr/>
        </p:nvSpPr>
        <p:spPr>
          <a:xfrm>
            <a:off x="5335560" y="4851360"/>
            <a:ext cx="0" cy="32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3" name="Line 30"/>
          <p:cNvSpPr/>
          <p:nvPr/>
        </p:nvSpPr>
        <p:spPr>
          <a:xfrm>
            <a:off x="5651640" y="4786200"/>
            <a:ext cx="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Line 32"/>
          <p:cNvSpPr/>
          <p:nvPr/>
        </p:nvSpPr>
        <p:spPr>
          <a:xfrm>
            <a:off x="3111480" y="2359080"/>
            <a:ext cx="889200" cy="262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5" name="Line 33"/>
          <p:cNvSpPr/>
          <p:nvPr/>
        </p:nvSpPr>
        <p:spPr>
          <a:xfrm>
            <a:off x="4000680" y="4983120"/>
            <a:ext cx="761760" cy="39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Text Box 35"/>
          <p:cNvSpPr/>
          <p:nvPr/>
        </p:nvSpPr>
        <p:spPr>
          <a:xfrm>
            <a:off x="2351160" y="4390920"/>
            <a:ext cx="17272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Glicólisis aeróbica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7" name="Line 36"/>
          <p:cNvSpPr/>
          <p:nvPr/>
        </p:nvSpPr>
        <p:spPr>
          <a:xfrm flipV="1">
            <a:off x="2984400" y="1835280"/>
            <a:ext cx="417600" cy="26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8" name="Line 37"/>
          <p:cNvSpPr/>
          <p:nvPr/>
        </p:nvSpPr>
        <p:spPr>
          <a:xfrm>
            <a:off x="3419640" y="1825560"/>
            <a:ext cx="140652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9" name="Text Box 39"/>
          <p:cNvSpPr/>
          <p:nvPr/>
        </p:nvSpPr>
        <p:spPr>
          <a:xfrm>
            <a:off x="3367080" y="1311120"/>
            <a:ext cx="1332000" cy="4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Glicólisis anaeróbica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Oval 40"/>
          <p:cNvSpPr/>
          <p:nvPr/>
        </p:nvSpPr>
        <p:spPr>
          <a:xfrm>
            <a:off x="2413080" y="2293920"/>
            <a:ext cx="787320" cy="144144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1" name="Text Box 42"/>
          <p:cNvSpPr/>
          <p:nvPr/>
        </p:nvSpPr>
        <p:spPr>
          <a:xfrm>
            <a:off x="1841400" y="3408480"/>
            <a:ext cx="12924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Ribosa 5P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2" name="Line 43"/>
          <p:cNvSpPr/>
          <p:nvPr/>
        </p:nvSpPr>
        <p:spPr>
          <a:xfrm flipH="1">
            <a:off x="2160360" y="3016080"/>
            <a:ext cx="269640" cy="19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Text Box 44"/>
          <p:cNvSpPr/>
          <p:nvPr/>
        </p:nvSpPr>
        <p:spPr>
          <a:xfrm>
            <a:off x="1096920" y="3168720"/>
            <a:ext cx="8650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4" name="Text Box 45"/>
          <p:cNvSpPr/>
          <p:nvPr/>
        </p:nvSpPr>
        <p:spPr>
          <a:xfrm>
            <a:off x="1206360" y="3081240"/>
            <a:ext cx="118908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NADPH.H+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5" name="Text Box 46"/>
          <p:cNvSpPr/>
          <p:nvPr/>
        </p:nvSpPr>
        <p:spPr>
          <a:xfrm>
            <a:off x="2286000" y="2752560"/>
            <a:ext cx="95400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Ciclo de las    pentosa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76" name="Picture 50" descr=""/>
          <p:cNvPicPr/>
          <p:nvPr/>
        </p:nvPicPr>
        <p:blipFill>
          <a:blip r:embed="rId1"/>
          <a:stretch/>
        </p:blipFill>
        <p:spPr>
          <a:xfrm>
            <a:off x="1015920" y="6865920"/>
            <a:ext cx="5141880" cy="82404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1"/>
          <p:cNvSpPr/>
          <p:nvPr/>
        </p:nvSpPr>
        <p:spPr>
          <a:xfrm>
            <a:off x="1079640" y="5554800"/>
            <a:ext cx="4952880" cy="118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¿ Qué diferencias existe entre glicólisis aeróbica y anaeróbica?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¿Qué importancia tiene la glicólisis?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¿ Porqué se puede decir que la glucosa 6P es un metabolito de encrucijada?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¿ Qué importancia biológica tienen el ciclo de la pentosas?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Text Box 53"/>
          <p:cNvSpPr/>
          <p:nvPr/>
        </p:nvSpPr>
        <p:spPr>
          <a:xfrm>
            <a:off x="404640" y="8028000"/>
            <a:ext cx="6453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Recordar que habíamos visto que el metabolismo tiene dos vertientes, la anabólica y la catabólica.    El la próxima actividad comenzaremos a estudiar el anabolismo de los carbohidrato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825480" y="770040"/>
            <a:ext cx="5461200" cy="79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Orientación del trabajo independiente .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Revisar la sección de cuestionario del Caroline  y realizar ejercicios relacionados con la temática de la clase de hoy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Revisar conferencia en sección de documentos del curso del Caroline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Recordar que la próxima actividad evaluada será el seminario 3 sobre: respiración celular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Ver las orientaciones que aparecen en la sección documentos en guías de laboratorio y clases práctica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CUESTIONARIO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¿Cuál es la importancia biológica de los carbohidratos?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Caracterice la vía principal de degradación de los carbohidratos.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¿Cuál  es  el  destino  del  producto  final  de  la  vía  glicolítica? Representa  las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ecuaciones de la reacción.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¿Cuál   es   la   importancia   de  las  quinasas  y  cuales   participan   en   la   vía 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glicolíticas?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¿Cuáles son los puntos de control de la vía glicolítica?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¿Cuál  es  la   significación  del  ciclo  de  las   pentosas  fosfato? ¿ con qué  otros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Procesos biológicos se relaciona?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Compara la vía glicolítica y el ciclo de las pentosa  fosfato y justifique la mayor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importancia de la glicólisis.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¿En qué consiste la gluconeogénesis? ¿Qué  metabolitos son sus precursores y por qué?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Establezca la relación de la glicólisis con el ciclo de la pentosa fosfato.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Pregunta nº 1 (Múltiple Elección):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Los carbohidratos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A) Son polihidroxialdehídos o polihidroxicetonas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B) Son moléculas poco abundantes en la naturaleza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C) Son importantes en el metabolismo energético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D) Pueden estar unidos covalentemente a otro tipo de moléculas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Pregunta nº 2 (Múltiple Elección):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El almidón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>
              <a:buClr>
                <a:srgbClr val="000000"/>
              </a:buClr>
              <a:buFont typeface="Book Antiqua"/>
              <a:buAutoNum type="alphaUcParenR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Se produce abundantemente en la naturaleza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B) Está constituído solamente por amilosa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C) Está constituído por amilosa y amilopectina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D) Es degradado completamente por la alfa amilasa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E) Está constituído por unidades de glucosa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Pregunta nº 3 (Múltiple Elección):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La glucólisis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marL="411120" indent="-411120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A) Es una vía citoplasmática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B) Es una vía esencialmente aeróbica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C) Produce pentosas como producto final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D) Es un proceso anabólico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E) Es una vía de degradación de hexosas fosfato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4"/>
          <p:cNvSpPr/>
          <p:nvPr/>
        </p:nvSpPr>
        <p:spPr>
          <a:xfrm>
            <a:off x="1015920" y="966960"/>
            <a:ext cx="520704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Pregunta nº 4 (Múltiple Elección):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El piruvato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A) Es el producto final de la glucólisis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B) Es precursor del Acetil CoA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C) Solo es transformado aeróbicamente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D) Puede originar alcohol etílico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Pregunta nº 5 (Múltiple Elección):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La fermentación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A) Es una vía mitocondrial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B) Es un proceso anaeróbico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C) Conduce a la formación de ácidos orgánicos y alcohol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D) Ocurre solamente en las plantas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E) Ocurre en plantas animales y microrganismos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Pregunta nº 6 (Múltiple Elección):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La Vía de las Pentosas Fosfato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A) Tiene una función energética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B) Es una vía de interconversión de azúcares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C) Es una vía generadora de poder reductor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D) Convierte hexosas en pentosas. </a:t>
            </a:r>
            <a:br>
              <a:rPr sz="1100"/>
            </a:b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E) Produce fosfatos de alta energía.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6"/>
          <p:cNvGrpSpPr/>
          <p:nvPr/>
        </p:nvGrpSpPr>
        <p:grpSpPr>
          <a:xfrm>
            <a:off x="476280" y="324000"/>
            <a:ext cx="6597720" cy="6552360"/>
            <a:chOff x="476280" y="324000"/>
            <a:chExt cx="6597720" cy="6552360"/>
          </a:xfrm>
        </p:grpSpPr>
        <p:sp>
          <p:nvSpPr>
            <p:cNvPr id="51" name="Rectangle 4"/>
            <p:cNvSpPr/>
            <p:nvPr/>
          </p:nvSpPr>
          <p:spPr>
            <a:xfrm>
              <a:off x="476280" y="324000"/>
              <a:ext cx="5997960" cy="65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080" rIns="82080" tIns="41040" bIns="41040" anchor="ctr">
              <a:noAutofit/>
            </a:bodyPr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ook Antiqua"/>
                </a:rPr>
                <a:t>               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ook Antiqua"/>
                </a:rPr>
                <a:t>INTRODUCC IÓN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Book Antiqua"/>
                </a:rPr>
                <a:t>Retoalimentación de los contenidos anteriores. 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Book Antiqua"/>
                </a:rPr>
                <a:t>De la respiración celular diga: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s-ES" sz="1200" spc="-1" strike="noStrike">
                  <a:solidFill>
                    <a:srgbClr val="000000"/>
                  </a:solidFill>
                  <a:latin typeface="Book Antiqua"/>
                </a:rPr>
                <a:t>- ¿Dónde se localiza y que procesos involucra?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Book Antiqua"/>
                </a:rPr>
                <a:t>- ¿Qué importancia tiene?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Book Antiqua"/>
                </a:rPr>
                <a:t>- Argumente  la  relación  del  ciclo  de  Krebs, la  cadena   respiratoria  y  la fosforilación oxidativa? 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Book Antiqua"/>
                </a:rPr>
                <a:t>- ¿Qué se entiende por fosforilación a nivel de sustrato? Cite un ejemplo. 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Book Antiqua"/>
                </a:rPr>
                <a:t>- ¿Por qué  se  plantea  que  el   ciclo de  Krebs tiene naturaleza anfibólica? Explique en qué consiste esta propiedad. 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Book Antiqua"/>
                </a:rPr>
                <a:t>Motivación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Book Antiqua"/>
                </a:rPr>
                <a:t>Recordar a través de elaboración conjunta: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buClr>
                  <a:srgbClr val="000000"/>
                </a:buClr>
                <a:buFont typeface="Book Antiqua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El termino respiración se utiliza para describir los procesos en los que los metabolitos celulares son oxidados y los protones H</a:t>
              </a:r>
              <a:r>
                <a:rPr b="0" lang="es-ES_tradnl" sz="1200" spc="-1" strike="noStrike" baseline="30000">
                  <a:solidFill>
                    <a:srgbClr val="000000"/>
                  </a:solidFill>
                  <a:latin typeface="Book Antiqua"/>
                </a:rPr>
                <a:t>+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 son transferidos hasta el O</a:t>
              </a:r>
              <a:r>
                <a:rPr b="0" lang="es-ES_tradnl" sz="1200" spc="-1" strike="noStrike" baseline="-30000">
                  <a:solidFill>
                    <a:srgbClr val="000000"/>
                  </a:solidFill>
                  <a:latin typeface="Book Antiqua"/>
                </a:rPr>
                <a:t>2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 formándose H</a:t>
              </a:r>
              <a:r>
                <a:rPr b="0" lang="es-ES_tradnl" sz="1200" spc="-1" strike="noStrike" baseline="-30000">
                  <a:solidFill>
                    <a:srgbClr val="000000"/>
                  </a:solidFill>
                  <a:latin typeface="Book Antiqua"/>
                </a:rPr>
                <a:t>2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O y CO</a:t>
              </a:r>
              <a:r>
                <a:rPr b="0" lang="es-ES_tradnl" sz="1200" spc="-1" strike="noStrike" baseline="-30000">
                  <a:solidFill>
                    <a:srgbClr val="000000"/>
                  </a:solidFill>
                  <a:latin typeface="Book Antiqua"/>
                </a:rPr>
                <a:t>2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, y la energía que es liberada en diversos pasos se traduce en la energía del enlace fosfato del ATP y en otras formas adecuadas para el trabajo metabólico. 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buClr>
                  <a:srgbClr val="000000"/>
                </a:buClr>
                <a:buFont typeface="Book Antiqua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Los sustratos de la respiración derivan en último término de biomoléculas de reserva de alto PM, fundamentalmente carbohidratos, proteínas y lípidos.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buClr>
                  <a:srgbClr val="000000"/>
                </a:buClr>
                <a:buFont typeface="Book Antiqua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Los polisacáridos de glucosa son importantes reservorios de energía que pueden ser utilizados en la producción de ATP y de esqueletos carbonados.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buClr>
                  <a:srgbClr val="000000"/>
                </a:buClr>
                <a:buFont typeface="Book Antiqua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La sacarosa y el almidón constituyen los principales sustratos respiratorios en las plantas, aunque en otros tejidos puedan ser utilizados también  otros carbohidratos como fructosa y azúcares alcohólicos.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buClr>
                  <a:srgbClr val="000000"/>
                </a:buClr>
                <a:buFont typeface="Book Antiqua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¿ Cómo pueden ser utilizado como fuente de energía por las plantas estas biomoléculas?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buClr>
                  <a:srgbClr val="000000"/>
                </a:buClr>
                <a:buFont typeface="Book Antiqua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En esta conferencia describiremos las principales vías del catabolismo de los carbohidratos y como los productos obtenidos pueden metabolizados por diferentes vías.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buClr>
                  <a:srgbClr val="000000"/>
                </a:buClr>
                <a:buFont typeface="Book Antiqua"/>
                <a:buChar char="•"/>
                <a:tabLst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ook Antiqua"/>
                </a:rPr>
                <a:t>CATABOLISMO DE CARBOHIDRATOS.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br>
                <a:rPr sz="1200"/>
              </a:b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El catabolismo de los carbohidratos comprenden una serie de vías metabólicas mediante las cuales se produce la degradación del poli, oligo y Monosacáridos. En nuestro casos estudiaremos las principales vías de degradación del almidón y   la glucosa. </a:t>
              </a:r>
              <a:r>
                <a:rPr b="0" lang="es-ES" sz="1200" spc="-1" strike="noStrike">
                  <a:solidFill>
                    <a:srgbClr val="000000"/>
                  </a:solidFill>
                  <a:latin typeface="Book Antiqua"/>
                </a:rPr>
                <a:t>(Principio de los cambios graduales)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ook Antiqua"/>
                </a:rPr>
                <a:t>DEGRADACIÓN DEL ALMIDÓN.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El almidón  es  la  principal  forma  de almacenamiento de combustible en la mayoría de los vegetales.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Book Antiqua"/>
                </a:rPr>
                <a:t>Hablar de los carbohidratos como principal fuente de alimento en los países pobres por su bajo costo.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  <a:p>
              <a:pPr marL="87480" indent="-87480" algn="just"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Book Antiqua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2" name="Rectangle 5"/>
            <p:cNvSpPr/>
            <p:nvPr/>
          </p:nvSpPr>
          <p:spPr>
            <a:xfrm>
              <a:off x="6474240" y="324000"/>
              <a:ext cx="599760" cy="65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1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0"/>
          <p:cNvSpPr/>
          <p:nvPr/>
        </p:nvSpPr>
        <p:spPr>
          <a:xfrm>
            <a:off x="507960" y="1622520"/>
            <a:ext cx="57150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AutoShape 41"/>
          <p:cNvSpPr/>
          <p:nvPr/>
        </p:nvSpPr>
        <p:spPr>
          <a:xfrm>
            <a:off x="2476440" y="4900680"/>
            <a:ext cx="3780000" cy="26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5" name="Picture 43" descr="figure1"/>
          <p:cNvPicPr/>
          <p:nvPr/>
        </p:nvPicPr>
        <p:blipFill>
          <a:blip r:embed="rId1"/>
          <a:stretch/>
        </p:blipFill>
        <p:spPr>
          <a:xfrm>
            <a:off x="1143000" y="2212920"/>
            <a:ext cx="4127400" cy="21528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4"/>
          <p:cNvSpPr/>
          <p:nvPr/>
        </p:nvSpPr>
        <p:spPr>
          <a:xfrm>
            <a:off x="825480" y="4309920"/>
            <a:ext cx="539748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Enlaces </a:t>
            </a:r>
            <a:r>
              <a:rPr b="1" lang="el-GR" sz="11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α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1-6 y </a:t>
            </a:r>
            <a:r>
              <a:rPr b="1" lang="el-GR" sz="1100" spc="-1" strike="noStrike">
                <a:solidFill>
                  <a:srgbClr val="000000"/>
                </a:solidFill>
                <a:latin typeface="Book Antiqua"/>
              </a:rPr>
              <a:t>α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 1-4 de unidades de glucosa del almidón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Book Antiqua"/>
              </a:rPr>
              <a:t>ETAPAS DE LA DEGRADACIÓN DEL ALMIDÓ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Reducción del granulo a maltodextrinas soluble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Desramificación y degradación de las maltodextrinas a maltosa y glucosa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Degradación de la glucosa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En el proceso de degradación del almidón participan diferentes enzimas entre las cuales se encuentra las siguientes: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Enzimas que rompen los enlaces (1</a:t>
            </a:r>
            <a:r>
              <a:rPr b="0" lang="es-ES_tradnl" sz="1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4)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- Amilasa: ataca cualquier parte de la cadena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- Amilasa: comienza por el extremo no reductor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Enzimas desramificantes (rompen enlaces (1</a:t>
            </a:r>
            <a:r>
              <a:rPr b="0" lang="es-ES_tradnl" sz="1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6)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7" name="Text Box 45"/>
          <p:cNvSpPr/>
          <p:nvPr/>
        </p:nvSpPr>
        <p:spPr>
          <a:xfrm>
            <a:off x="4191120" y="2540160"/>
            <a:ext cx="1904760" cy="24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Enlace glucosídico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58" name="Picture 47" descr="formacion-glucosa"/>
          <p:cNvPicPr/>
          <p:nvPr/>
        </p:nvPicPr>
        <p:blipFill>
          <a:blip r:embed="rId2"/>
          <a:stretch/>
        </p:blipFill>
        <p:spPr>
          <a:xfrm>
            <a:off x="825480" y="6603840"/>
            <a:ext cx="5079960" cy="19512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48"/>
          <p:cNvSpPr/>
          <p:nvPr/>
        </p:nvSpPr>
        <p:spPr>
          <a:xfrm>
            <a:off x="698400" y="966960"/>
            <a:ext cx="565164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Book Antiqua"/>
              </a:rPr>
              <a:t>Recordar estructura del almidón (elaboración conjunta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El almidón se encuentra en dos formas la </a:t>
            </a:r>
            <a:r>
              <a:rPr b="0" lang="es-ES_tradnl" sz="1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 - amilosa y la amilopectina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La </a:t>
            </a:r>
            <a:r>
              <a:rPr b="0" lang="es-ES_tradnl" sz="1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 - amilosa está constituida por cadenas largas no ramificadas en las que todas las unidades de D - glucosa se hallan unidas por enlaces </a:t>
            </a:r>
            <a:r>
              <a:rPr b="0" lang="es-ES_tradnl" sz="11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 (1</a:t>
            </a:r>
            <a:r>
              <a:rPr b="0" lang="es-ES_tradnl" sz="11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1100" spc="-1" strike="noStrike">
                <a:solidFill>
                  <a:srgbClr val="000000"/>
                </a:solidFill>
                <a:latin typeface="Book Antiqua"/>
              </a:rPr>
              <a:t>4).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La amilo pectina  es una estructura ramificada en que las unidades de D glucosa  están unidas por enlaces </a:t>
            </a:r>
            <a:r>
              <a:rPr b="0" lang="el-GR" sz="1100" spc="-1" strike="noStrike">
                <a:solidFill>
                  <a:srgbClr val="000000"/>
                </a:solidFill>
                <a:latin typeface="Book Antiqua"/>
              </a:rPr>
              <a:t>α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(1-6) y (</a:t>
            </a:r>
            <a:r>
              <a:rPr b="0" lang="el-GR" sz="1100" spc="-1" strike="noStrike">
                <a:solidFill>
                  <a:srgbClr val="000000"/>
                </a:solidFill>
                <a:latin typeface="Book Antiqua"/>
              </a:rPr>
              <a:t>α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1-4) 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Preguntar que significa linkage (Estrategía Ingles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333440" y="836640"/>
            <a:ext cx="3943440" cy="4851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888840" y="5621400"/>
            <a:ext cx="5207040" cy="24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La glucosa en la célula se degrada mediante una serie de reacciones concatenadas que conducen a la formación de piruvato, con la producción concomitante de ATP. A este proceso se le denomina glucólisis, y es una ruta casi universal de los organismos vivientes. La glucólisis permite la obtención de energía tanto en condiciones aerobias como anaerobia. 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Las reacciones de la glucólisis ocurren en la porción soluble de citoplasma. A esta vía también se le conoce con el nombre de Embden-Meyerhof-Parnas, en honor a tres investigadores de la misma. 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Recordar característica de procesos catabólicos (elaboración conjunta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En general el proceso se puede considerar en dos etapas. En la primera , la hexosa da lugar a dos triosas, en la segunda, estas moléculas de 3 carbonos se transforman en pirúvico. En esta etapa es que ocurre la oxidación  y las fosforilaciones a nivel de sustrato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Line 9"/>
          <p:cNvSpPr/>
          <p:nvPr/>
        </p:nvSpPr>
        <p:spPr>
          <a:xfrm flipV="1">
            <a:off x="2540160" y="149076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Line 10"/>
          <p:cNvSpPr/>
          <p:nvPr/>
        </p:nvSpPr>
        <p:spPr>
          <a:xfrm flipV="1">
            <a:off x="2540160" y="2278080"/>
            <a:ext cx="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4" name="Line 11"/>
          <p:cNvSpPr/>
          <p:nvPr/>
        </p:nvSpPr>
        <p:spPr>
          <a:xfrm flipV="1">
            <a:off x="3301920" y="3130560"/>
            <a:ext cx="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Line 12"/>
          <p:cNvSpPr/>
          <p:nvPr/>
        </p:nvSpPr>
        <p:spPr>
          <a:xfrm flipV="1">
            <a:off x="3111480" y="371952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Line 13"/>
          <p:cNvSpPr/>
          <p:nvPr/>
        </p:nvSpPr>
        <p:spPr>
          <a:xfrm flipV="1">
            <a:off x="3111480" y="417816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Line 14"/>
          <p:cNvSpPr/>
          <p:nvPr/>
        </p:nvSpPr>
        <p:spPr>
          <a:xfrm flipV="1">
            <a:off x="3238560" y="457200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1" descr=""/>
          <p:cNvPicPr/>
          <p:nvPr/>
        </p:nvPicPr>
        <p:blipFill>
          <a:blip r:embed="rId1"/>
          <a:stretch/>
        </p:blipFill>
        <p:spPr>
          <a:xfrm>
            <a:off x="444600" y="507960"/>
            <a:ext cx="6033960" cy="4784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2"/>
          <p:cNvSpPr/>
          <p:nvPr/>
        </p:nvSpPr>
        <p:spPr>
          <a:xfrm>
            <a:off x="888840" y="5489640"/>
            <a:ext cx="5397840" cy="22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Principio de transferencia de energía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Rendimiento energético de la glucólisis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Como se puede apreciar en la figura anterior la transformación de la glucosa en ácido pirúvico consume dos moléculas de ATP y produce cuatro, y se logra un balance positivo de 2 ATP.  Por otra parte además de pirúvico se produce NADH.H</a:t>
            </a:r>
            <a:r>
              <a:rPr b="0" lang="es-ES" sz="1100" spc="-1" strike="noStrike" baseline="30000">
                <a:solidFill>
                  <a:srgbClr val="000000"/>
                </a:solidFill>
                <a:latin typeface="Book Antiqua"/>
              </a:rPr>
              <a:t>+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.  Para que el proceso pueda continuar con velocidad apreciable en la dirección degradativa, es necesario la reoxidación de los NADH.H+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La ecuación global del proceso es: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Glucosa + 2Pi + 2ADP + 2NAD</a:t>
            </a:r>
            <a:r>
              <a:rPr b="0" lang="es-ES" sz="1100" spc="-1" strike="noStrike" baseline="30000">
                <a:solidFill>
                  <a:srgbClr val="000000"/>
                </a:solidFill>
                <a:latin typeface="Book Antiqua"/>
              </a:rPr>
              <a:t>+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                   2 pirúvico + 2ATP + 2NADH.H</a:t>
            </a:r>
            <a:r>
              <a:rPr b="0" lang="es-ES" sz="1100" spc="-1" strike="noStrike" baseline="30000">
                <a:solidFill>
                  <a:srgbClr val="000000"/>
                </a:solidFill>
                <a:latin typeface="Book Antiqua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Line 15"/>
          <p:cNvSpPr/>
          <p:nvPr/>
        </p:nvSpPr>
        <p:spPr>
          <a:xfrm>
            <a:off x="2921040" y="7588080"/>
            <a:ext cx="571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glucolisis-resumen"/>
          <p:cNvPicPr/>
          <p:nvPr/>
        </p:nvPicPr>
        <p:blipFill>
          <a:blip r:embed="rId1"/>
          <a:stretch/>
        </p:blipFill>
        <p:spPr>
          <a:xfrm>
            <a:off x="952560" y="6145200"/>
            <a:ext cx="5172120" cy="2076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2"/>
          <a:stretch/>
        </p:blipFill>
        <p:spPr>
          <a:xfrm>
            <a:off x="1015920" y="3457440"/>
            <a:ext cx="5523120" cy="1900440"/>
          </a:xfrm>
          <a:prstGeom prst="rect">
            <a:avLst/>
          </a:prstGeom>
          <a:ln w="0">
            <a:noFill/>
          </a:ln>
        </p:spPr>
      </p:pic>
      <p:sp>
        <p:nvSpPr>
          <p:cNvPr id="73" name="Text Box 8"/>
          <p:cNvSpPr/>
          <p:nvPr/>
        </p:nvSpPr>
        <p:spPr>
          <a:xfrm>
            <a:off x="762120" y="762120"/>
            <a:ext cx="5460840" cy="26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Destinos del ácido pirúvico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La transformación del ácido pirúvico en las células está en dependencia de la disponibilidad de l oxígeno. Cuando existe abundancia de este elemento, la cadena respiratoria funcionará a plena capacidad y el NADH.H</a:t>
            </a:r>
            <a:r>
              <a:rPr b="0" lang="es-ES" sz="1100" spc="-1" strike="noStrike" baseline="30000">
                <a:solidFill>
                  <a:srgbClr val="000000"/>
                </a:solidFill>
                <a:latin typeface="Book Antiqua"/>
              </a:rPr>
              <a:t>+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producido en la Vía glicolítica se reoxidará en la misma. Por otra parte el ácido pirúvico se descarboxila originando Acetil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~CoA , que es el alimentador del ciclo de Krebs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Si por el contrario existe ausencia de oxígeno o deficiencia relativa del mismo, tanto el ácido pirúvico como el NADH.H</a:t>
            </a:r>
            <a:r>
              <a:rPr b="0" lang="en-US" sz="1100" spc="-1" strike="noStrike" baseline="30000">
                <a:solidFill>
                  <a:srgbClr val="000000"/>
                </a:solidFill>
                <a:latin typeface="Book Antiqua"/>
              </a:rPr>
              <a:t>+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 convergerán hacia la formación de ácido láctico (fermentación láctica), y de esta manera la degradación de la glucosa no se detendrá por deficit de NAD+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En bacterias el pirúvico puede ser convertido en etanol lo que se conoce como fermentación alcohólica. 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En el siguiente gráfico se muestran los destinos del ácido pirúvico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1015920" y="5160960"/>
            <a:ext cx="1620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952560" y="5357880"/>
            <a:ext cx="546084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Recordar a través de pregunta los procesos involucrados en la respiración celular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Destacar la importancia del oxígeno en la atmósfera por lo que todos debemos luchar contra la contaminación ambiental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5120" y="901440"/>
            <a:ext cx="5327640" cy="1506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3300"/>
                </a:solidFill>
                <a:latin typeface="Book Antiqua"/>
              </a:rPr>
              <a:t>RESUMEN DE LA GLICÓLISIS.</a:t>
            </a:r>
            <a:br>
              <a:rPr sz="1100"/>
            </a:br>
            <a:br>
              <a:rPr sz="1100"/>
            </a:b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Tejidos vegetales....la vía glicolítica incluye las reacciones a través de las cuales la hexosa fosfato se metaboliza en piruvato, oxalacetato o malato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3"/>
          <p:cNvSpPr/>
          <p:nvPr/>
        </p:nvSpPr>
        <p:spPr>
          <a:xfrm>
            <a:off x="2666880" y="3589200"/>
            <a:ext cx="0" cy="47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2158920" y="4113360"/>
            <a:ext cx="1125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Glucosa 6P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Line 5"/>
          <p:cNvSpPr/>
          <p:nvPr/>
        </p:nvSpPr>
        <p:spPr>
          <a:xfrm>
            <a:off x="2666880" y="5030640"/>
            <a:ext cx="0" cy="45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" name="Line 6"/>
          <p:cNvSpPr/>
          <p:nvPr/>
        </p:nvSpPr>
        <p:spPr>
          <a:xfrm>
            <a:off x="2666880" y="562140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666880" y="450684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158920" y="6735600"/>
            <a:ext cx="18417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2 Fosfoenolpirúvico (PEP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2666880" y="693108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Line 11"/>
          <p:cNvSpPr/>
          <p:nvPr/>
        </p:nvSpPr>
        <p:spPr>
          <a:xfrm flipH="1">
            <a:off x="1714320" y="6865920"/>
            <a:ext cx="5079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Text Box 14"/>
          <p:cNvSpPr/>
          <p:nvPr/>
        </p:nvSpPr>
        <p:spPr>
          <a:xfrm>
            <a:off x="825480" y="6735600"/>
            <a:ext cx="1279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oxalacetato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" name="Line 15"/>
          <p:cNvSpPr/>
          <p:nvPr/>
        </p:nvSpPr>
        <p:spPr>
          <a:xfrm>
            <a:off x="1397160" y="6996240"/>
            <a:ext cx="0" cy="26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" name="Text Box 16"/>
          <p:cNvSpPr/>
          <p:nvPr/>
        </p:nvSpPr>
        <p:spPr>
          <a:xfrm>
            <a:off x="952560" y="7259760"/>
            <a:ext cx="10224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Malato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Text Box 17"/>
          <p:cNvSpPr/>
          <p:nvPr/>
        </p:nvSpPr>
        <p:spPr>
          <a:xfrm>
            <a:off x="1905120" y="7259760"/>
            <a:ext cx="15350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            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2 Piruvato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Line 18"/>
          <p:cNvSpPr/>
          <p:nvPr/>
        </p:nvSpPr>
        <p:spPr>
          <a:xfrm flipH="1">
            <a:off x="2031480" y="6342120"/>
            <a:ext cx="1033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Text Box 19"/>
          <p:cNvSpPr/>
          <p:nvPr/>
        </p:nvSpPr>
        <p:spPr>
          <a:xfrm>
            <a:off x="1968480" y="6145200"/>
            <a:ext cx="665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CO</a:t>
            </a:r>
            <a:r>
              <a:rPr b="1" lang="es-ES" sz="1100" spc="-1" strike="noStrike" baseline="-25000">
                <a:solidFill>
                  <a:srgbClr val="000000"/>
                </a:solidFill>
                <a:latin typeface="Book Antiqua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Text Box 25"/>
          <p:cNvSpPr/>
          <p:nvPr/>
        </p:nvSpPr>
        <p:spPr>
          <a:xfrm>
            <a:off x="3683160" y="2212920"/>
            <a:ext cx="18954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Ocurre en el citosol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3619440" y="2475000"/>
            <a:ext cx="2333520" cy="47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    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¿Etapas? :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89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Escisión de hexosas en dos triosa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89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Oxidación de las triosas y FN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89"/>
              </a:spcBef>
              <a:buClr>
                <a:srgbClr val="000000"/>
              </a:buClr>
              <a:buFont typeface="Book Antiqua"/>
              <a:buChar char="•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Permite obtener energía a partir de los glúcidos. (Importancia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La fosfoructoquinasa es una enzima alostérica y constituye un importante punto de regulación de la secuencia glicolítica. La misma es inhibida por el ATP y el ácido cítrico y activada por el ADP y el AMP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La pirúvicoquinasa tambiés es una enzima alostérica, que participa en el control de la vía, requiere de la presencia de cationes divalentes Mg</a:t>
            </a:r>
            <a:r>
              <a:rPr b="0" lang="es-ES" sz="1100" spc="-1" strike="noStrike" baseline="30000">
                <a:solidFill>
                  <a:srgbClr val="000000"/>
                </a:solidFill>
                <a:latin typeface="Book Antiqua"/>
              </a:rPr>
              <a:t>2+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y Mn</a:t>
            </a:r>
            <a:r>
              <a:rPr b="0" lang="es-ES" sz="1100" spc="-1" strike="noStrike" baseline="30000">
                <a:solidFill>
                  <a:srgbClr val="000000"/>
                </a:solidFill>
                <a:latin typeface="Book Antiqua"/>
              </a:rPr>
              <a:t>2+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 y cationes monovalentes como el K</a:t>
            </a:r>
            <a:r>
              <a:rPr b="0" lang="es-ES" sz="1100" spc="-1" strike="noStrike" baseline="30000">
                <a:solidFill>
                  <a:srgbClr val="000000"/>
                </a:solidFill>
                <a:latin typeface="Book Antiqua"/>
              </a:rPr>
              <a:t>+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, que actúa como activador. Además es activada por la fructosa 1,6 difosfato y es inhibida por el ATP, la alanina, el Acetil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~</a:t>
            </a:r>
            <a:r>
              <a:rPr b="0" lang="es-ES" sz="1100" spc="-1" strike="noStrike">
                <a:solidFill>
                  <a:srgbClr val="000000"/>
                </a:solidFill>
                <a:latin typeface="Book Antiqua"/>
              </a:rPr>
              <a:t>CoA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Text Box 27"/>
          <p:cNvSpPr/>
          <p:nvPr/>
        </p:nvSpPr>
        <p:spPr>
          <a:xfrm>
            <a:off x="561960" y="3048120"/>
            <a:ext cx="138276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Text Box 28"/>
          <p:cNvSpPr/>
          <p:nvPr/>
        </p:nvSpPr>
        <p:spPr>
          <a:xfrm>
            <a:off x="941400" y="2868480"/>
            <a:ext cx="15368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Almidón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" name="Line 29"/>
          <p:cNvSpPr/>
          <p:nvPr/>
        </p:nvSpPr>
        <p:spPr>
          <a:xfrm>
            <a:off x="1336680" y="3260880"/>
            <a:ext cx="85680" cy="70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Text Box 30"/>
          <p:cNvSpPr/>
          <p:nvPr/>
        </p:nvSpPr>
        <p:spPr>
          <a:xfrm>
            <a:off x="687240" y="3962520"/>
            <a:ext cx="168912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Text Box 31"/>
          <p:cNvSpPr/>
          <p:nvPr/>
        </p:nvSpPr>
        <p:spPr>
          <a:xfrm>
            <a:off x="825480" y="4113360"/>
            <a:ext cx="10238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Glucosa 1P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Line 33"/>
          <p:cNvSpPr/>
          <p:nvPr/>
        </p:nvSpPr>
        <p:spPr>
          <a:xfrm>
            <a:off x="1650960" y="424332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" name="Line 35"/>
          <p:cNvSpPr/>
          <p:nvPr/>
        </p:nvSpPr>
        <p:spPr>
          <a:xfrm>
            <a:off x="2666880" y="2475000"/>
            <a:ext cx="0" cy="655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Text Box 36"/>
          <p:cNvSpPr/>
          <p:nvPr/>
        </p:nvSpPr>
        <p:spPr>
          <a:xfrm>
            <a:off x="2857680" y="3130560"/>
            <a:ext cx="10746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Fructosa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Line 37"/>
          <p:cNvSpPr/>
          <p:nvPr/>
        </p:nvSpPr>
        <p:spPr>
          <a:xfrm>
            <a:off x="2793960" y="2475000"/>
            <a:ext cx="39852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Line 38"/>
          <p:cNvSpPr/>
          <p:nvPr/>
        </p:nvSpPr>
        <p:spPr>
          <a:xfrm flipH="1">
            <a:off x="2730240" y="3392640"/>
            <a:ext cx="61596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Text Box 41"/>
          <p:cNvSpPr/>
          <p:nvPr/>
        </p:nvSpPr>
        <p:spPr>
          <a:xfrm>
            <a:off x="2730600" y="6996240"/>
            <a:ext cx="13968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* 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Pirúvicoquinasa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Text Box 42"/>
          <p:cNvSpPr/>
          <p:nvPr/>
        </p:nvSpPr>
        <p:spPr>
          <a:xfrm>
            <a:off x="1270080" y="5030640"/>
            <a:ext cx="1828800" cy="2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*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Fosfofructoquinasa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Rectangle 43"/>
          <p:cNvSpPr/>
          <p:nvPr/>
        </p:nvSpPr>
        <p:spPr>
          <a:xfrm>
            <a:off x="2311920" y="2212920"/>
            <a:ext cx="791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Sacarosa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Line 44"/>
          <p:cNvSpPr/>
          <p:nvPr/>
        </p:nvSpPr>
        <p:spPr>
          <a:xfrm>
            <a:off x="2666880" y="5883120"/>
            <a:ext cx="0" cy="1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Line 45"/>
          <p:cNvSpPr/>
          <p:nvPr/>
        </p:nvSpPr>
        <p:spPr>
          <a:xfrm>
            <a:off x="2666880" y="614520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Line 46"/>
          <p:cNvSpPr/>
          <p:nvPr/>
        </p:nvSpPr>
        <p:spPr>
          <a:xfrm>
            <a:off x="2666880" y="647208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Text Box 48"/>
          <p:cNvSpPr/>
          <p:nvPr/>
        </p:nvSpPr>
        <p:spPr>
          <a:xfrm>
            <a:off x="635040" y="7718400"/>
            <a:ext cx="53974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Recordar que es una enzima alostérica y sus características a través de pregunta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1143000" y="1360440"/>
            <a:ext cx="4586400" cy="61707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1015920" y="7653240"/>
            <a:ext cx="52088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Realizar el cálculo del balance energético en detalle teniendo en cuenta todas las reacciones involucradas en el trabajo independiente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888840" y="704880"/>
            <a:ext cx="552456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En clase se realizará solo de forma general destacando que en condiciones aeróbicas es mayor que en condiciones anaeróbica. Destacar el destino de las coenzimas reducidas en ambos caso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1206360" y="770040"/>
            <a:ext cx="514368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Book Antiqua"/>
              </a:rPr>
              <a:t>Interrelación de la vía glicolítica con la </a:t>
            </a: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Respiración.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(Realizar a través de elaboración conjunta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114" name="Picture 5" descr="REL CK CR FO"/>
          <p:cNvPicPr/>
          <p:nvPr/>
        </p:nvPicPr>
        <p:blipFill>
          <a:blip r:embed="rId1"/>
          <a:stretch/>
        </p:blipFill>
        <p:spPr>
          <a:xfrm>
            <a:off x="888840" y="1819440"/>
            <a:ext cx="5461200" cy="61038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762120" y="1295280"/>
            <a:ext cx="5332320" cy="8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just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</a:t>
            </a:r>
            <a:r>
              <a:rPr b="1" lang="es-ES" sz="13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  <a:p>
            <a:pPr algn="just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4064040" y="1555920"/>
            <a:ext cx="0" cy="1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4064040" y="1884240"/>
            <a:ext cx="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683160" y="2212920"/>
            <a:ext cx="1079280" cy="24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Acetil</a:t>
            </a:r>
            <a:r>
              <a:rPr b="1" lang="en-US" sz="1100" spc="-1" strike="noStrike">
                <a:solidFill>
                  <a:srgbClr val="000000"/>
                </a:solidFill>
                <a:latin typeface="Book Antiqua"/>
              </a:rPr>
              <a:t>~CoA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4508640" y="2933640"/>
            <a:ext cx="63648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Citrato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3174840" y="2998800"/>
            <a:ext cx="95256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Oxalacetato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4000680" y="3325680"/>
            <a:ext cx="763560" cy="41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Ciclo de Kreb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3238560" y="5030640"/>
            <a:ext cx="823680" cy="683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8600" rIns="48600" tIns="106560" bIns="7416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Coenzimas  reducidas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1714680" y="6865920"/>
            <a:ext cx="1333440" cy="58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Book Antiqua"/>
              </a:rPr>
              <a:t>Espacio intermembranoso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4" name="Line 15"/>
          <p:cNvSpPr/>
          <p:nvPr/>
        </p:nvSpPr>
        <p:spPr>
          <a:xfrm flipH="1">
            <a:off x="2158920" y="1951200"/>
            <a:ext cx="1841760" cy="6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2158920" y="2016000"/>
            <a:ext cx="635040" cy="307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20:11:47Z</dcterms:created>
  <dc:creator>R.DARIAS</dc:creator>
  <dc:description/>
  <dc:language>en-US</dc:language>
  <cp:lastModifiedBy>Amalia</cp:lastModifiedBy>
  <dcterms:modified xsi:type="dcterms:W3CDTF">2013-07-10T06:30:00Z</dcterms:modified>
  <cp:revision>81</cp:revision>
  <dc:subject/>
  <dc:title>Presentación de PowerPoint</dc:title>
</cp:coreProperties>
</file>