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2480" y="767880"/>
            <a:ext cx="287676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D71-9D39-4BE2-922B-14851E09F03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1AD3-72F8-4C0E-A492-EAA6D06EB22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028-F243-4EB7-AE13-3886CA892A4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C3E0-D140-4FC0-A391-287A399FD0E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749-4CF4-410A-AEEA-34B096BD5E7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37F-8300-45BB-B072-8C7538F2121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A29-928E-4049-81C1-1FAF8E02687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394-1BF6-48BE-B14D-3A859B046B2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611-842C-4042-A6B7-3476E0AFF7D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4EA-69F1-4BD0-A6BE-7136E70E715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54BE-149E-40E7-9514-A3CE8635CF6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FFA-EAF1-4199-9E31-E845F2CD76E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FAF4-A955-41DB-9B76-BBFC7F6D054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AD9-162B-4A8F-A078-BD2EE279406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F44-BC3B-4CD3-9D96-2116FE76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F17-ED95-4CCA-A53C-3B0A17AE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DBF-7B5D-46AD-BE07-708B67B6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9B9-0E06-43C4-B561-60BE685B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C44-33E1-4C88-92EC-02F34EB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C45-2EAF-4CC7-BAF7-D22F1FF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0DC-7548-437A-A211-99061DC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559-5444-4191-BB94-31A03DE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68A-402F-4EC9-87B2-42943AF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6A3-3C64-4644-863F-796BA33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41A-C2E1-4A89-A47A-5459906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708-138C-453D-BC01-212C47A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5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3FB-157A-421B-9DE4-8CEB2AD68A8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84360"/>
            <a:ext cx="5461200" cy="2882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IOQUÍMICA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Tema II: Metabolismo de los glúcidos, lípidos y aminoácidos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Conferencia 4           Actividad N0: 6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Método: elaboración conjunto y expositivo.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Título: Metabolismo de los Carbohidratos. 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Sumario: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Degradación del Almidón y el glucógeno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Glicólisis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Fermentación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alance material y energético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Vía del fosfoclucon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6640" y="3924360"/>
            <a:ext cx="52704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Describir las características del proceso de degradación del almidón y de la glicólisis 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xpresar la importancia de la vía glicolítica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xpresar la importancia de la vía del fosfogluconato (vía de las pentosa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OBJETIVOS METODOLÓGICO Y EDUCATIVO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stimular   el  desarrollo  de  la  responsabilidad  a  través  del  cumplimiento de tareas docente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Book Antiqua"/>
              </a:rPr>
              <a:t>Reforzar los hábitos correctos de educación formal a través del proceso docente educativo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Book Antiqua"/>
              </a:rPr>
              <a:t>Reflexionar sobre situación mundial con el agua y la alimentació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IBLIOGRAFÍ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Bioquímica para Estudiantes de Ciencias Agropecuarias p. 148 - 168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Bioquímica. A.L. Lehninger Cap. 16 y 17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31840" y="2349360"/>
            <a:ext cx="3554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15920" y="836640"/>
            <a:ext cx="5031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VÍA OXIDATIVA DE  LAS PENT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88840" y="1098720"/>
            <a:ext cx="51436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vía de las pentosas fosfato oxida la glucosa y bajo ciertas condiciones la glucosa puede oxidarse completamente a CO</a:t>
            </a:r>
            <a:r>
              <a:rPr b="0" lang="es-ES" sz="11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agua. Sin embargo, esta vía es principalmente una vía anabólica que utiliza los 6 carbonos de la glucosa para generar azúcares de 5 carbonos y equivalentes de reducción.  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acción General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6600"/>
                </a:solidFill>
                <a:latin typeface="Book Antiqua"/>
                <a:ea typeface="Arial"/>
              </a:rPr>
              <a:t>                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3 Glucosa-6-Fosfato + 6 NADP</a:t>
            </a:r>
            <a:r>
              <a:rPr b="1" lang="es-ES" sz="1100" spc="-1" strike="noStrike" baseline="30000">
                <a:solidFill>
                  <a:srgbClr val="000000"/>
                </a:solidFill>
                <a:latin typeface="Book Antiqua"/>
                <a:ea typeface="Arial"/>
              </a:rPr>
              <a:t>+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 + 3 H</a:t>
            </a:r>
            <a:r>
              <a:rPr b="1" lang="es-ES" sz="1100" spc="-1" strike="noStrike" baseline="-30000">
                <a:solidFill>
                  <a:srgbClr val="000000"/>
                </a:solidFill>
                <a:latin typeface="Book Antiqua"/>
                <a:ea typeface="Arial"/>
              </a:rPr>
              <a:t>2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048120" y="2147760"/>
            <a:ext cx="0" cy="19548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015920" y="2343240"/>
            <a:ext cx="5334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2 Fructosa-6-Fosfato + Gliceraldehido-3-Fosfato + 6 NADPH + 6 H</a:t>
            </a:r>
            <a:r>
              <a:rPr b="1" lang="es-ES" sz="1100" spc="-1" strike="noStrike" baseline="30000">
                <a:solidFill>
                  <a:srgbClr val="000000"/>
                </a:solidFill>
                <a:latin typeface="Book Antiqua"/>
                <a:ea typeface="Arial"/>
              </a:rPr>
              <a:t>+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 + 3 CO</a:t>
            </a:r>
            <a:r>
              <a:rPr b="1" lang="es-ES" sz="1100" spc="-1" strike="noStrike" baseline="-30000">
                <a:solidFill>
                  <a:srgbClr val="000000"/>
                </a:solidFill>
                <a:latin typeface="Book Antiqua"/>
                <a:ea typeface="Arial"/>
              </a:rPr>
              <a:t>2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52560" y="2671920"/>
            <a:ext cx="520704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En este proceso se pueden considerar dos grandes etapa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la primera, la glucosa es oxidada por la glucosa 6-fosfato deshidrogenasa formándose el Acido 6-fosfoglucónico. Posteriormente este se descarboxila, catalizada por la 6-fosfoglucónicos deshidrogenasa, originando ribulosa 5-fosfato (una pentosa). La coenzima utilizada por estas deshidrogenasas es NADP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  ¿De que vitamina proviene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523880" y="5751360"/>
            <a:ext cx="889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3" name="Picture 44" descr=""/>
          <p:cNvPicPr/>
          <p:nvPr/>
        </p:nvPicPr>
        <p:blipFill>
          <a:blip r:embed="rId1"/>
          <a:stretch/>
        </p:blipFill>
        <p:spPr>
          <a:xfrm>
            <a:off x="1015920" y="5818320"/>
            <a:ext cx="5149800" cy="1663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5"/>
          <p:cNvSpPr/>
          <p:nvPr/>
        </p:nvSpPr>
        <p:spPr>
          <a:xfrm>
            <a:off x="1079640" y="7389720"/>
            <a:ext cx="48895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uncion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roducción de NADPH que se utiliza en la síntesis de ácidos graso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Formación de pentosas precursoras en la síntesis de nucleótidos  y de  ácidos nucleico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nversión de pentosas en hexosas y vicevers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903240" y="4692600"/>
            <a:ext cx="53834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888840" y="4768920"/>
            <a:ext cx="52707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la segunda etapa ocurre una serie de interconversiones, entre diferentes azúcares, que permite la transformación reciproca entre pentosas y hexosas que tienen otros azúcares como intermediarios. Todas las reacciones son reversibles y son catalizadas por dos tipos de enzimas, la transcetolasa que transfiere unidades de dos carbonos y la transaldolasa que transfiere unidades de 3 carbonos, como puede apreciarse a continuación:                            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(Profundizar en el estudio independiente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Picture 50" descr=""/>
          <p:cNvPicPr/>
          <p:nvPr/>
        </p:nvPicPr>
        <p:blipFill>
          <a:blip r:embed="rId2"/>
          <a:stretch/>
        </p:blipFill>
        <p:spPr>
          <a:xfrm>
            <a:off x="952560" y="3851280"/>
            <a:ext cx="51418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600" y="377640"/>
            <a:ext cx="5829120" cy="974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nclusiones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Realizar resumen a través de preguntas y por elaboración conjunta.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Diga las características del procesos de degradación del: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) almidón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b) Gluco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7960" y="2098800"/>
            <a:ext cx="1620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lmidón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461960" y="229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905120" y="229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286000" y="229392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603520" y="2098800"/>
            <a:ext cx="11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ucosa 6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492360" y="22939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683160" y="229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3938760" y="229392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317840" y="2163600"/>
            <a:ext cx="1297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c. Pirúvico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Line 15"/>
          <p:cNvSpPr/>
          <p:nvPr/>
        </p:nvSpPr>
        <p:spPr>
          <a:xfrm flipV="1">
            <a:off x="4952880" y="1967040"/>
            <a:ext cx="1922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26160" y="163836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c. Lactic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4952880" y="3408480"/>
            <a:ext cx="254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207040" y="3540240"/>
            <a:ext cx="728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etanol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08640" y="2622600"/>
            <a:ext cx="25560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4952880" y="3736800"/>
            <a:ext cx="101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064040" y="3147840"/>
            <a:ext cx="1081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cetil</a:t>
            </a:r>
            <a:r>
              <a:rPr b="1" lang="en-US" sz="13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4699080" y="3540240"/>
            <a:ext cx="10800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Oval 23"/>
          <p:cNvSpPr/>
          <p:nvPr/>
        </p:nvSpPr>
        <p:spPr>
          <a:xfrm>
            <a:off x="4508640" y="3933720"/>
            <a:ext cx="703080" cy="115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5094360" y="4705200"/>
            <a:ext cx="32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4572000" y="4390920"/>
            <a:ext cx="593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145120" y="4522680"/>
            <a:ext cx="824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te; FO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4952880" y="5046840"/>
            <a:ext cx="6372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4637160" y="52434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2  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T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335560" y="485136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5651640" y="47862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Line 32"/>
          <p:cNvSpPr/>
          <p:nvPr/>
        </p:nvSpPr>
        <p:spPr>
          <a:xfrm>
            <a:off x="3111480" y="2359080"/>
            <a:ext cx="889200" cy="26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000680" y="4983120"/>
            <a:ext cx="76176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351160" y="4390920"/>
            <a:ext cx="1727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icólisis aeróbic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Line 36"/>
          <p:cNvSpPr/>
          <p:nvPr/>
        </p:nvSpPr>
        <p:spPr>
          <a:xfrm flipV="1">
            <a:off x="2984400" y="1835280"/>
            <a:ext cx="4176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3419640" y="1825560"/>
            <a:ext cx="140652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3367080" y="1311120"/>
            <a:ext cx="133200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icólisis anaeróbic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Oval 40"/>
          <p:cNvSpPr/>
          <p:nvPr/>
        </p:nvSpPr>
        <p:spPr>
          <a:xfrm>
            <a:off x="2413080" y="2293920"/>
            <a:ext cx="787320" cy="1441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Text Box 42"/>
          <p:cNvSpPr/>
          <p:nvPr/>
        </p:nvSpPr>
        <p:spPr>
          <a:xfrm>
            <a:off x="1841400" y="3408480"/>
            <a:ext cx="1292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Ribosa 5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Line 43"/>
          <p:cNvSpPr/>
          <p:nvPr/>
        </p:nvSpPr>
        <p:spPr>
          <a:xfrm flipH="1">
            <a:off x="2160360" y="3016080"/>
            <a:ext cx="2696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Text Box 44"/>
          <p:cNvSpPr/>
          <p:nvPr/>
        </p:nvSpPr>
        <p:spPr>
          <a:xfrm>
            <a:off x="1096920" y="3168720"/>
            <a:ext cx="865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Text Box 45"/>
          <p:cNvSpPr/>
          <p:nvPr/>
        </p:nvSpPr>
        <p:spPr>
          <a:xfrm>
            <a:off x="1206360" y="3081240"/>
            <a:ext cx="1189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NADPH.H+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Text Box 46"/>
          <p:cNvSpPr/>
          <p:nvPr/>
        </p:nvSpPr>
        <p:spPr>
          <a:xfrm>
            <a:off x="2286000" y="2752560"/>
            <a:ext cx="9540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clo de las    pent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50" descr=""/>
          <p:cNvPicPr/>
          <p:nvPr/>
        </p:nvPicPr>
        <p:blipFill>
          <a:blip r:embed="rId1"/>
          <a:stretch/>
        </p:blipFill>
        <p:spPr>
          <a:xfrm>
            <a:off x="1015920" y="6865920"/>
            <a:ext cx="5141880" cy="824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1"/>
          <p:cNvSpPr/>
          <p:nvPr/>
        </p:nvSpPr>
        <p:spPr>
          <a:xfrm>
            <a:off x="1079640" y="5554800"/>
            <a:ext cx="495288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Qué diferencias existe entre glicólisis aeróbica y anaeróbica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Qué importancia tiene la glicólisis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Porqué se puede decir que la glucosa 6P es un metabolito de encrucijada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Qué importancia biológica tienen el ciclo de la pentosas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04640" y="8028000"/>
            <a:ext cx="6453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cordar que habíamos visto que el metabolismo tiene dos vertientes, la anabólica y la catabólica.    El la próxima actividad comenzaremos a estudiar el anabolismo de los carbohidrato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825480" y="770040"/>
            <a:ext cx="5461200" cy="79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rientación del trabajo independiente 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visar la sección de cuestionario del Caroline  y realizar ejercicios relacionados con la temática de la clase de hoy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visar conferencia en sección de documentos del curso del Caroline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cordar que la próxima actividad evaluada será el seminario 3 sobre: respiración celula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Ver las orientaciones que aparecen en la sección documentos en guías de laboratorio y clases práctic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UESTIONARI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es la importancia biológica de los carbohidratos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aracterice la vía principal de degradación de los carbohidratos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es  el  destino  del  producto  final  de  la  vía  glicolítica? Representa  la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cuaciones de la reacción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 es   la   importancia   de  las  quinasas  y  cuales   participan   en   la   vía 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glicolíticas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es son los puntos de control de la vía glicolítica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es  la   significación  del  ciclo  de  las   pentosas  fosfato? ¿ con qué  otro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rocesos biológicos se relaciona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mpara la vía glicolítica y el ciclo de las pentosa  fosfato y justifique la mayor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importancia de la glicólisis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En qué consiste la gluconeogénesis? ¿Qué  metabolitos son sus precursores y por qué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stablezca la relación de la glicólisis con el ciclo de la pentosa fosfato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1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os carbohidrato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Son polihidroxialdehídos o polihidroxiceton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Son moléculas poco abundantes en la naturalez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Son importantes en el metabolismo energét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Pueden estar unidos covalentemente a otro tipo de moléculas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2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El almidón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buClr>
                <a:srgbClr val="000000"/>
              </a:buClr>
              <a:buFont typeface="Book Antiqua"/>
              <a:buAutoNum type="alphaUcParenR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Se produce abundantemente en la naturalez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tá constituído solamente por amilo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Está constituído por amilosa y amilopectin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Es degradado completamente por la alfa amila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Está constituído por unidades de gluco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3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glucólisi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una vía citoplasmát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a vía esencialmente aerób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Produce pentosas como producto fina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Es un proceso anaból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Es una vía de degradación de hexosas fosfat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015920" y="966960"/>
            <a:ext cx="52070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4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El piruvato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el producto final de la glucólisi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precursor del Acetil Co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Solo es transformado aeróbicamente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Puede originar alcohol etílico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5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fermentación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una vía mitocondria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 proceso anaerób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Conduce a la formación de ácidos orgánicos y alcoho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Ocurre solamente en las plant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Ocurre en plantas animales y microrganismos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6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Vía de las Pentosas Fosfato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Tiene una función energét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a vía de interconversión de azúcare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Es una vía generadora de poder reductor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Convierte hexosas en pentos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Produce fosfatos de alta energía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476280" y="324000"/>
            <a:ext cx="6597720" cy="6552360"/>
            <a:chOff x="476280" y="324000"/>
            <a:chExt cx="6597720" cy="6552360"/>
          </a:xfrm>
        </p:grpSpPr>
        <p:sp>
          <p:nvSpPr>
            <p:cNvPr id="51" name="Rectangle 4"/>
            <p:cNvSpPr/>
            <p:nvPr/>
          </p:nvSpPr>
          <p:spPr>
            <a:xfrm>
              <a:off x="476280" y="324000"/>
              <a:ext cx="5997960" cy="65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             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INTRODUCC IÓ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Book Antiqua"/>
                </a:rPr>
                <a:t>Retoalimentación de los contenidos anteriores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De la respiración celular diga: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Dónde se localiza y que procesos involucra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Qué importancia tiene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Argumente  la  relación  del  ciclo  de  Krebs, la  cadena   respiratoria  y  la fosforilación oxidativa?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Qué se entiende por fosforilación a nivel de sustrato? Cite un ejemplo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Por qué  se  plantea  que  el   ciclo de  Krebs tiene naturaleza anfibólica? Explique en qué consiste esta propiedad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Book Antiqua"/>
                </a:rPr>
                <a:t>Motivació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Recordar a través de elaboración conjunta: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termino respiración se utiliza para describir los procesos en los que los metabolitos celulares son oxidados y los protones H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Book Antiqua"/>
                </a:rPr>
                <a:t>+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son transferidos hasta el 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formándose H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O y C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, y la energía que es liberada en diversos pasos se traduce en la energía del enlace fosfato del ATP y en otras formas adecuadas para el trabajo metabólico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os sustratos de la respiración derivan en último término de biomoléculas de reserva de alto PM, fundamentalmente carbohidratos, proteínas y lípid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os polisacáridos de glucosa son importantes reservorios de energía que pueden ser utilizados en la producción de ATP y de esqueletos carbonad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a sacarosa y el almidón constituyen los principales sustratos respiratorios en las plantas, aunque en otros tejidos puedan ser utilizados también  otros carbohidratos como fructosa y azúcares alcohólic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¿ Cómo pueden ser utilizado como fuente de energía por las plantas estas biomoléculas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n esta conferencia describiremos las principales vías del catabolismo de los carbohidratos y como los productos obtenidos pueden metabolizados por diferentes vía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CATABOLISMO DE CARBOHIDRAT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br>
                <a:rPr sz="1200"/>
              </a:b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catabolismo de los carbohidratos comprenden una serie de vías metabólicas mediante las cuales se produce la degradación del poli, oligo y Monosacáridos. En nuestro casos estudiaremos las principales vías de degradación del almidón y   la glucosa. </a:t>
              </a: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(Principio de los cambios graduales)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DEGRADACIÓN DEL ALMIDÓN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almidón  es  la  principal  forma  de almacenamiento de combustible en la mayoría de los vegetales.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Hablar de los carbohidratos como principal fuente de alimento en los países pobres por su bajo costo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6474240" y="324000"/>
              <a:ext cx="599760" cy="65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1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0"/>
          <p:cNvSpPr/>
          <p:nvPr/>
        </p:nvSpPr>
        <p:spPr>
          <a:xfrm>
            <a:off x="507960" y="1622520"/>
            <a:ext cx="5715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2476440" y="4900680"/>
            <a:ext cx="37800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3" descr="figure1"/>
          <p:cNvPicPr/>
          <p:nvPr/>
        </p:nvPicPr>
        <p:blipFill>
          <a:blip r:embed="rId1"/>
          <a:stretch/>
        </p:blipFill>
        <p:spPr>
          <a:xfrm>
            <a:off x="1143000" y="2212920"/>
            <a:ext cx="4127400" cy="215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4"/>
          <p:cNvSpPr/>
          <p:nvPr/>
        </p:nvSpPr>
        <p:spPr>
          <a:xfrm>
            <a:off x="825480" y="4309920"/>
            <a:ext cx="539748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laces </a:t>
            </a:r>
            <a:r>
              <a:rPr b="1" lang="el-GR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α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1-6 y </a:t>
            </a:r>
            <a:r>
              <a:rPr b="1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1-4 de unidades de glucosa del almidón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Book Antiqua"/>
              </a:rPr>
              <a:t>ETAPAS DE LA DEGRADACIÓN DEL ALMIDÓ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Reducción del granulo a maltodextrinas solub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Desramificación y degradación de las maltodextrinas a maltosa y gluc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Degradación de la glucosa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 el proceso de degradación del almidón participan diferentes enzimas entre las cuales se encuentra las siguient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zimas que rompen los enlaces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4)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- Amilasa: ataca cualquier parte de la caden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- Amilasa: comienza por el extremo no reduc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zimas desramificantes (rompen enlaces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6)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Text Box 45"/>
          <p:cNvSpPr/>
          <p:nvPr/>
        </p:nvSpPr>
        <p:spPr>
          <a:xfrm>
            <a:off x="4191120" y="2540160"/>
            <a:ext cx="1904760" cy="2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lace glucosídic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7" descr="formacion-glucosa"/>
          <p:cNvPicPr/>
          <p:nvPr/>
        </p:nvPicPr>
        <p:blipFill>
          <a:blip r:embed="rId2"/>
          <a:stretch/>
        </p:blipFill>
        <p:spPr>
          <a:xfrm>
            <a:off x="825480" y="6603840"/>
            <a:ext cx="5079960" cy="1951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8"/>
          <p:cNvSpPr/>
          <p:nvPr/>
        </p:nvSpPr>
        <p:spPr>
          <a:xfrm>
            <a:off x="698400" y="966960"/>
            <a:ext cx="56516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Book Antiqua"/>
              </a:rPr>
              <a:t>Recordar estructura del almidón (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l almidón se encuentra en dos formas la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- amilosa y la amilopectin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La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- amilosa está constituida por cadenas largas no ramificadas en las que todas las unidades de D - glucosa se hallan unidas por enlaces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4).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amilo pectina  es una estructura ramificada en que las unidades de D glucosa  están unidas por enlaces </a:t>
            </a:r>
            <a:r>
              <a:rPr b="0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(1-6) y (</a:t>
            </a:r>
            <a:r>
              <a:rPr b="0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1-4) 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r que significa linkage (Estrategía Ingle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3440" y="836640"/>
            <a:ext cx="394344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888840" y="5621400"/>
            <a:ext cx="520704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glucosa en la célula se degrada mediante una serie de reacciones concatenadas que conducen a la formación de piruvato, con la producción concomitante de ATP. A este proceso se le denomina glucólisis, y es una ruta casi universal de los organismos vivientes. La glucólisis permite la obtención de energía tanto en condiciones aerobias como anaerobia. 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s reacciones de la glucólisis ocurren en la porción soluble de citoplasma. A esta vía también se le conoce con el nombre de Embden-Meyerhof-Parnas, en honor a tres investigadores de la misma.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característica de procesos catabólicos (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general el proceso se puede considerar en dos etapas. En la primera , la hexosa da lugar a dos triosas, en la segunda, estas moléculas de 3 carbonos se transforman en pirúvico. En esta etapa es que ocurre la oxidación  y las fosforilaciones a nivel de sustrat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2540160" y="14907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40160" y="227808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Line 11"/>
          <p:cNvSpPr/>
          <p:nvPr/>
        </p:nvSpPr>
        <p:spPr>
          <a:xfrm flipV="1">
            <a:off x="3301920" y="31305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3111480" y="37195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Line 13"/>
          <p:cNvSpPr/>
          <p:nvPr/>
        </p:nvSpPr>
        <p:spPr>
          <a:xfrm flipV="1">
            <a:off x="3111480" y="41781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3238560" y="457200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444600" y="507960"/>
            <a:ext cx="6033960" cy="4784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888840" y="5489640"/>
            <a:ext cx="539784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incipio de transferencia de energí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ndimiento energético de la glucólisi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mo se puede apreciar en la figura anterior la transformación de la glucosa en ácido pirúvico consume dos moléculas de ATP y produce cuatro, y se logra un balance positivo de 2 ATP.  Por otra parte además de pirúvico se produce 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  Para que el proceso pueda continuar con velocidad apreciable en la dirección degradativa, es necesario la reoxidación de los NADH.H+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ecuación global del proceso 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Glucosa + 2Pi + 2ADP + 2NAD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                  2 pirúvico + 2ATP + 2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2921040" y="75880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glucolisis-resumen"/>
          <p:cNvPicPr/>
          <p:nvPr/>
        </p:nvPicPr>
        <p:blipFill>
          <a:blip r:embed="rId1"/>
          <a:stretch/>
        </p:blipFill>
        <p:spPr>
          <a:xfrm>
            <a:off x="952560" y="6145200"/>
            <a:ext cx="5172120" cy="207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1015920" y="3457440"/>
            <a:ext cx="5523120" cy="1900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762120" y="762120"/>
            <a:ext cx="54608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Destinos del ácido pirúvic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transformación del ácido pirúvico en las células está en dependencia de la disponibilidad de l oxígeno. Cuando existe abundancia de este elemento, la cadena respiratoria funcionará a plena capacidad y el 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producido en la Vía glicolítica se reoxidará en la misma. Por otra parte el ácido pirúvico se descarboxila originando Acetil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~CoA , que es el alimentador del ciclo de Kreb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Si por el contrario existe ausencia de oxígeno o deficiencia relativa del mismo, tanto el ácido pirúvico como el NADH.H</a:t>
            </a:r>
            <a:r>
              <a:rPr b="0" lang="en-U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convergerán hacia la formación de ácido láctico (fermentación láctica), y de esta manera la degradación de la glucosa no se detendrá por deficit de NAD+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En bacterias el pirúvico puede ser convertido en etanol lo que se conoce como fermentación alcohólica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En el siguiente gráfico se muestran los destinos del ácido pirúvic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15920" y="5160960"/>
            <a:ext cx="162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952560" y="5357880"/>
            <a:ext cx="54608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a través de pregunta los procesos involucrados en la respiración celula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Destacar la importancia del oxígeno en la atmósfera por lo que todos debemos luchar contra la contaminación ambienta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901440"/>
            <a:ext cx="5327640" cy="150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3300"/>
                </a:solidFill>
                <a:latin typeface="Book Antiqua"/>
              </a:rPr>
              <a:t>RESUMEN DE LA GLICÓLISIS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Tejidos vegetales....la vía glicolítica incluye las reacciones a través de las cuales la hexosa fosfato se metaboliza en piruvato, oxalacetato o malato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666880" y="358920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58920" y="4113360"/>
            <a:ext cx="1125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Glucosa 6P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666880" y="50306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666880" y="56214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666880" y="45068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58920" y="6735600"/>
            <a:ext cx="1841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2 Fosfoenolpirúvico (PEP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666880" y="693108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1714320" y="6865920"/>
            <a:ext cx="507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825480" y="6735600"/>
            <a:ext cx="1279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xalacet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397160" y="699624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952560" y="7259760"/>
            <a:ext cx="1022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Mal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905120" y="7259760"/>
            <a:ext cx="1535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2 Piruv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Line 18"/>
          <p:cNvSpPr/>
          <p:nvPr/>
        </p:nvSpPr>
        <p:spPr>
          <a:xfrm flipH="1">
            <a:off x="2031480" y="6342120"/>
            <a:ext cx="1033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1968480" y="6145200"/>
            <a:ext cx="66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1" lang="es-ES" sz="11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3683160" y="2212920"/>
            <a:ext cx="1895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Ocurre en el citos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3619440" y="2475000"/>
            <a:ext cx="233352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¿Etapas? 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scisión de hexosas en dos tri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Oxidación de las triosas y F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ermite obtener energía a partir de los glúcidos. (Importanci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fosfoructoquinasa es una enzima alostérica y constituye un importante punto de regulación de la secuencia glicolítica. La misma es inhibida por el ATP y el ácido cítrico y activada por el ADP y el AMP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pirúvicoquinasa tambiés es una enzima alostérica, que participa en el control de la vía, requiere de la presencia de cationes divalentes Mg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2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Mn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2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cationes monovalentes como el K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, que actúa como activador. Además es activada por la fructosa 1,6 difosfato y es inhibida por el ATP, la alanina, el Acetil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561960" y="3048120"/>
            <a:ext cx="1382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941400" y="2868480"/>
            <a:ext cx="1536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lmidó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1336680" y="3260880"/>
            <a:ext cx="8568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687240" y="3962520"/>
            <a:ext cx="16891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825480" y="4113360"/>
            <a:ext cx="102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Glucosa 1P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Line 33"/>
          <p:cNvSpPr/>
          <p:nvPr/>
        </p:nvSpPr>
        <p:spPr>
          <a:xfrm>
            <a:off x="1650960" y="424332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Line 35"/>
          <p:cNvSpPr/>
          <p:nvPr/>
        </p:nvSpPr>
        <p:spPr>
          <a:xfrm>
            <a:off x="2666880" y="247500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2857680" y="3130560"/>
            <a:ext cx="1074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ruct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2793960" y="2475000"/>
            <a:ext cx="39852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Line 38"/>
          <p:cNvSpPr/>
          <p:nvPr/>
        </p:nvSpPr>
        <p:spPr>
          <a:xfrm flipH="1">
            <a:off x="2730240" y="3392640"/>
            <a:ext cx="6159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30600" y="6996240"/>
            <a:ext cx="1396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irúvicoquina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1270080" y="5030640"/>
            <a:ext cx="1828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*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osfofructoquina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2311920" y="2212920"/>
            <a:ext cx="791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Sacar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2666880" y="58831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2666880" y="61452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2666880" y="647208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Text Box 48"/>
          <p:cNvSpPr/>
          <p:nvPr/>
        </p:nvSpPr>
        <p:spPr>
          <a:xfrm>
            <a:off x="635040" y="7718400"/>
            <a:ext cx="5397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que es una enzima alostérica y sus características a través de pregunt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4586400" cy="6170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015920" y="7653240"/>
            <a:ext cx="5208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alizar el cálculo del balance energético en detalle teniendo en cuenta todas las reacciones involucradas en el trabajo independien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888840" y="704880"/>
            <a:ext cx="552456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 clase se realizará solo de forma general destacando que en condiciones aeróbicas es mayor que en condiciones anaeróbica. Destacar el destino de las coenzimas reducidas en ambos caso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06360" y="770040"/>
            <a:ext cx="51436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Interrelación de la vía glicolítica con la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spiración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(Realizar a través de 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4" name="Picture 5" descr="REL CK CR FO"/>
          <p:cNvPicPr/>
          <p:nvPr/>
        </p:nvPicPr>
        <p:blipFill>
          <a:blip r:embed="rId1"/>
          <a:stretch/>
        </p:blipFill>
        <p:spPr>
          <a:xfrm>
            <a:off x="888840" y="1819440"/>
            <a:ext cx="5461200" cy="6103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762120" y="1295280"/>
            <a:ext cx="5332320" cy="8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s-ES" sz="13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064040" y="1555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064040" y="18842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83160" y="2212920"/>
            <a:ext cx="1079280" cy="2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cetil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~Co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08640" y="2933640"/>
            <a:ext cx="63648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tr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174840" y="2998800"/>
            <a:ext cx="95256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xalacet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00680" y="3325680"/>
            <a:ext cx="76356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clo de Kreb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38560" y="5030640"/>
            <a:ext cx="823680" cy="68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106560" bIns="7416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oenzimas  reducid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714680" y="6865920"/>
            <a:ext cx="1333440" cy="5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spacio intermembranos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2158920" y="1951200"/>
            <a:ext cx="184176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158920" y="2016000"/>
            <a:ext cx="635040" cy="30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20:11:47Z</dcterms:created>
  <dc:creator>R.DARIAS</dc:creator>
  <dc:description/>
  <dc:language>en-US</dc:language>
  <cp:lastModifiedBy>Amalia</cp:lastModifiedBy>
  <dcterms:modified xsi:type="dcterms:W3CDTF">2013-07-10T06:30:00Z</dcterms:modified>
  <cp:revision>81</cp:revision>
  <dc:subject/>
  <dc:title>Presentación de PowerPoint</dc:title>
</cp:coreProperties>
</file>