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jpeg" ContentType="image/jpeg"/>
  <Override PartName="/ppt/media/image2.jpeg" ContentType="image/jpeg"/>
  <Override PartName="/ppt/media/image3.png" ContentType="image/png"/>
  <Override PartName="/ppt/media/image4.jpeg" ContentType="image/jpeg"/>
  <Override PartName="/ppt/media/image6.jpeg" ContentType="image/jpeg"/>
  <Override PartName="/ppt/media/image13.png" ContentType="image/png"/>
  <Override PartName="/ppt/media/image8.png" ContentType="image/png"/>
  <Override PartName="/ppt/media/image14.jpeg" ContentType="image/jpeg"/>
  <Override PartName="/ppt/media/image7.jpeg" ContentType="image/jpeg"/>
  <Override PartName="/ppt/media/image11.png" ContentType="image/png"/>
  <Override PartName="/ppt/media/image9.png" ContentType="image/png"/>
  <Override PartName="/ppt/media/image5.png" ContentType="image/pn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22BEF-7F15-4612-8A45-965001136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0437D-66BE-44C8-9092-6AEEAE89D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E2B33-FB18-4EAA-B2A6-50A9D37471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7013F3-2718-4799-88BF-47950A4AD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C53E3-83D2-4FA3-8E2B-7475C3E8A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8179B-238E-4E46-8EDB-9E642B43B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13EEB-6C54-4416-B30F-F37189C98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54799-2516-47B1-B21D-FAFD0EB03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7864F-7220-4852-A66D-3D957F712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070C0-CD0A-4B10-9897-222658DB3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ECCD6-7750-4F89-9336-1659F9406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1B654-0E98-4568-83E9-060247A5A4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A4A78-5C8C-482D-B7B9-B2A0969ECAF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agroweb.umcc.cu/PaginasProfesores/Bioquimica/SUPERACION DE PROFESORES/Conferencias/Conf ac nucleicos/composic.htm"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agroweb.umcc.cu/PaginasProfesores/Bioquimica/SUPERACION DE PROFESORES/Conferencias/Conf ac nucleicos/Watson &amp; Crick/James Watson, Francis Crick, Maurice Wilkin, and Rosalind Franklin.htm"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549360" y="468360"/>
            <a:ext cx="6048360" cy="88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Book Antiqua"/>
              </a:rPr>
              <a:t>BIOQUÍMICA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Book Antiqua"/>
              </a:rPr>
              <a:t>TEMA III. GENÉTICA MOLECULAR.</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Book Antiqua"/>
              </a:rPr>
              <a:t>FOE. Conferencia;  N0:11                                      Actividad N0: 20</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Book Antiqua"/>
              </a:rPr>
              <a:t>Método: </a:t>
            </a:r>
            <a:r>
              <a:rPr b="0" lang="es-ES" sz="1300" spc="-1" strike="noStrike">
                <a:solidFill>
                  <a:srgbClr val="000000"/>
                </a:solidFill>
                <a:latin typeface="Book Antiqua"/>
              </a:rPr>
              <a:t>Método de trabajo con el libro de texto</a:t>
            </a:r>
            <a:br>
              <a:rPr sz="1300"/>
            </a:br>
            <a:r>
              <a:rPr b="0" lang="es-ES" sz="1300" spc="-1" strike="noStrike">
                <a:solidFill>
                  <a:srgbClr val="000000"/>
                </a:solidFill>
                <a:latin typeface="Book Antiqua"/>
              </a:rPr>
              <a:t>M</a:t>
            </a:r>
            <a:r>
              <a:rPr b="1" lang="es-ES" sz="1300" spc="-1" strike="noStrike">
                <a:solidFill>
                  <a:srgbClr val="000000"/>
                </a:solidFill>
                <a:latin typeface="Book Antiqua"/>
              </a:rPr>
              <a:t>edios</a:t>
            </a:r>
            <a:r>
              <a:rPr b="0" lang="es-ES" sz="1300" spc="-1" strike="noStrike">
                <a:solidFill>
                  <a:srgbClr val="000000"/>
                </a:solidFill>
                <a:latin typeface="Book Antiqua"/>
              </a:rPr>
              <a:t>: Pizarra, videos didácticos, diapositiva, libro de texto y materiales complementario</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Book Antiqua"/>
              </a:rPr>
              <a:t>Conferencia : Replicación, Transcripción y Traducció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Temática: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Introducció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Ácidos nucleicos. Composición química.</a:t>
            </a:r>
            <a:r>
              <a:rPr b="0" lang="es-ES" sz="1300" spc="-1" strike="noStrike" u="sng">
                <a:solidFill>
                  <a:srgbClr val="009999"/>
                </a:solidFill>
                <a:uFillTx/>
                <a:latin typeface="Book Antiqua"/>
                <a:hlinkClick r:id="rId1"/>
              </a:rPr>
              <a:t> </a:t>
            </a:r>
            <a:r>
              <a:rPr b="0" lang="es-ES" sz="1300" spc="-1" strike="noStrike">
                <a:solidFill>
                  <a:srgbClr val="000000"/>
                </a:solidFill>
                <a:latin typeface="Book Antiqua"/>
              </a:rPr>
              <a:t> Funciones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Replicación del AD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Aspectos generales. Etapa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Transcripció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Aspectos generales. Etapa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Traducció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Código genético.</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Aspectos generales del proceso. Etapas.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Mutació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Book Antiqua"/>
              </a:rPr>
              <a:t>OBJETIVOS: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Describir los procesos de replicación, transcripción y traducción.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Argumentar  la importancia biológica de la replicación,  la transcripción y la traducción.</a:t>
            </a:r>
            <a:r>
              <a:rPr b="1" lang="es-ES" sz="1300" spc="-1" strike="noStrike">
                <a:solidFill>
                  <a:srgbClr val="000000"/>
                </a:solidFill>
                <a:latin typeface="Book Antiqua"/>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Book Antiqua"/>
              </a:rPr>
              <a:t>OBJETIVOS EDUCATIVO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Contribuir al desarrollo de la expresión a través de los métodos participativos</a:t>
            </a:r>
            <a:r>
              <a:rPr b="1" lang="es-ES" sz="1300" spc="-1" strike="noStrike">
                <a:solidFill>
                  <a:srgbClr val="000000"/>
                </a:solidFill>
                <a:latin typeface="Book Antiqua"/>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Elevar el desarrollo de la crítica  a través de la discusión de los aspectos designados a los equipo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Reflexionar sobre el uso que puede tener los conocimientos científicos a favor de la humanidad o en contra de ella, como es el caso de las guerras biológica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Book Antiqua"/>
              </a:rPr>
              <a:t>BIBLIOGRAFÍA:</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Bioquímica para estudiantes de Ciencias Agropecuarias. Col. de autores. Cap. 6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Bioquímica A.L. Lehninger. Cap. 31- 34.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4"/>
          <p:cNvSpPr/>
          <p:nvPr/>
        </p:nvSpPr>
        <p:spPr>
          <a:xfrm>
            <a:off x="765000" y="539640"/>
            <a:ext cx="5616720" cy="840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 </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Book Antiqua"/>
              </a:rPr>
              <a:t>Iniciación:</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La RNA pol contiene dos sitios de unión para nucleótidos trifosfatados, llamados sitios de iniciación. El primero es específicos para nucleótidos de purinas (generalmente ATP), luego se incorpora la segunda base.</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 </a:t>
            </a:r>
            <a:r>
              <a:rPr b="1" lang="es-ES_tradnl" sz="1300" spc="-1" strike="noStrike">
                <a:solidFill>
                  <a:srgbClr val="000000"/>
                </a:solidFill>
                <a:latin typeface="Book Antiqua"/>
              </a:rPr>
              <a:t>Elongación:</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Consiste en el aumento gradual de la cadena polirribonucleotídica por acción fundamentalmente de la ARN polimerasa</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 </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Book Antiqua"/>
              </a:rPr>
              <a:t>Terminación:</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La terminación  de la síntesis ocurre en secuencias específicas. Hay dos tipos de señales de terminación :</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El primero no necesita factores accesorios y contiene alrededor de 6 residuos de uridina seguido de una parte recta (stem) y un lazo (loop).</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El segundo tipo no presenta esta secuencia y requiere un factor de terminación rho (</a:t>
            </a:r>
            <a:r>
              <a:rPr b="0" lang="el-GR" sz="1300" spc="-1" strike="noStrike">
                <a:solidFill>
                  <a:srgbClr val="000000"/>
                </a:solidFill>
                <a:latin typeface="Book Antiqua"/>
              </a:rPr>
              <a:t>ρ</a:t>
            </a:r>
            <a:r>
              <a:rPr b="0" lang="es-ES_tradnl" sz="1300" spc="-1" strike="noStrike">
                <a:solidFill>
                  <a:srgbClr val="000000"/>
                </a:solidFill>
                <a:latin typeface="Book Antiqua"/>
              </a:rPr>
              <a:t>) para la separación de la cadena. El factor r se une al RNA y hace que se separe de la RNA polimerasa, terminando la síntesis.</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Se ha descubierto otros factores de terminación denominados </a:t>
            </a:r>
            <a:r>
              <a:rPr b="0" lang="el-GR" sz="1300" spc="-1" strike="noStrike">
                <a:solidFill>
                  <a:srgbClr val="000000"/>
                </a:solidFill>
                <a:latin typeface="Book Antiqua"/>
              </a:rPr>
              <a:t>η</a:t>
            </a:r>
            <a:r>
              <a:rPr b="0" lang="es-ES_tradnl" sz="1300" spc="-1" strike="noStrike">
                <a:solidFill>
                  <a:srgbClr val="000000"/>
                </a:solidFill>
                <a:latin typeface="Book Antiqua"/>
              </a:rPr>
              <a:t>us A  .</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 </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Book Antiqua"/>
              </a:rPr>
              <a:t>La terminación incluye:</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1.    Cese de la elongación de la cadena.</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2.    Liberación del ARN.</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3.    Liberación de ARN polimerasa.</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Book Antiqua"/>
              </a:rPr>
              <a:t>Post terminación</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 </a:t>
            </a:r>
            <a:r>
              <a:rPr b="0" lang="es-ES_tradnl" sz="1300" spc="-1" strike="noStrike">
                <a:solidFill>
                  <a:srgbClr val="000000"/>
                </a:solidFill>
                <a:latin typeface="Book Antiqua"/>
              </a:rPr>
              <a:t>En esta etapa los ARN sufren diferentes grados de modificación antes de ser totalmente funcionales, este proceso se le ha llamado de maduración.</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Por ejemplo : Los ARN ribosomales son transcripto en forma de un precursor único de alto peso molecular, con sectores espaciadores, en los que a veces se incluye un ARN de transferencia. La maduración consiste en la hidrólisis del transcripto primario en puntos específicos que van reduciendo el tamaño de la molécula originando así cada tipo particular de ARN.</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Los ARN de transferencia también se obtiene a partir de un transcripto primario. Durante la maduración se produce la modificación de las bases nitrogenadas, que constituyen una característica estructural más sobresaliente de  los ARNt.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j-IMG_TRANSCRIPCION"/>
          <p:cNvPicPr/>
          <p:nvPr/>
        </p:nvPicPr>
        <p:blipFill>
          <a:blip r:embed="rId1"/>
          <a:stretch/>
        </p:blipFill>
        <p:spPr>
          <a:xfrm>
            <a:off x="1231920" y="0"/>
            <a:ext cx="4270320" cy="5292720"/>
          </a:xfrm>
          <a:prstGeom prst="rect">
            <a:avLst/>
          </a:prstGeom>
          <a:ln w="0">
            <a:noFill/>
          </a:ln>
        </p:spPr>
      </p:pic>
      <p:sp>
        <p:nvSpPr>
          <p:cNvPr id="69" name="Text Box 6"/>
          <p:cNvSpPr/>
          <p:nvPr/>
        </p:nvSpPr>
        <p:spPr>
          <a:xfrm>
            <a:off x="836640" y="7596360"/>
            <a:ext cx="5616720" cy="791280"/>
          </a:xfrm>
          <a:prstGeom prst="rect">
            <a:avLst/>
          </a:prstGeom>
          <a:noFill/>
          <a:ln w="0">
            <a:noFill/>
          </a:ln>
        </p:spPr>
        <p:style>
          <a:lnRef idx="0"/>
          <a:fillRef idx="0"/>
          <a:effectRef idx="0"/>
          <a:fontRef idx="minor"/>
        </p:style>
        <p:txBody>
          <a:bodyPr lIns="90000" rIns="90000" tIns="46800" bIns="46800" anchor="t">
            <a:spAutoFit/>
          </a:bodyPr>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Ver conferencia de Replicación y Transcripción en página Web y haga un resumen de los requerimientos de cada etapa.</a:t>
            </a: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Realizar cuadro comparativo de ambos procesos.</a:t>
            </a:r>
            <a:endParaRPr b="0" lang="en-US" sz="1300" spc="-1" strike="noStrike">
              <a:solidFill>
                <a:srgbClr val="000000"/>
              </a:solidFill>
              <a:latin typeface="Arial"/>
            </a:endParaRPr>
          </a:p>
        </p:txBody>
      </p:sp>
      <p:pic>
        <p:nvPicPr>
          <p:cNvPr id="70" name="Picture 7" descr="TUT15F1"/>
          <p:cNvPicPr/>
          <p:nvPr/>
        </p:nvPicPr>
        <p:blipFill>
          <a:blip r:embed="rId2"/>
          <a:stretch/>
        </p:blipFill>
        <p:spPr>
          <a:xfrm>
            <a:off x="1413000" y="4932360"/>
            <a:ext cx="3889080" cy="2482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7"/>
          <p:cNvSpPr/>
          <p:nvPr/>
        </p:nvSpPr>
        <p:spPr>
          <a:xfrm>
            <a:off x="549360" y="539640"/>
            <a:ext cx="5616360" cy="7332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Book Antiqua"/>
              </a:rPr>
              <a:t>TRADUCCIÓN</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Book Antiqua"/>
              </a:rPr>
              <a:t>¿</a:t>
            </a:r>
            <a:r>
              <a:rPr b="0" lang="es-ES" sz="1600" spc="-1" strike="noStrike">
                <a:solidFill>
                  <a:srgbClr val="000000"/>
                </a:solidFill>
                <a:latin typeface="Book Antiqua"/>
              </a:rPr>
              <a:t>Será posible que dos cadenas polipeptídicas que tengan la misma secuencia de aa sean codificadas por genes que tienen secuencias diferente de nucleótidos?</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rPr>
              <a:t>Destacar que ADN             ARNm es el mismo lenguaje de secuencias de nucleótidos.</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rPr>
              <a:t>De ARNm                    Cadena polipeptídica ……. es otro lenguaje de secuencias</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rPr>
              <a:t>El código genético permite la equivalencia entre la secuencia de bases (que representa a la secuencia de  nucleótidos) de los ácidos nucleicos y la secuencia de aa de las proteínas. Destacar que la equivalencia o codificación no puede ser 1 a 1 porque solo son 4 bases diferentes y los aa son 20.</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rPr>
              <a:t>Debe ser un código de  triplete de bases. Explicar 4</a:t>
            </a:r>
            <a:r>
              <a:rPr b="0" lang="es-ES" sz="1600" spc="-1" strike="noStrike" baseline="30000">
                <a:solidFill>
                  <a:srgbClr val="000000"/>
                </a:solidFill>
                <a:latin typeface="Book Antiqua"/>
              </a:rPr>
              <a:t>2</a:t>
            </a:r>
            <a:r>
              <a:rPr b="0" lang="es-ES" sz="1600" spc="-1" strike="noStrike">
                <a:solidFill>
                  <a:srgbClr val="000000"/>
                </a:solidFill>
                <a:latin typeface="Book Antiqua"/>
              </a:rPr>
              <a:t>=16 son insuficiente para 20 aa</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rPr>
              <a:t>4</a:t>
            </a:r>
            <a:r>
              <a:rPr b="0" lang="es-ES" sz="1600" spc="-1" strike="noStrike" baseline="30000">
                <a:solidFill>
                  <a:srgbClr val="000000"/>
                </a:solidFill>
                <a:latin typeface="Book Antiqua"/>
              </a:rPr>
              <a:t>3 </a:t>
            </a:r>
            <a:r>
              <a:rPr b="0" lang="es-ES" sz="1600" spc="-1" strike="noStrike">
                <a:solidFill>
                  <a:srgbClr val="000000"/>
                </a:solidFill>
                <a:latin typeface="Book Antiqua"/>
              </a:rPr>
              <a:t>= 64 codones diferentes.</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Book Antiqua"/>
              </a:rPr>
              <a:t>Características del código genético.</a:t>
            </a:r>
            <a:endParaRPr b="0" lang="en-US" sz="1600" spc="-1" strike="noStrike">
              <a:solidFill>
                <a:srgbClr val="000000"/>
              </a:solidFill>
              <a:latin typeface="Arial"/>
            </a:endParaRPr>
          </a:p>
          <a:p>
            <a:pPr algn="just">
              <a:lnSpc>
                <a:spcPct val="100000"/>
              </a:lnSpc>
              <a:spcBef>
                <a:spcPts val="10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rPr>
              <a:t>Está constituido por 64 codones diferentes.</a:t>
            </a:r>
            <a:endParaRPr b="0" lang="en-US" sz="1600" spc="-1" strike="noStrike">
              <a:solidFill>
                <a:srgbClr val="000000"/>
              </a:solidFill>
              <a:latin typeface="Arial"/>
            </a:endParaRPr>
          </a:p>
          <a:p>
            <a:pPr algn="just">
              <a:lnSpc>
                <a:spcPct val="100000"/>
              </a:lnSpc>
              <a:spcBef>
                <a:spcPts val="10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rPr>
              <a:t>El código es degenerado pero no imperfecto. Explicar.</a:t>
            </a:r>
            <a:endParaRPr b="0" lang="en-US" sz="1600" spc="-1" strike="noStrike">
              <a:solidFill>
                <a:srgbClr val="000000"/>
              </a:solidFill>
              <a:latin typeface="Arial"/>
            </a:endParaRPr>
          </a:p>
          <a:p>
            <a:pPr algn="just">
              <a:lnSpc>
                <a:spcPct val="100000"/>
              </a:lnSpc>
              <a:spcBef>
                <a:spcPts val="10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rPr>
              <a:t>El código es cuasi universal.</a:t>
            </a:r>
            <a:endParaRPr b="0" lang="en-US" sz="1600" spc="-1" strike="noStrike">
              <a:solidFill>
                <a:srgbClr val="000000"/>
              </a:solidFill>
              <a:latin typeface="Arial"/>
            </a:endParaRPr>
          </a:p>
          <a:p>
            <a:pPr algn="just">
              <a:lnSpc>
                <a:spcPct val="100000"/>
              </a:lnSpc>
              <a:spcBef>
                <a:spcPts val="10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rPr>
              <a:t>Existen codones que no codifican para ningún aa pero constituyen señales de terminación (UAG UGA y UAA ) y de iniciación (AUG)</a:t>
            </a:r>
            <a:endParaRPr b="0" lang="en-US" sz="1600" spc="-1" strike="noStrike">
              <a:solidFill>
                <a:srgbClr val="000000"/>
              </a:solidFill>
              <a:latin typeface="Arial"/>
            </a:endParaRPr>
          </a:p>
        </p:txBody>
      </p:sp>
      <p:sp>
        <p:nvSpPr>
          <p:cNvPr id="72" name="Line 8"/>
          <p:cNvSpPr/>
          <p:nvPr/>
        </p:nvSpPr>
        <p:spPr>
          <a:xfrm>
            <a:off x="2565360" y="1979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9"/>
          <p:cNvSpPr/>
          <p:nvPr/>
        </p:nvSpPr>
        <p:spPr>
          <a:xfrm>
            <a:off x="1844640" y="262728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a-Codigo"/>
          <p:cNvPicPr/>
          <p:nvPr/>
        </p:nvPicPr>
        <p:blipFill>
          <a:blip r:embed="rId1"/>
          <a:stretch/>
        </p:blipFill>
        <p:spPr>
          <a:xfrm>
            <a:off x="620640" y="826920"/>
            <a:ext cx="5688000" cy="4762800"/>
          </a:xfrm>
          <a:prstGeom prst="rect">
            <a:avLst/>
          </a:prstGeom>
          <a:ln w="0">
            <a:noFill/>
          </a:ln>
        </p:spPr>
      </p:pic>
      <p:sp>
        <p:nvSpPr>
          <p:cNvPr id="75" name="Text Box 5"/>
          <p:cNvSpPr/>
          <p:nvPr/>
        </p:nvSpPr>
        <p:spPr>
          <a:xfrm>
            <a:off x="476280" y="4859280"/>
            <a:ext cx="5689440" cy="256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Donde ocurre la biosíntesis de proteína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En los ribosoma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Estos son organitos citoplasmáticos, pueden estar libres o unidos a membranas formando parte del retículo endoplasmático rugos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Ribosoma libre: síntesis de proteínas solubles en el citoplasm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Ribosoma asociado a membrana: síntesis de proteínas de sistemas membranoso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                                       </a:t>
            </a:r>
            <a:r>
              <a:rPr b="1" lang="es-ES" sz="1400" spc="-1" strike="noStrike">
                <a:solidFill>
                  <a:srgbClr val="000000"/>
                </a:solidFill>
                <a:latin typeface="Book Antiqua"/>
              </a:rPr>
              <a:t>Eucariontes </a:t>
            </a:r>
            <a:r>
              <a:rPr b="0" lang="es-ES" sz="1400" spc="-1" strike="noStrike">
                <a:solidFill>
                  <a:srgbClr val="000000"/>
                </a:solidFill>
                <a:latin typeface="Book Antiqua"/>
              </a:rPr>
              <a:t>                              </a:t>
            </a:r>
            <a:r>
              <a:rPr b="1" lang="es-ES" sz="1400" spc="-1" strike="noStrike">
                <a:solidFill>
                  <a:srgbClr val="000000"/>
                </a:solidFill>
                <a:latin typeface="Book Antiqua"/>
              </a:rPr>
              <a:t>Procariontes</a:t>
            </a:r>
            <a:endParaRPr b="0" lang="en-US" sz="1400" spc="-1" strike="noStrike">
              <a:solidFill>
                <a:srgbClr val="000000"/>
              </a:solidFill>
              <a:latin typeface="Arial"/>
            </a:endParaRPr>
          </a:p>
        </p:txBody>
      </p:sp>
      <p:graphicFrame>
        <p:nvGraphicFramePr>
          <p:cNvPr id="76" name=""/>
          <p:cNvGraphicFramePr/>
          <p:nvPr/>
        </p:nvGraphicFramePr>
        <p:xfrm>
          <a:off x="2205000" y="7308720"/>
          <a:ext cx="3591000" cy="968400"/>
        </p:xfrm>
        <a:graphic>
          <a:graphicData uri="http://schemas.openxmlformats.org/drawingml/2006/table">
            <a:tbl>
              <a:tblPr/>
              <a:tblGrid>
                <a:gridCol w="1790640"/>
                <a:gridCol w="1800360"/>
              </a:tblGrid>
              <a:tr h="27468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0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50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036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0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0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336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80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70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7" name="Oval 21"/>
          <p:cNvSpPr/>
          <p:nvPr/>
        </p:nvSpPr>
        <p:spPr>
          <a:xfrm>
            <a:off x="1052640" y="7020000"/>
            <a:ext cx="790560" cy="71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22"/>
          <p:cNvSpPr/>
          <p:nvPr/>
        </p:nvSpPr>
        <p:spPr>
          <a:xfrm>
            <a:off x="907920" y="7740720"/>
            <a:ext cx="100836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 Box 23"/>
          <p:cNvSpPr/>
          <p:nvPr/>
        </p:nvSpPr>
        <p:spPr>
          <a:xfrm>
            <a:off x="1341360" y="716436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t>
            </a:r>
            <a:endParaRPr b="0" lang="en-US" sz="1800" spc="-1" strike="noStrike">
              <a:solidFill>
                <a:srgbClr val="000000"/>
              </a:solidFill>
              <a:latin typeface="Arial"/>
            </a:endParaRPr>
          </a:p>
        </p:txBody>
      </p:sp>
      <p:sp>
        <p:nvSpPr>
          <p:cNvPr id="80" name="Text Box 24"/>
          <p:cNvSpPr/>
          <p:nvPr/>
        </p:nvSpPr>
        <p:spPr>
          <a:xfrm>
            <a:off x="1341360" y="766764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37"/>
          <p:cNvSpPr/>
          <p:nvPr/>
        </p:nvSpPr>
        <p:spPr>
          <a:xfrm>
            <a:off x="1413000" y="291636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40"/>
          <p:cNvSpPr/>
          <p:nvPr/>
        </p:nvSpPr>
        <p:spPr>
          <a:xfrm>
            <a:off x="765000" y="900000"/>
            <a:ext cx="5473800" cy="76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5229"/>
                </a:solidFill>
                <a:latin typeface="Book Antiqua"/>
              </a:rPr>
              <a:t>BIOSÍNTESIS PROTEICA (TRADUCCIÓ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rPr>
              <a:t>La biosíntesis proteica está dirigida por el ADN intracelular y se lleva a cabo por los ribosomas, los cuales poseen una subunidad mayor (60 S) y una subunidad menor (40 S) (eucariontes); 30S y 50S (procarionte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rPr>
              <a:t>En la subunidad mayor pueden observarse los sitios A (aminoacilo), P (peptidilo) y E (sitio del ARNt descargad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rPr>
              <a:t>En la subunidad menor pueden observarse dos factores de iniciación (eIF1A, eIF3).</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Book Antiqua"/>
              </a:rPr>
              <a:t>Aspectos generale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rPr>
              <a:t>Se produce unidereccional del extremo N terminal al carboxilo terminal y la lectura del ARN se produce del extremo 5´ al 3´</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rPr>
              <a:t>Por lo que la secuencia de aa de la proteína y la secuencia de nucleótidos del ARNm son colineales.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rPr>
              <a:t>Los aa son incorporados uno a uno al proceso de la síntesis mediante la formación del enlace peptídico.</a:t>
            </a:r>
            <a:endParaRPr b="0" lang="en-US" sz="1600" spc="-1" strike="noStrike">
              <a:solidFill>
                <a:srgbClr val="000000"/>
              </a:solidFill>
              <a:latin typeface="Arial"/>
            </a:endParaRPr>
          </a:p>
        </p:txBody>
      </p:sp>
      <p:pic>
        <p:nvPicPr>
          <p:cNvPr id="83" name="Picture 41" descr="d-img_Ribosoma"/>
          <p:cNvPicPr/>
          <p:nvPr/>
        </p:nvPicPr>
        <p:blipFill>
          <a:blip r:embed="rId1">
            <a:alphaModFix amt="0"/>
          </a:blip>
          <a:stretch/>
        </p:blipFill>
        <p:spPr>
          <a:xfrm>
            <a:off x="1052640" y="3924360"/>
            <a:ext cx="4752720" cy="2465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
          <p:cNvPicPr/>
          <p:nvPr/>
        </p:nvPicPr>
        <p:blipFill>
          <a:blip r:embed="rId1"/>
          <a:stretch/>
        </p:blipFill>
        <p:spPr>
          <a:xfrm>
            <a:off x="765000" y="4427640"/>
            <a:ext cx="5328000" cy="4232160"/>
          </a:xfrm>
          <a:prstGeom prst="rect">
            <a:avLst/>
          </a:prstGeom>
          <a:ln w="0">
            <a:noFill/>
          </a:ln>
        </p:spPr>
      </p:pic>
      <p:sp>
        <p:nvSpPr>
          <p:cNvPr id="85" name="Text Box 6"/>
          <p:cNvSpPr/>
          <p:nvPr/>
        </p:nvSpPr>
        <p:spPr>
          <a:xfrm>
            <a:off x="692280" y="539640"/>
            <a:ext cx="5256000" cy="417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ETAPAS:                                                                                          </a:t>
            </a:r>
            <a:r>
              <a:rPr b="0" lang="es-ES" sz="1400" spc="-1" strike="noStrike">
                <a:solidFill>
                  <a:srgbClr val="000000"/>
                </a:solidFill>
                <a:latin typeface="Book Antiqua"/>
              </a:rPr>
              <a:t>Preiniciación o activación de los aa                                                Iniciación (Formación del complejo de iniciació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Elongación:                                                                                                                         Fijación del amonoacil-ARNt al sitio A                                                    Formación del enlace peptídico                                                                             Translocación.                                                                                               Terminación                                                                                                     Post-terminació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Preiniciació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Reacción glob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aa + ARNt + ATP                           aminoacil ARNt + AMP + 2Pi</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                                </a:t>
            </a:r>
            <a:r>
              <a:rPr b="1" lang="es-ES" sz="1400" spc="-1" strike="noStrike">
                <a:solidFill>
                  <a:srgbClr val="000000"/>
                </a:solidFill>
                <a:latin typeface="Book Antiqua"/>
              </a:rPr>
              <a:t>Aminoacil ARNt sintetasa</a:t>
            </a:r>
            <a:endParaRPr b="0" lang="en-US" sz="1400" spc="-1" strike="noStrike">
              <a:solidFill>
                <a:srgbClr val="000000"/>
              </a:solidFill>
              <a:latin typeface="Arial"/>
            </a:endParaRPr>
          </a:p>
        </p:txBody>
      </p:sp>
      <p:sp>
        <p:nvSpPr>
          <p:cNvPr id="86" name="Line 9"/>
          <p:cNvSpPr/>
          <p:nvPr/>
        </p:nvSpPr>
        <p:spPr>
          <a:xfrm>
            <a:off x="2492280" y="37083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
          <p:cNvPicPr/>
          <p:nvPr/>
        </p:nvPicPr>
        <p:blipFill>
          <a:blip r:embed="rId1"/>
          <a:stretch/>
        </p:blipFill>
        <p:spPr>
          <a:xfrm>
            <a:off x="476280" y="684360"/>
            <a:ext cx="6072120" cy="7056360"/>
          </a:xfrm>
          <a:prstGeom prst="rect">
            <a:avLst/>
          </a:prstGeom>
          <a:ln w="0">
            <a:noFill/>
          </a:ln>
        </p:spPr>
      </p:pic>
      <p:sp>
        <p:nvSpPr>
          <p:cNvPr id="88" name="Text Box 6"/>
          <p:cNvSpPr/>
          <p:nvPr/>
        </p:nvSpPr>
        <p:spPr>
          <a:xfrm>
            <a:off x="549360" y="324000"/>
            <a:ext cx="590400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INICIACIÖN: Consiste en la unión al ribosoma del ARNm y el 1er aminoacil ARN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 name="Text Box 11"/>
          <p:cNvSpPr/>
          <p:nvPr/>
        </p:nvSpPr>
        <p:spPr>
          <a:xfrm>
            <a:off x="765000" y="7236000"/>
            <a:ext cx="5543640" cy="12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INICIACIÓN: Se forma el complejo de iniciación, que consiste en la unión del ribosoma del RNAm y del 1er aminoacil – ARNt (formilmetioniltRNA)</a:t>
            </a:r>
            <a:r>
              <a:rPr b="0" lang="es-ES" sz="1400" spc="-1" strike="noStrike">
                <a:solidFill>
                  <a:srgbClr val="000000"/>
                </a:solidFill>
                <a:latin typeface="Book Antiqua"/>
              </a:rPr>
              <a:t> </a:t>
            </a:r>
            <a:r>
              <a:rPr b="1" lang="es-ES" sz="1400" spc="-1" strike="noStrike">
                <a:solidFill>
                  <a:srgbClr val="000000"/>
                </a:solidFill>
                <a:latin typeface="Book Antiqua"/>
              </a:rPr>
              <a:t>.</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Se requiere de varios factores de iniciación (proteínas), de GTP y del codón de iniciación AU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692280" y="539640"/>
            <a:ext cx="5832360" cy="181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Elongación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Alargamiento paso a paso de la cadena polipeptídica. También se requiere de proteínas no ribosomales (factor de elongació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Fijación del aaminoacil ARNt al sitio 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Formación del enlace peptídico por la peptidil transferas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Translocación del ribosoma</a:t>
            </a:r>
            <a:endParaRPr b="0" lang="en-US" sz="1400" spc="-1" strike="noStrike">
              <a:solidFill>
                <a:srgbClr val="000000"/>
              </a:solidFill>
              <a:latin typeface="Arial"/>
            </a:endParaRPr>
          </a:p>
        </p:txBody>
      </p:sp>
      <p:pic>
        <p:nvPicPr>
          <p:cNvPr id="91" name="Picture 7" descr="g-img%20sint%20prot%20elong"/>
          <p:cNvPicPr/>
          <p:nvPr/>
        </p:nvPicPr>
        <p:blipFill>
          <a:blip r:embed="rId1"/>
          <a:stretch/>
        </p:blipFill>
        <p:spPr>
          <a:xfrm>
            <a:off x="260280" y="2268360"/>
            <a:ext cx="6337440" cy="648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
          <p:cNvPicPr/>
          <p:nvPr/>
        </p:nvPicPr>
        <p:blipFill>
          <a:blip r:embed="rId1"/>
          <a:stretch/>
        </p:blipFill>
        <p:spPr>
          <a:xfrm>
            <a:off x="620640" y="1908000"/>
            <a:ext cx="5935680" cy="7236000"/>
          </a:xfrm>
          <a:prstGeom prst="rect">
            <a:avLst/>
          </a:prstGeom>
          <a:ln w="0">
            <a:noFill/>
          </a:ln>
        </p:spPr>
      </p:pic>
      <p:sp>
        <p:nvSpPr>
          <p:cNvPr id="93" name="Text Box 5"/>
          <p:cNvSpPr/>
          <p:nvPr/>
        </p:nvSpPr>
        <p:spPr>
          <a:xfrm>
            <a:off x="765000" y="539640"/>
            <a:ext cx="575964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TERMINACIÓN:La terminación de la síntesis ocurre cuando el sitio A del ribosoma contacta con un codón de terminación (UAA, UAG, UG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Tres factores de terminación hidrolizan el polipéptido desde el RNAt liberándolo y también catalizan la disociación de las sub unidades ribosomale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 name="Text Box 6"/>
          <p:cNvSpPr/>
          <p:nvPr/>
        </p:nvSpPr>
        <p:spPr>
          <a:xfrm>
            <a:off x="692280" y="7596360"/>
            <a:ext cx="23032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Book Antiqua"/>
              </a:rPr>
              <a:t>Se requiere proteínas no ribosomales llamadas factores de liberación  y GTP como fuente de energí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5"/>
          <p:cNvSpPr/>
          <p:nvPr/>
        </p:nvSpPr>
        <p:spPr>
          <a:xfrm>
            <a:off x="765000" y="3203640"/>
            <a:ext cx="5543640" cy="584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Postermina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El extremo N terminal pierde fragmento de aa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Modificación de algunas cadenas laterale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Formación de enlaces disulfuros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Las cadenas pueden ser cortadas en puntos específicos.                                 Formación de agregados supramoleculare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Ejemplo :Las proteínas de la pared  sufren varias modificaciones después de la síntesis de las cadenas peptídicas en los ribosomas. Entre otras: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La enzima prolina hidroxilasa convierte la pro en hidroxi pro.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La unión de cadenas laterales de mono y oligosacáridos a las moléculas de proteína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Hablar de polirribosoma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Inhibidores de la replicación, transcripción y traduc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Los que impiden la separación de las cadenas del ADN: Replicción y Transcripción . Ejemplo: Novobiocina y Actinomicina D</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Los que inhiben ARN polimerasa: Rifampicin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Inhibidores de la traducción: Tetraciclina y cloranfenicol 8Inhiben peptidil transferasa tanto en procariontes como eucarionte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Estreptomicina (impide entrada de fmet al sitio P)</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Eritromicina ( se une a la subunidad 50S libr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Novobiocina (Inhibe a ADN girasa) Inhibe Replicación, Transcripción y Traducción</a:t>
            </a:r>
            <a:endParaRPr b="0" lang="en-US" sz="1400" spc="-1" strike="noStrike">
              <a:solidFill>
                <a:srgbClr val="000000"/>
              </a:solidFill>
              <a:latin typeface="Arial"/>
            </a:endParaRPr>
          </a:p>
        </p:txBody>
      </p:sp>
      <p:graphicFrame>
        <p:nvGraphicFramePr>
          <p:cNvPr id="96" name="Object 6"/>
          <p:cNvGraphicFramePr/>
          <p:nvPr/>
        </p:nvGraphicFramePr>
        <p:xfrm>
          <a:off x="836640" y="539640"/>
          <a:ext cx="5543640" cy="2592360"/>
        </p:xfrm>
        <a:graphic>
          <a:graphicData uri="http://schemas.openxmlformats.org/presentationml/2006/ole">
            <p:oleObj r:id="rId1" spid="">
              <p:embed/>
              <p:pic>
                <p:nvPicPr>
                  <p:cNvPr id="97" name="Object 6" descr=""/>
                  <p:cNvPicPr/>
                  <p:nvPr/>
                </p:nvPicPr>
                <p:blipFill>
                  <a:blip r:embed="rId2"/>
                  <a:stretch/>
                </p:blipFill>
                <p:spPr>
                  <a:xfrm>
                    <a:off x="836640" y="539640"/>
                    <a:ext cx="5543640" cy="259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4"/>
          <p:cNvSpPr/>
          <p:nvPr/>
        </p:nvSpPr>
        <p:spPr>
          <a:xfrm>
            <a:off x="692280" y="539640"/>
            <a:ext cx="5689440" cy="860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Book Antiqua"/>
              </a:rPr>
              <a:t>INTRODUCCIÓN</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A nivel molecular se distinguen dos maneras de manifestarse la información:</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Información secuencial e información conformacional.</a:t>
            </a:r>
            <a:endParaRPr b="0" lang="en-US" sz="13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En la secuencial, la información se manifiesta en forma de código, o sea, una secuencia de signos sucesivos con una significación precisa. Mediante este tipo de información se produce la conservación y la transmisión y no puede expresarse mediante la realización directa de funciones. Su única función es conservar y transmitir la información que contiene.</a:t>
            </a:r>
            <a:endParaRPr b="0" lang="en-US" sz="13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La información conformacional viene dada por la disposición espacial de las macromoléculas formando estructuras tridimensionales que permiten el reconocimiento de moléculas de igual o diferente naturaleza las cuales inmovilizan formando complejas con funciones específica. </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En las moléculas funcionales se funden los dos tipos de información, la secuencial y la conformacional.</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a:t>
            </a:r>
            <a:r>
              <a:rPr b="0" lang="es-ES_tradnl" sz="1300" spc="-1" strike="noStrike">
                <a:solidFill>
                  <a:srgbClr val="000000"/>
                </a:solidFill>
                <a:latin typeface="Book Antiqua"/>
              </a:rPr>
              <a:t>La información molecular se transmite siempre desde una molécula con información secuencial hacia otra molécula con formación conformacional”.</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El ejemplo por excelencia de lo anteriormente planteado lo constituye la relación existente entre los ácidos nucléicos y las proteínas.</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Ver en la página Web en la conferencia de Replicación y Transcripción principales aportes científicos que permitieron postular el dogma central de la Genética.</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    </a:t>
            </a:r>
            <a:r>
              <a:rPr b="0" lang="es-ES_tradnl" sz="1300" spc="-1" strike="noStrike">
                <a:solidFill>
                  <a:srgbClr val="000000"/>
                </a:solidFill>
                <a:latin typeface="Book Antiqua"/>
              </a:rPr>
              <a:t>ADN                  ARN                       Proteína</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Encontrándose entre los principales los siguientes:</a:t>
            </a:r>
            <a:endParaRPr b="0" lang="en-US" sz="13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 </a:t>
            </a:r>
            <a:r>
              <a:rPr b="0" lang="es-ES" sz="1300" spc="-1" strike="noStrike">
                <a:solidFill>
                  <a:srgbClr val="000000"/>
                </a:solidFill>
                <a:latin typeface="Book Antiqua"/>
              </a:rPr>
              <a:t>Mendel, el padre de la genética fue uno de los primeros en observar la transmisión de la información genética (experimento de los guisantes)</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 </a:t>
            </a:r>
            <a:r>
              <a:rPr b="0" lang="es-ES" sz="1300" spc="-1" strike="noStrike">
                <a:solidFill>
                  <a:srgbClr val="000000"/>
                </a:solidFill>
                <a:latin typeface="Book Antiqua"/>
              </a:rPr>
              <a:t>En 1949, otro científico, Erwin Chargaff, trabajando en el Columbia College de New York tomó los resultados de Avery y analizó las proporciones de las cuatro bases del DNA y encontró una correspondencia entre el número de moléculas de las dos bases purinas las cuales eran igual a las cantidades de pirimidínicas. </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 </a:t>
            </a:r>
            <a:r>
              <a:rPr b="0" lang="es-ES" sz="1300" spc="-1" strike="noStrike">
                <a:solidFill>
                  <a:srgbClr val="000000"/>
                </a:solidFill>
                <a:latin typeface="Book Antiqua"/>
              </a:rPr>
              <a:t>Rosalind Franklyn llega al  King's College London el 5 de Enero de 1951 El carbón no origina más carbón, pero los genes si producen más genes. </a:t>
            </a:r>
            <a:endParaRPr b="0" lang="en-US" sz="1300" spc="-1" strike="noStrike">
              <a:solidFill>
                <a:srgbClr val="000000"/>
              </a:solidFill>
              <a:latin typeface="Arial"/>
            </a:endParaRPr>
          </a:p>
        </p:txBody>
      </p:sp>
      <p:sp>
        <p:nvSpPr>
          <p:cNvPr id="43" name="Line 5"/>
          <p:cNvSpPr/>
          <p:nvPr/>
        </p:nvSpPr>
        <p:spPr>
          <a:xfrm>
            <a:off x="1484280" y="565164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6"/>
          <p:cNvSpPr/>
          <p:nvPr/>
        </p:nvSpPr>
        <p:spPr>
          <a:xfrm>
            <a:off x="2637000" y="565164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765000" y="3924360"/>
            <a:ext cx="5616720" cy="499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5229"/>
                </a:solidFill>
                <a:latin typeface="Book Antiqua"/>
              </a:rPr>
              <a:t>MUTACIONES Y AGENTES MUTAGÉNICO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Las mutaciones son cambios químicos que ocurren en los genes. Cuando un gen sufre una mutación y se produce un cambio que afecta la secuencia de nucleótidos, se produce un cambio en la información y por tanto se producirá un cambio en la secuencia de aminoácidos de las proteínas que se sintetizan a partir de dicha informa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Una mutación puede provocar que no se sintetice una proteína o la síntesis de proteínas defectuosas, pero también puede provocar la síntesis de proteínas cualitativamente superiores desde un punto de vista biológico y en este caso sería una mutación beneficios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Los agentes físicos y químicos que producen mutaciones se denominan agentes mutagénicos o mutágenos. Entre ellos se encuentra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Físicos: rayos g, partículas b, radiaciones UV, radiaciones X, etc.</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Químicos: sales de metales pesados, agentes quelantes, etc.</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Destacar que el hombre puede utilizar estos conocimientos en beneficio de la humanidad de las plantas y de los animales o como un arma biológic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Poner ejemplo de la bomba atómica lanzada en las islas de Japón.</a:t>
            </a:r>
            <a:endParaRPr b="0" lang="en-US" sz="1400" spc="-1" strike="noStrike">
              <a:solidFill>
                <a:srgbClr val="000000"/>
              </a:solidFill>
              <a:latin typeface="Arial"/>
            </a:endParaRPr>
          </a:p>
        </p:txBody>
      </p:sp>
      <p:pic>
        <p:nvPicPr>
          <p:cNvPr id="99" name="Picture 5" descr=""/>
          <p:cNvPicPr/>
          <p:nvPr/>
        </p:nvPicPr>
        <p:blipFill>
          <a:blip r:embed="rId1"/>
          <a:stretch/>
        </p:blipFill>
        <p:spPr>
          <a:xfrm>
            <a:off x="620640" y="971640"/>
            <a:ext cx="5616720" cy="3241440"/>
          </a:xfrm>
          <a:prstGeom prst="rect">
            <a:avLst/>
          </a:prstGeom>
          <a:ln w="0">
            <a:noFill/>
          </a:ln>
        </p:spPr>
      </p:pic>
      <p:sp>
        <p:nvSpPr>
          <p:cNvPr id="100" name="Rectangle 6"/>
          <p:cNvSpPr/>
          <p:nvPr/>
        </p:nvSpPr>
        <p:spPr>
          <a:xfrm>
            <a:off x="1094400" y="525600"/>
            <a:ext cx="1006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Resum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4"/>
          <p:cNvSpPr/>
          <p:nvPr/>
        </p:nvSpPr>
        <p:spPr>
          <a:xfrm>
            <a:off x="549360" y="4356000"/>
            <a:ext cx="5759280" cy="450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Book Antiqua"/>
              </a:rPr>
              <a:t>TRABAJO INDEPENDIENTE</a:t>
            </a:r>
            <a:endParaRPr b="0" lang="en-US" sz="1300" spc="-1" strike="noStrike">
              <a:solidFill>
                <a:srgbClr val="000000"/>
              </a:solidFill>
              <a:latin typeface="Arial"/>
            </a:endParaRPr>
          </a:p>
          <a:p>
            <a:pPr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Profundizar en el estudio de las mutaciones. Resumir tipos de mutaciones, característica fundamental y consecuencia . Ver texto p 224 y Lehninger p71</a:t>
            </a:r>
            <a:endParaRPr b="0" lang="en-US" sz="1300" spc="-1" strike="noStrike">
              <a:solidFill>
                <a:srgbClr val="000000"/>
              </a:solidFill>
              <a:latin typeface="Arial"/>
            </a:endParaRPr>
          </a:p>
          <a:p>
            <a:pPr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Ver resumen p227 del texto</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Book Antiqua"/>
              </a:rPr>
              <a:t>CUESTIONARIO</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Haga un cuadro comparativo de las diferencias y semejanzas en cuanto a la composición química del DNA y del RNA.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Plantee de forma gráfica y explique como fluye la información genética.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En que aspecto de la composición química de los ácidos nucleicos radica su carácter informacional.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Cite los tipos de RNA y señale su función en la síntesis de las proteínas.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Represente la ecuación general que muestra la biosíntesis enzimática del DNA y del RNA. Destaque los enzimas que actúan en cada caso.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Describa las etapas de la replicación del ADN.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Describa las etapas de la transcripción.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Que diferencias existen entre la replicación y la transcripción.                   </a:t>
            </a:r>
            <a:r>
              <a:rPr b="0" lang="es-ES" sz="1400" spc="-1" strike="noStrike">
                <a:solidFill>
                  <a:srgbClr val="000000"/>
                </a:solidFill>
                <a:latin typeface="Book Antiqua"/>
              </a:rPr>
              <a:t>Revisar Bibliografía orientada y realizar un resumen de las características y requerimientos de las diferentes etapas de la traducción.</a:t>
            </a:r>
            <a:endParaRPr b="0" lang="en-US" sz="1400" spc="-1" strike="noStrike">
              <a:solidFill>
                <a:srgbClr val="000000"/>
              </a:solidFill>
              <a:latin typeface="Arial"/>
            </a:endParaRPr>
          </a:p>
        </p:txBody>
      </p:sp>
      <p:sp>
        <p:nvSpPr>
          <p:cNvPr id="102" name="Rectangle 6"/>
          <p:cNvSpPr/>
          <p:nvPr/>
        </p:nvSpPr>
        <p:spPr>
          <a:xfrm>
            <a:off x="952200" y="684360"/>
            <a:ext cx="1582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CONCLUSIONES</a:t>
            </a:r>
            <a:endParaRPr b="0" lang="en-US" sz="1400" spc="-1" strike="noStrike">
              <a:solidFill>
                <a:srgbClr val="000000"/>
              </a:solidFill>
              <a:latin typeface="Arial"/>
            </a:endParaRPr>
          </a:p>
        </p:txBody>
      </p:sp>
      <p:pic>
        <p:nvPicPr>
          <p:cNvPr id="103" name="Picture 7" descr="c-IMG_3528a"/>
          <p:cNvPicPr/>
          <p:nvPr/>
        </p:nvPicPr>
        <p:blipFill>
          <a:blip r:embed="rId1"/>
          <a:stretch/>
        </p:blipFill>
        <p:spPr>
          <a:xfrm>
            <a:off x="476280" y="1042920"/>
            <a:ext cx="5905440" cy="3338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765000" y="544680"/>
            <a:ext cx="5616720" cy="350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Cuestionario sobre traduc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Qué es el código genético? ¿Por qué no es posible que el código tenga efecto para dupletes de bases nitrogenadas?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Cite las etapas en que transcurre la biosíntesis de las proteínas y describa cada una de ellas.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Haga una breve reseña sobre las características que permiten inferir qué el DNA es el portador de la información genética en los organismos biológicos.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Justifique la no utilización de energía química en la formación del enlace peptídico. ¿En qué fase del proceso se consume energía química?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Por qué afirmamos que la síntesis proteica es un proceso irreversible?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Haga un análisis energético del proceso de biosíntesis proteica destacando el consumo de energía en cada fas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4"/>
          <p:cNvSpPr/>
          <p:nvPr/>
        </p:nvSpPr>
        <p:spPr>
          <a:xfrm>
            <a:off x="765000" y="755640"/>
            <a:ext cx="5616720" cy="91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En 1953 James Watson y Francis Crick publican en la revista Nature su artículo “Molecular Structure of Nucleic Acids”. Es el resultado del trabajo de varios renombrados científicos como Rosalind Franklyn</a:t>
            </a:r>
            <a:r>
              <a:rPr b="0" lang="es-ES" sz="1300" spc="-1" strike="noStrike">
                <a:solidFill>
                  <a:srgbClr val="000000"/>
                </a:solidFill>
                <a:latin typeface="Arial"/>
              </a:rPr>
              <a:t> </a:t>
            </a:r>
            <a:r>
              <a:rPr b="0" lang="es-ES" sz="1300" spc="-1" strike="noStrike">
                <a:solidFill>
                  <a:srgbClr val="000000"/>
                </a:solidFill>
                <a:latin typeface="Book Antiqua"/>
              </a:rPr>
              <a:t>y Maurice Wilkins.</a:t>
            </a:r>
            <a:r>
              <a:rPr b="0" lang="es-ES" sz="1300" spc="-1" strike="noStrike" u="sng">
                <a:solidFill>
                  <a:srgbClr val="009999"/>
                </a:solidFill>
                <a:uFillTx/>
                <a:latin typeface="Book Antiqua"/>
                <a:hlinkClick r:id="rId1"/>
              </a:rPr>
              <a:t> </a:t>
            </a:r>
            <a:endParaRPr b="0" lang="en-US" sz="1300" spc="-1" strike="noStrike">
              <a:solidFill>
                <a:srgbClr val="000000"/>
              </a:solidFill>
              <a:latin typeface="Arial"/>
            </a:endParaRPr>
          </a:p>
        </p:txBody>
      </p:sp>
      <p:pic>
        <p:nvPicPr>
          <p:cNvPr id="46" name="Picture 5" descr="b-IMG_5135a"/>
          <p:cNvPicPr/>
          <p:nvPr/>
        </p:nvPicPr>
        <p:blipFill>
          <a:blip r:embed="rId2"/>
          <a:stretch/>
        </p:blipFill>
        <p:spPr>
          <a:xfrm>
            <a:off x="549360" y="1619280"/>
            <a:ext cx="5904000" cy="5767200"/>
          </a:xfrm>
          <a:prstGeom prst="rect">
            <a:avLst/>
          </a:prstGeom>
          <a:ln w="0">
            <a:noFill/>
          </a:ln>
        </p:spPr>
      </p:pic>
      <p:sp>
        <p:nvSpPr>
          <p:cNvPr id="47" name="Text Box 6"/>
          <p:cNvSpPr/>
          <p:nvPr/>
        </p:nvSpPr>
        <p:spPr>
          <a:xfrm>
            <a:off x="907920" y="1619280"/>
            <a:ext cx="545472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Recordar  composición química de ADN y ARN.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Qué diferencia fundamental existe entre el ADN y el ARN?</a:t>
            </a:r>
            <a:endParaRPr b="0" lang="en-US" sz="1400" spc="-1" strike="noStrike">
              <a:solidFill>
                <a:srgbClr val="000000"/>
              </a:solidFill>
              <a:latin typeface="Arial"/>
            </a:endParaRPr>
          </a:p>
        </p:txBody>
      </p:sp>
      <p:sp>
        <p:nvSpPr>
          <p:cNvPr id="48" name="Text Box 7"/>
          <p:cNvSpPr/>
          <p:nvPr/>
        </p:nvSpPr>
        <p:spPr>
          <a:xfrm>
            <a:off x="692280" y="7596360"/>
            <a:ext cx="5688000" cy="118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Book Antiqua"/>
              </a:rPr>
              <a:t>ADN: Polímero de desoxirribonucleótido mono fosfatados unidos por enlace  3 `    5` fosfodiester (dos cadena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Book Antiqua"/>
              </a:rPr>
              <a:t>ARN: Polímero de ribonucleótido mono fosfatados unidos por enlace     3 `    5` fosfodiester (</a:t>
            </a:r>
            <a:r>
              <a:rPr b="1" lang="es-ES_tradnl" sz="1300" spc="-1" strike="noStrike">
                <a:solidFill>
                  <a:srgbClr val="000000"/>
                </a:solidFill>
                <a:latin typeface="Book Antiqua"/>
              </a:rPr>
              <a:t>Funciones del ADN y el ARN.</a:t>
            </a:r>
            <a:endParaRPr b="0" lang="en-US" sz="13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9" name="Line 8"/>
          <p:cNvSpPr/>
          <p:nvPr/>
        </p:nvSpPr>
        <p:spPr>
          <a:xfrm>
            <a:off x="1484280" y="79567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Line 9"/>
          <p:cNvSpPr/>
          <p:nvPr/>
        </p:nvSpPr>
        <p:spPr>
          <a:xfrm>
            <a:off x="907920" y="8317080"/>
            <a:ext cx="21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6" descr="e-IMG_3531a"/>
          <p:cNvPicPr/>
          <p:nvPr/>
        </p:nvPicPr>
        <p:blipFill>
          <a:blip r:embed="rId1"/>
          <a:stretch/>
        </p:blipFill>
        <p:spPr>
          <a:xfrm>
            <a:off x="981000" y="468360"/>
            <a:ext cx="5176800" cy="6767640"/>
          </a:xfrm>
          <a:prstGeom prst="rect">
            <a:avLst/>
          </a:prstGeom>
          <a:ln w="0">
            <a:noFill/>
          </a:ln>
        </p:spPr>
      </p:pic>
      <p:sp>
        <p:nvSpPr>
          <p:cNvPr id="52" name="Text Box 7"/>
          <p:cNvSpPr/>
          <p:nvPr/>
        </p:nvSpPr>
        <p:spPr>
          <a:xfrm>
            <a:off x="2708280" y="6659640"/>
            <a:ext cx="374508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Estructura del ADN</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Text Box 8"/>
          <p:cNvSpPr/>
          <p:nvPr/>
        </p:nvSpPr>
        <p:spPr>
          <a:xfrm>
            <a:off x="981000" y="7236000"/>
            <a:ext cx="5112000" cy="844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Book Antiqua"/>
              </a:rPr>
              <a:t>¿Qué función o importancia biológica tienen estas biomolécula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836640" y="635040"/>
            <a:ext cx="5400720" cy="6031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Book Antiqua"/>
              </a:rPr>
              <a:t>Funciones del ADN y el AR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Book Antiqua"/>
              </a:rPr>
              <a:t>AD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Mediante el proceso de replicación del ADN se produce la transferencia de información genética de los padres a los hijo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En la molécula de ADN se conserva la información genética. Toda la información genética contenida en el ADN reside en su secuencia de bas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Book Antiqua"/>
              </a:rPr>
              <a:t>AR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El ARN actúa como intermediario en la transmisión de la información desde el ADN hasta las proteína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la Información genética en la célula se transmite según la siguiente secuenci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  </a:t>
            </a:r>
            <a:r>
              <a:rPr b="0" lang="es-ES_tradnl" sz="1300" spc="-1" strike="noStrike">
                <a:solidFill>
                  <a:srgbClr val="000000"/>
                </a:solidFill>
                <a:latin typeface="Book Antiqua"/>
              </a:rPr>
              <a:t>ADN                     ARN                        Proteína</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La información se transcribe del ADN al ARN y luego se traduce en la síntesis de las proteína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La información genética se transmite de los progenitores a la progenie mediante el proceso de replicación del AD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En algunos virus el material genético fundamental es el ARN el cual al introducirse en las células es transcripto al ADN por la acción de enzimas denominadas transcriptasas inversa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Text Box 6"/>
          <p:cNvSpPr/>
          <p:nvPr/>
        </p:nvSpPr>
        <p:spPr>
          <a:xfrm>
            <a:off x="836640" y="6227640"/>
            <a:ext cx="5473800" cy="2355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Motivación </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Hablar de los injertos. </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Explicar que para ello se toma la yema que contiene células somáticas que se le incorpora a un patrón genético.</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Cómo explica ud que al desarrollarse la planta presenta las características de la que se tomó la yema?</a:t>
            </a:r>
            <a:endParaRPr b="0" lang="en-US" sz="1400" spc="-1" strike="noStrike">
              <a:solidFill>
                <a:srgbClr val="000000"/>
              </a:solidFill>
              <a:latin typeface="Arial"/>
            </a:endParaRPr>
          </a:p>
          <a:p>
            <a:pPr algn="just">
              <a:lnSpc>
                <a:spcPct val="100000"/>
              </a:lnSpc>
              <a:spcBef>
                <a:spcPts val="876"/>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Presentar temática y declarar objetivos</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Line 7"/>
          <p:cNvSpPr/>
          <p:nvPr/>
        </p:nvSpPr>
        <p:spPr>
          <a:xfrm>
            <a:off x="2708280" y="399564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8"/>
          <p:cNvSpPr/>
          <p:nvPr/>
        </p:nvSpPr>
        <p:spPr>
          <a:xfrm>
            <a:off x="1484280" y="399564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6"/>
          <p:cNvSpPr/>
          <p:nvPr/>
        </p:nvSpPr>
        <p:spPr>
          <a:xfrm>
            <a:off x="765000" y="611280"/>
            <a:ext cx="5543640" cy="8405640"/>
          </a:xfrm>
          <a:prstGeom prst="rect">
            <a:avLst/>
          </a:prstGeom>
          <a:noFill/>
          <a:ln w="0">
            <a:noFill/>
          </a:ln>
        </p:spPr>
        <p:style>
          <a:lnRef idx="0"/>
          <a:fillRef idx="0"/>
          <a:effectRef idx="0"/>
          <a:fontRef idx="minor"/>
        </p:style>
        <p:txBody>
          <a:bodyPr lIns="0" rIns="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Book Antiqua"/>
              </a:rPr>
              <a:t>Replicación del AD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La replicación de los ADN de doble cadena es un proceso complejo que no esta completamente esclarecido. La complejidad aumenta al no existir un mecanismo único de replicación para todos los organismo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Por tanto estudiaremos cada etapa según los conocimientos mucho de los cuales están referido a la bacteria </a:t>
            </a:r>
            <a:r>
              <a:rPr b="0" i="1" lang="es-ES_tradnl" sz="1400" spc="-1" strike="noStrike">
                <a:solidFill>
                  <a:srgbClr val="000000"/>
                </a:solidFill>
                <a:latin typeface="Book Antiqua"/>
              </a:rPr>
              <a:t>E. coli</a:t>
            </a:r>
            <a:r>
              <a:rPr b="0" lang="es-ES_tradnl" sz="1400" spc="-1" strike="noStrike">
                <a:solidFill>
                  <a:srgbClr val="000000"/>
                </a:solidFill>
                <a:latin typeface="Book Antiqua"/>
              </a:rPr>
              <a:t> por ser las mejores conocida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Cada cadena de ADN en la doble hélice actúa como un patrón (molde) sobre  el cual nuevas cadenas complementarias son sintetizada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La  replicación  del  ADN  da  lugar  a  dos  moléculas "hijas  idénticas"  a  la  molécula progenitora del ADN pero cada una de ellas contiene  una cadena  intacta de su molécula progenitora y una nuevamente sintetizad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Book Antiqua"/>
              </a:rPr>
              <a:t>Aspectos generales</a:t>
            </a:r>
            <a:r>
              <a:rPr b="0" lang="es-ES_tradnl" sz="1400" spc="-1" strike="noStrike">
                <a:solidFill>
                  <a:srgbClr val="000000"/>
                </a:solidFill>
                <a:latin typeface="Book Antiqua"/>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La información genética reside en la secuencia de base, por tanto, el papel primordial de la replicación es duplicar la secuencia de bases de la molécula patern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La especialidad en el apareamiento de base A-T y G-C provee el mecanismo usado en los sistemas replicativo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La secuencia de base en la cadena “hija” es complementaria a la secuencia de base de la cadena “patern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La reacción básica de polimerización consiste en la adición de un desoxirribonucleótido trifosfatado al extremo 3`-OH del nucleótido precedente con la liberación de pirofosfato, lo cual conduce a la formación del enlace fosfodiester  ( la cadena crece en sentido 5`- 3`)</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El proceso tiene carácter semiconservativo y antiparalelo.</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Este proceso se denomina replicación semiconservativ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Book Antiqua"/>
              </a:rPr>
              <a:t>Etapas de replicació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El ADN presente en los cromosomas de los organismos vivos debe ser duplicado para que cada núcleo descendiente reciba la información genética completa. Este proceso recibe el nombre de replica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4"/>
          <p:cNvSpPr/>
          <p:nvPr/>
        </p:nvSpPr>
        <p:spPr>
          <a:xfrm>
            <a:off x="431640" y="347760"/>
            <a:ext cx="6426360" cy="39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5"/>
          <p:cNvSpPr/>
          <p:nvPr/>
        </p:nvSpPr>
        <p:spPr>
          <a:xfrm>
            <a:off x="836640" y="684360"/>
            <a:ext cx="5616720" cy="91936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Las fases se distinguen por las reacciones que tienen lugar y por las enzimas que se requiere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Las etapas de la replicación del ADN so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Pre-inicia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Iniciación.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Elonga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Termina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Pre - inicia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Formar topoisómero negativo: Acción de la ADN Giras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Formación  de  la  horquilla   estabilizadora. Acción de las  Helicasas  y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de las proteínas estabilizadoras (SSB).</a:t>
            </a:r>
            <a:endParaRPr b="0" lang="en-US" sz="14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La inicia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Comprende  el  ensamblaje  del complejo  iniciador, el  reconocimiento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de  la  señal  de  iniciación  y  la  formación  del  ARN  iniciador (ARN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Polimerasa) al cual la poli III une el primer desoxirribonucleótido.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La elonga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Durante  la    elongación   las  dos  cadenas   son   alargadas  de  forma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diferente. Para la fibra conductora solo se  requiere  la  participación d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 </a:t>
            </a:r>
            <a:r>
              <a:rPr b="0" lang="es-ES" sz="1400" spc="-1" strike="noStrike">
                <a:solidFill>
                  <a:srgbClr val="000000"/>
                </a:solidFill>
                <a:latin typeface="Book Antiqua"/>
              </a:rPr>
              <a:t>la Poli III. La otra fibra se alarga discontinuamente (fibra conducid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 </a:t>
            </a:r>
            <a:r>
              <a:rPr b="0" lang="es-ES" sz="1400" spc="-1" strike="noStrike">
                <a:solidFill>
                  <a:srgbClr val="000000"/>
                </a:solidFill>
                <a:latin typeface="Book Antiqua"/>
              </a:rPr>
              <a:t>y  requiere  la  participación  de  la  Poli III, la I  y  la  ADN  ligasa. Se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requiere de energí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Book Antiqua"/>
              </a:rPr>
              <a:t>Terminació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La terminación culmina en el proceso de replicación dando como resultado la separación de las dos moléculas hijas. Cada una de ellas contiene una cadena de ADN paterno y una de nueva formació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Book Antiqua"/>
              </a:rPr>
              <a:t>Post termina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En esta etapa ocurre algunas modificaciones del ADN. Se metilan una serie de bases específicas del ADN de E. Coli. Esta modificación protege segmentos específicos del AD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AutoShape 5"/>
          <p:cNvSpPr/>
          <p:nvPr/>
        </p:nvSpPr>
        <p:spPr>
          <a:xfrm>
            <a:off x="3314880" y="4368960"/>
            <a:ext cx="228600" cy="406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6"/>
          <p:cNvSpPr/>
          <p:nvPr/>
        </p:nvSpPr>
        <p:spPr>
          <a:xfrm>
            <a:off x="549360" y="6659640"/>
            <a:ext cx="5761080" cy="189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Ver animado del proceso en la conferencia de Replicación y transcripción en la página Web y hacer resumen de los requerimientos de cada etapa.</a:t>
            </a:r>
            <a:endParaRPr b="0" lang="en-US" sz="1300" spc="-1" strike="noStrike">
              <a:solidFill>
                <a:srgbClr val="000000"/>
              </a:solidFill>
              <a:latin typeface="Arial"/>
            </a:endParaRPr>
          </a:p>
          <a:p>
            <a:pPr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será importante que este proceso ocurra con una alta fidelidad?</a:t>
            </a:r>
            <a:endParaRPr b="0" lang="en-US" sz="1300" spc="-1" strike="noStrike">
              <a:solidFill>
                <a:srgbClr val="000000"/>
              </a:solidFill>
              <a:latin typeface="Arial"/>
            </a:endParaRPr>
          </a:p>
          <a:p>
            <a:pPr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Qué hace posible que esto ocurra ?</a:t>
            </a:r>
            <a:endParaRPr b="0" lang="en-US" sz="1300" spc="-1" strike="noStrike">
              <a:solidFill>
                <a:srgbClr val="000000"/>
              </a:solidFill>
              <a:latin typeface="Arial"/>
            </a:endParaRPr>
          </a:p>
          <a:p>
            <a:pPr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Cuántas veces en la vida de una célula ocurre?</a:t>
            </a:r>
            <a:endParaRPr b="0" lang="en-US" sz="1300" spc="-1" strike="noStrike">
              <a:solidFill>
                <a:srgbClr val="000000"/>
              </a:solidFill>
              <a:latin typeface="Arial"/>
            </a:endParaRPr>
          </a:p>
          <a:p>
            <a:pPr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Hablar proceso de recombinación de ADN. Retomar motivación.</a:t>
            </a:r>
            <a:endParaRPr b="0" lang="en-US" sz="1300" spc="-1" strike="noStrike">
              <a:solidFill>
                <a:srgbClr val="000000"/>
              </a:solidFill>
              <a:latin typeface="Arial"/>
            </a:endParaRPr>
          </a:p>
        </p:txBody>
      </p:sp>
      <p:sp>
        <p:nvSpPr>
          <p:cNvPr id="63" name="Text Box 12"/>
          <p:cNvSpPr/>
          <p:nvPr/>
        </p:nvSpPr>
        <p:spPr>
          <a:xfrm>
            <a:off x="692280" y="826920"/>
            <a:ext cx="5759280" cy="304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4" name="Object 13"/>
          <p:cNvGraphicFramePr/>
          <p:nvPr/>
        </p:nvGraphicFramePr>
        <p:xfrm>
          <a:off x="857160" y="971640"/>
          <a:ext cx="5465880" cy="5761080"/>
        </p:xfrm>
        <a:graphic>
          <a:graphicData uri="http://schemas.openxmlformats.org/presentationml/2006/ole">
            <p:oleObj r:id="rId1" spid="">
              <p:embed/>
              <p:pic>
                <p:nvPicPr>
                  <p:cNvPr id="65" name="Object 13" descr=""/>
                  <p:cNvPicPr/>
                  <p:nvPr/>
                </p:nvPicPr>
                <p:blipFill>
                  <a:blip r:embed="rId2"/>
                  <a:stretch/>
                </p:blipFill>
                <p:spPr>
                  <a:xfrm>
                    <a:off x="857160" y="971640"/>
                    <a:ext cx="5465880" cy="576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4"/>
          <p:cNvSpPr/>
          <p:nvPr/>
        </p:nvSpPr>
        <p:spPr>
          <a:xfrm>
            <a:off x="765000" y="539640"/>
            <a:ext cx="5616720" cy="776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Book Antiqua"/>
              </a:rPr>
              <a:t>TRANSCRIP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Formación de moléculas de ARN a partir de la información contenida permanentemente en el ADN. En este proceso, un sistema enzimático convierte la información genética de un segmento de ADN en una cadena de ARN, con una secuencia de bases complementaria a una de las cadenas de AD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El inicio de la síntesis tiene lugar en secuencias específicas llamadas promotores que dirigen la transcripción de segmentos adyacentes de ADN (gene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Mediante este mecanismo de información contenida en el ADN se transcribe al ARN. La información transcrita al ARN mensajero es posteriormente traducida en la síntesis protéic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La secuencia denucleótidos del ARNm determina la secuencia de aminoácidos de la proteín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Book Antiqua"/>
              </a:rPr>
              <a:t>Aspectos Generale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El proceso es catalizado por las ARN polimerasa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La secuencia de bases del ARN es complementaria a la cadena de ADN que se está copiando.</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La cadena de ARN crece en sentido 5</a:t>
            </a:r>
            <a:r>
              <a:rPr b="0" lang="es-ES_tradnl" sz="1400" spc="-1" strike="noStrike">
                <a:solidFill>
                  <a:srgbClr val="000000"/>
                </a:solidFill>
                <a:latin typeface="Symbol"/>
                <a:ea typeface="Symbol"/>
              </a:rPr>
              <a:t></a:t>
            </a:r>
            <a:r>
              <a:rPr b="0" lang="es-ES_tradnl" sz="1400" spc="-1" strike="noStrike">
                <a:solidFill>
                  <a:srgbClr val="000000"/>
                </a:solidFill>
                <a:latin typeface="Book Antiqua"/>
              </a:rPr>
              <a:t>a 3</a:t>
            </a:r>
            <a:r>
              <a:rPr b="0" lang="es-ES_tradnl" sz="1400" spc="-1" strike="noStrike">
                <a:solidFill>
                  <a:srgbClr val="000000"/>
                </a:solidFill>
                <a:latin typeface="Symbol"/>
                <a:ea typeface="Symbol"/>
              </a:rPr>
              <a:t></a:t>
            </a:r>
            <a:r>
              <a:rPr b="0" lang="es-ES_tradnl" sz="1400" spc="-1" strike="noStrike">
                <a:solidFill>
                  <a:srgbClr val="000000"/>
                </a:solidFill>
                <a:latin typeface="Book Antiqua"/>
              </a:rPr>
              <a:t>, pero la lectura del ADN se hace en dirección 3</a:t>
            </a:r>
            <a:r>
              <a:rPr b="0" lang="es-ES_tradnl" sz="1400" spc="-1" strike="noStrike">
                <a:solidFill>
                  <a:srgbClr val="000000"/>
                </a:solidFill>
                <a:latin typeface="Symbol"/>
                <a:ea typeface="Symbol"/>
              </a:rPr>
              <a:t></a:t>
            </a:r>
            <a:r>
              <a:rPr b="0" lang="es-ES_tradnl" sz="1400" spc="-1" strike="noStrike">
                <a:solidFill>
                  <a:srgbClr val="000000"/>
                </a:solidFill>
                <a:latin typeface="Book Antiqua"/>
              </a:rPr>
              <a:t> a 5</a:t>
            </a:r>
            <a:r>
              <a:rPr b="0" lang="es-ES_tradnl" sz="1400" spc="-1" strike="noStrike">
                <a:solidFill>
                  <a:srgbClr val="000000"/>
                </a:solidFill>
                <a:latin typeface="Symbol"/>
                <a:ea typeface="Symbol"/>
              </a:rPr>
              <a:t></a:t>
            </a:r>
            <a:r>
              <a:rPr b="0" lang="es-ES_tradnl" sz="1400" spc="-1" strike="noStrike">
                <a:solidFill>
                  <a:srgbClr val="000000"/>
                </a:solidFill>
                <a:latin typeface="Book Antiqua"/>
              </a:rPr>
              <a:t>, luego la síntesis es antiparalel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El proceso ocurre por el mecanismo básico de polimerización asociado a la hidrólisis del pirofosfato.</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La ARN polimerasa es capaz de iniciar por si misma la síntesis, por lo que no se requiere de un ARN iniciador.</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Etapas de la Transcrip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Eventos pre - inicia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Los eventos de preiniciación comprenden el reconocimiento de señales específicas por la ARN polimerasa y la formación de un promotor abierto ( generalmente  alrededor de la porción - 35 y entre -4 y - 13. La región del promotor contiene la información que dice a la RNA pol donde unirse, cuan fuerte unirse y cuan frecuente iniciar una cadena de RNA. También contiene sitio de unión a proteínas regulador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malia</dc:creator>
  <dc:description/>
  <dc:language>en-US</dc:language>
  <cp:lastModifiedBy>Yady</cp:lastModifiedBy>
  <dcterms:modified xsi:type="dcterms:W3CDTF">2014-04-07T16:05:41Z</dcterms:modified>
  <cp:revision>58</cp:revision>
  <dc:subject/>
  <dc:title>PowerPoint Presentation</dc:title>
</cp:coreProperties>
</file>