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D6D-F3E3-465C-B93E-A8B51F00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DE1-8857-4E89-A5B8-F0FC21B1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0AE-0FE9-41F3-B639-93052E33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F11-4FAC-4B1A-90EA-C118494C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CEC8-7A83-4468-9558-05B7195B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146E-B964-488D-BE75-4C6F113B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0EB7-5661-41C2-AA6E-9F5F3EDF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4067-CFD7-42B8-8C04-1B2B3F94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95BF-620B-4ECE-A6E1-3F32AAE7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E4A3-BD1C-49A6-AF80-23324B06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FF53-D9D6-4C20-8A7F-11F6F8CD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F8C-F7C6-4423-8EEF-6BC8F485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DC03-D8F6-46D4-8F18-8139ECCC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4EFA-3DC2-408C-9B8A-4B200840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C5DA-5B68-43AC-87B3-E7D838E5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0CC1-E437-4BE6-BCBD-DA4382DB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A7C8-5D1D-4F49-BBB5-9C9D082F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7A1-9603-4287-9ED4-88024683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A50-060E-45B2-9FB3-7ACBC7F2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247-CF92-4460-92FF-2425DB9C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BC7-9748-41C9-BB1D-5CC1318E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FAC-0243-4DC6-ACB1-F55275DA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E31-56E5-447B-90B9-98A9366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070-8A8E-4A03-9437-1971DAC8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AB5F-C9CA-4C65-8D1C-4D0328426DEE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Ing. Armandina Leal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ABD8-E63C-4377-9C7F-6C74D3E59C46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corridos en Árboles Bi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682720" y="3276720"/>
            <a:ext cx="276480" cy="28872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38320" y="2521080"/>
            <a:ext cx="444600" cy="4442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38400" y="3054240"/>
            <a:ext cx="444240" cy="444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13040" y="2901960"/>
            <a:ext cx="444600" cy="444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5160" y="3646440"/>
            <a:ext cx="444600" cy="444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60520" y="3544920"/>
            <a:ext cx="444600" cy="444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09920" y="3486240"/>
            <a:ext cx="444600" cy="4442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23920" y="4253040"/>
            <a:ext cx="444600" cy="4442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41480" y="4218120"/>
            <a:ext cx="444600" cy="4442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63840" y="2768760"/>
            <a:ext cx="384120" cy="22212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623600" y="2832120"/>
            <a:ext cx="446040" cy="28908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993600" y="3378240"/>
            <a:ext cx="262080" cy="29988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87800" y="3276720"/>
            <a:ext cx="301680" cy="28872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3600" y="4059360"/>
            <a:ext cx="225720" cy="23796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92320" y="25239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3880" y="3057480"/>
            <a:ext cx="4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@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7040" y="28796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4160" y="3522600"/>
            <a:ext cx="33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51320" y="3527280"/>
            <a:ext cx="3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7320" y="36752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6080" y="43070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6240" y="42591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5373720"/>
            <a:ext cx="388764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$, 2, @, 5, A, %, 8, 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07880" y="4979880"/>
            <a:ext cx="278532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ost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1880" y="4373640"/>
            <a:ext cx="388800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2, $, @, #, 5, A, 8, 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47400" y="3979800"/>
            <a:ext cx="24940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In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10320" y="2959200"/>
            <a:ext cx="265716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re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38760" y="3373560"/>
            <a:ext cx="388764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, @, 2, $, 8, A, 5, 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193840" y="3927600"/>
            <a:ext cx="262080" cy="29988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108320" y="1530360"/>
          <a:ext cx="4797720" cy="5267160"/>
        </p:xfrm>
        <a:graphic>
          <a:graphicData uri="http://schemas.openxmlformats.org/drawingml/2006/table">
            <a:tbl>
              <a:tblPr/>
              <a:tblGrid>
                <a:gridCol w="2398680"/>
                <a:gridCol w="2399040"/>
              </a:tblGrid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25360" y="1703520"/>
            <a:ext cx="3716280" cy="2288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Dado los siguientes recorrido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ado 2 recorridos construir el ár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95760" y="631512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526104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65560" y="580248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14880" y="574200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15120" y="627228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320800" y="5570640"/>
            <a:ext cx="21924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870080" y="6093000"/>
            <a:ext cx="220680" cy="2584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70520" y="5519880"/>
            <a:ext cx="220680" cy="2584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03960" y="6099120"/>
            <a:ext cx="147600" cy="1652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33920" y="52563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32480" y="632448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462640" y="62755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72120" y="57564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440" y="3371760"/>
            <a:ext cx="260172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, %, &amp;, $, 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2978280"/>
            <a:ext cx="26272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In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4520" y="2084400"/>
            <a:ext cx="265716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re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2960" y="2498760"/>
            <a:ext cx="262908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$, %, A, &amp;, 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1800" y="390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8840" y="4127400"/>
            <a:ext cx="379728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Pre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indica que la raíz es: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6520" y="4584600"/>
            <a:ext cx="381636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In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indica quién está a la izquierda y quién a la derech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59320" y="208116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07200" y="2076480"/>
            <a:ext cx="3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92560" y="158904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12680" y="2127240"/>
            <a:ext cx="69120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%, 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52520" y="2133720"/>
            <a:ext cx="26604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2120" y="5315040"/>
            <a:ext cx="3819600" cy="642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Pre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también indica cuál es el siguiente valor a proces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85120" y="1596960"/>
            <a:ext cx="8204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59600" y="192240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39120" y="246384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794720" y="2232000"/>
            <a:ext cx="21888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07480" y="19177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432280" y="1960560"/>
            <a:ext cx="26604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53200" y="250992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94520" y="252900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92560" y="299232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62640" y="4379760"/>
            <a:ext cx="38556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52920" y="332568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32440" y="3867120"/>
            <a:ext cx="38556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288040" y="3635280"/>
            <a:ext cx="21888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36600" y="415764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00800" y="33210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99000" y="438948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19120" y="3344760"/>
            <a:ext cx="26604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70200" y="387360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72160" y="300024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20080" y="443880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10360" y="338472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89880" y="3925800"/>
            <a:ext cx="38556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10360" y="442908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845480" y="3693960"/>
            <a:ext cx="218880" cy="2606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394040" y="421632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54920" y="4235400"/>
            <a:ext cx="201600" cy="2192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58240" y="33796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56440" y="444816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058240" y="4432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497440" y="3414600"/>
            <a:ext cx="26604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79960" y="492912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02640" y="1608120"/>
            <a:ext cx="103248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%, A, &amp;, 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04200" y="1625760"/>
            <a:ext cx="103284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A, &amp;, 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56560" y="2992320"/>
            <a:ext cx="103248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%, A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&amp;, 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15720" y="3011400"/>
            <a:ext cx="103248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%, A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&amp;,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 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70960" y="4940280"/>
            <a:ext cx="103248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%, A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&amp;,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ado 2 recorridos construir el ár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108320" y="1530360"/>
          <a:ext cx="4797720" cy="5267160"/>
        </p:xfrm>
        <a:graphic>
          <a:graphicData uri="http://schemas.openxmlformats.org/drawingml/2006/table">
            <a:tbl>
              <a:tblPr/>
              <a:tblGrid>
                <a:gridCol w="2398680"/>
                <a:gridCol w="2399040"/>
              </a:tblGrid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225360" y="1703520"/>
            <a:ext cx="3716280" cy="2288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Dado los siguientes recorrido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95760" y="627696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522288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65560" y="576432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4880" y="570384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4000" y="629748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320800" y="5532480"/>
            <a:ext cx="21924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870080" y="6054840"/>
            <a:ext cx="220680" cy="2584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70520" y="548172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1000" y="6075360"/>
            <a:ext cx="14796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33920" y="52182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32480" y="628668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880" y="6300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72120" y="5718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6440" y="3371760"/>
            <a:ext cx="260172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, %, &amp;, $, 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978280"/>
            <a:ext cx="26272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In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4160" y="2084400"/>
            <a:ext cx="278532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ost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2960" y="2498760"/>
            <a:ext cx="262908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, &amp;, %, #, 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1800" y="390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1400" y="4127400"/>
            <a:ext cx="392508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Post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indica que la raíz es: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8120" y="4584600"/>
            <a:ext cx="388476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In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indica quién está a la izquierda y quién a la derech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59320" y="208116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07200" y="2076480"/>
            <a:ext cx="3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92560" y="158904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12680" y="2127240"/>
            <a:ext cx="69120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%, 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52520" y="2133720"/>
            <a:ext cx="26604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8120" y="5315040"/>
            <a:ext cx="3873600" cy="642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Post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también indica cuál es el siguiente valor a proces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85120" y="1596960"/>
            <a:ext cx="8204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959600" y="192240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07480" y="19177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92560" y="299232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52920" y="332568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32440" y="3867120"/>
            <a:ext cx="38556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288040" y="3635280"/>
            <a:ext cx="21888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00800" y="33210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360" y="393696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72160" y="300024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10360" y="338472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89880" y="3925800"/>
            <a:ext cx="38556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010360" y="442908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845480" y="3693960"/>
            <a:ext cx="218880" cy="2606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954920" y="4235400"/>
            <a:ext cx="201600" cy="2192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8240" y="33796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58240" y="4432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79960" y="492912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75640" y="1608120"/>
            <a:ext cx="103284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&amp;, %, #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$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504200" y="1625760"/>
            <a:ext cx="103284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&amp;, %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$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56560" y="2992320"/>
            <a:ext cx="103284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&amp;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%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$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515360" y="3011400"/>
            <a:ext cx="103320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%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$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70600" y="4940280"/>
            <a:ext cx="103320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%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$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407440" y="243684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63080" y="2214720"/>
            <a:ext cx="220680" cy="2584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464680" y="24512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18000" y="1974960"/>
            <a:ext cx="69120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%, 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50080" y="386244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05360" y="363996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06960" y="38768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47960" y="389556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477280" y="388944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32920" y="366696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34520" y="39038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252920" y="394164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corridos conve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48960" y="1941480"/>
            <a:ext cx="754236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isitan 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los nodos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 orden contrario es decir, primero a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derech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y después a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izquierd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9900"/>
                </a:solidFill>
                <a:latin typeface="Arial"/>
              </a:rPr>
              <a:t>Recorridos converso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INORDEN CONVERS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PREORDEN CONVERS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POSTORDEN CONVERS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 es muy común encontrar una aplicación para ello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corridos Nivel por Ni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Recorre el árbol en forma horizontal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19240" y="4233960"/>
            <a:ext cx="385920" cy="361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71720" y="3166920"/>
            <a:ext cx="385920" cy="36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51240" y="3708360"/>
            <a:ext cx="385560" cy="362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311640" y="3660840"/>
            <a:ext cx="385560" cy="361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6720" y="4292640"/>
            <a:ext cx="385920" cy="361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706840" y="3476520"/>
            <a:ext cx="21888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93560" y="401148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32080" y="3425760"/>
            <a:ext cx="155520" cy="27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68760" y="4006800"/>
            <a:ext cx="134640" cy="285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19240" y="316224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55960" y="42433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84600" y="42958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68520" y="3675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52480" y="3772080"/>
            <a:ext cx="2439000" cy="5814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%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#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66ff33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64120" y="3389400"/>
            <a:ext cx="29116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Nivel por Ni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79720" y="3579840"/>
            <a:ext cx="2108160" cy="0"/>
          </a:xfrm>
          <a:prstGeom prst="line">
            <a:avLst/>
          </a:prstGeom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73240" y="4130640"/>
            <a:ext cx="2108160" cy="0"/>
          </a:xfrm>
          <a:prstGeom prst="line">
            <a:avLst/>
          </a:prstGeom>
          <a:ln w="9360">
            <a:solidFill>
              <a:srgbClr val="29292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ción del Recorrido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ivel por Ni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ara implementar este recorrido se utiliza una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Fila 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que almacena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apuntadores a los nodos del árbol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roces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ter el apuntador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al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nodo raíz a una Fil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ientras la Fila no se vací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acar </a:t>
            </a: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un apuntador de la Fil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y procesar el nodo apuntad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ter a la Fila los apuntadores a los hijos</a:t>
            </a: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l nodo procesado (si éstos existen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corr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Arial"/>
              </a:rPr>
              <a:t>Recorrer el árbol es “pasar por” o “visitar” todos los nodos del mism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Arial"/>
              </a:rPr>
              <a:t>Recorridos típico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reord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Inord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ostord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Otro tipo de recorrid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Convers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Nivel por ni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23080" y="3535200"/>
            <a:ext cx="2609640" cy="13136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recorridos se aplican sobre un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Árbol Bin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NO TIENE que ser ABB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corrido Pre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240" y="18622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Proceso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Visita el nodo raíz del árbo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l preorden el subárbol izquierdo del nodo raíz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l preorden el subárbol derecho del nodo raíz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Aplicación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 Generar una réplica del árbo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8000" y="4659480"/>
            <a:ext cx="284796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1, 13, 10, 18, 33, 25, 4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16640" y="222732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9200" y="2908440"/>
            <a:ext cx="42732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3280" y="2803680"/>
            <a:ext cx="4287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40320" y="358128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89840" y="3589200"/>
            <a:ext cx="42840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65760" y="3632040"/>
            <a:ext cx="42732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72520" y="3543480"/>
            <a:ext cx="4269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233760" y="259884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744880" y="327168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0" y="2536920"/>
            <a:ext cx="244440" cy="3110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50120" y="3170160"/>
            <a:ext cx="244440" cy="3733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11880" y="3279600"/>
            <a:ext cx="6192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910200" y="3198960"/>
            <a:ext cx="182520" cy="4330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3880" y="228744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62640" y="36608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19720" y="3668760"/>
            <a:ext cx="4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4160" y="3693960"/>
            <a:ext cx="4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0040" y="360360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45200" y="28670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3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91440" y="4290840"/>
            <a:ext cx="265716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re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lementación del Pre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65200" y="2238480"/>
            <a:ext cx="5168880" cy="43531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oid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DespliegaPreorde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( Nodo*  R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( R != NULL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Preorden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q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Pre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10200" y="2757600"/>
            <a:ext cx="3948120" cy="14655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lementación del Preorden para desplegar el contenido del árbo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lamada a la función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pliegaPreorden(Raiz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corrido In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Proceso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n inorden el subárbol izquierd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Visita la raíz del árbo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n inorden el subárbol derech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Aplicación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 Desplegar en orden creciente los elementos del árbol si este es un ABB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88000" y="4659480"/>
            <a:ext cx="284796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0, 13, 18, 21, 25, 33, 4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16640" y="222732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2908440"/>
            <a:ext cx="42732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83280" y="2803680"/>
            <a:ext cx="4287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40320" y="358128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2440" y="3576600"/>
            <a:ext cx="42840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78720" y="3632040"/>
            <a:ext cx="4269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72520" y="3543480"/>
            <a:ext cx="4269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233760" y="259884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744880" y="327168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0" y="2536920"/>
            <a:ext cx="244440" cy="3110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50120" y="3170160"/>
            <a:ext cx="244440" cy="3733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3267000"/>
            <a:ext cx="6192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22800" y="3198960"/>
            <a:ext cx="182520" cy="4330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3880" y="228744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62640" y="36608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2680" y="3656160"/>
            <a:ext cx="49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6760" y="3693960"/>
            <a:ext cx="4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0040" y="360360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45200" y="28670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3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90360" y="4290840"/>
            <a:ext cx="24940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In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lementación del In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400" y="1881360"/>
            <a:ext cx="5632560" cy="43531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oid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spliega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Inorde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( Nodo*  R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( R != NULL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In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q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In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7400" y="2320920"/>
            <a:ext cx="3735360" cy="14655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lementación del Inorden para desplegar el contenido del árbo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lamada a la función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pliegaInorden (Raiz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corrido Post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Proceso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n postorden el subárbol izquierd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n postorden el subárbol derech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Visita la raíz del árbo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Aplicación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 Liberar los nodos de un árbo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88000" y="4659480"/>
            <a:ext cx="284796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0, 18, 13, 25, 40, 33, 2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16640" y="222732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2160" y="2908440"/>
            <a:ext cx="4269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83280" y="2803680"/>
            <a:ext cx="4287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0320" y="358128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15040" y="358920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65760" y="3632040"/>
            <a:ext cx="42732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3543480"/>
            <a:ext cx="4269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233760" y="259884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744880" y="327168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0" y="2536920"/>
            <a:ext cx="244440" cy="3110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0120" y="3170160"/>
            <a:ext cx="244440" cy="3733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83440" y="3279600"/>
            <a:ext cx="11592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10200" y="3198960"/>
            <a:ext cx="182520" cy="4330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3880" y="228744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62640" y="36608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5280" y="3668760"/>
            <a:ext cx="49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4160" y="3693960"/>
            <a:ext cx="4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0040" y="360360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45200" y="28670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3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90720" y="4290840"/>
            <a:ext cx="278532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ost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lementación Post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600" y="1854360"/>
            <a:ext cx="5632200" cy="43531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oid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spliega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Postorde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( Nodo*  R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( R != NULL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Post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q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Post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97440" y="4586400"/>
            <a:ext cx="3948120" cy="14655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lementación del Postorden para desplegar el contenido del árbo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lamada a la función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pliegaPostorden (Raiz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5480" y="4105440"/>
            <a:ext cx="505080" cy="502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01840" y="192888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1040" y="268272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2960" y="257328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6520" y="3395520"/>
            <a:ext cx="50508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93960" y="354816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5680" y="434808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7040" y="3530520"/>
            <a:ext cx="50508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9320" y="339552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60800" y="419400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085480" y="2360520"/>
            <a:ext cx="28764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496520" y="3086280"/>
            <a:ext cx="28764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92520" y="2263680"/>
            <a:ext cx="28872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14600" y="3000240"/>
            <a:ext cx="289080" cy="433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38320" y="3187800"/>
            <a:ext cx="7308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886120" y="3025800"/>
            <a:ext cx="216000" cy="5047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809720" y="4013280"/>
            <a:ext cx="21600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30480" y="3957480"/>
            <a:ext cx="216000" cy="2876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65200" y="199404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33360" y="34797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04840" y="3639960"/>
            <a:ext cx="5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98760" y="4419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52840" y="360216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86000" y="431784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9960" y="346716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6040" y="26449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903240" y="3784680"/>
            <a:ext cx="28728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4120" y="4186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1440" y="4270320"/>
            <a:ext cx="49068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33520" y="3987720"/>
            <a:ext cx="209520" cy="287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86080" y="435924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2360" y="5373720"/>
            <a:ext cx="388764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, 4, 8, 11, 9, 7, 19, 16, 25, 21, 1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07880" y="4979880"/>
            <a:ext cx="278532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ost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1880" y="4373640"/>
            <a:ext cx="388800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, 4, 7, 8, 9, 11, 12, 16, 19, 21, 2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47400" y="3979800"/>
            <a:ext cx="24940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In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34080" y="3352680"/>
            <a:ext cx="388764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2, 7, 4, 2, 9, 8, 11, 21, 16, 19, 2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10320" y="2959200"/>
            <a:ext cx="265716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re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04:46:48Z</dcterms:created>
  <dc:creator>Liza Lartigue</dc:creator>
  <dc:description/>
  <dc:language>en-US</dc:language>
  <cp:lastModifiedBy>Armandina J Leal</cp:lastModifiedBy>
  <dcterms:modified xsi:type="dcterms:W3CDTF">2003-03-06T20:13:24Z</dcterms:modified>
  <cp:revision>97</cp:revision>
  <dc:subject/>
  <dc:title>Árboles Binarios de Búsqueda</dc:title>
</cp:coreProperties>
</file>