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A27-533C-4CCD-B077-70572A1D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691-A5D6-4366-ADE5-ABFE271B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0B8-7E37-44BC-A522-FBFCFD3A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24C-B5F7-4B41-80E3-C6FAD1F9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880B-6412-490D-B638-1B7CA8BF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6A72-A08E-4A2E-B619-95540893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576C-68B3-4B67-9F19-3DB0AB82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B88F-7B63-4CAF-9103-F4FB83AB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0C76-E5CC-4819-85F3-9C769057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A5E2-6D34-446C-A4C2-F5FAA025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9DB9-4537-4D0C-9355-9D059229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124-90D0-4A5B-9A16-5761E0E8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78D9-9C3F-4B4F-BDED-AFF9152D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50D5-D04E-48C0-9608-46F4B1EB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ECF4-169A-4FA8-BB7D-EAAB1425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8F8E-3D1A-4BAE-AA1C-3BA8F32C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A588-345C-42E7-9BA5-D4AB3229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CE5-4224-4AB1-9875-3AED6788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FE0-66F4-49BD-8C63-6A0C72AE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DDA-EC1A-4D5D-95B4-8DF7E500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3DD-A3B0-42DC-8FD2-A0B17D69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FCE-AAC8-45AA-98B0-DA58A2AB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A4F-28D4-4801-841D-6746CB76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B75-1B1D-4D58-9D94-80EAD1C4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2D87-5938-44AD-9650-1FCDD322CE21}" type="slidenum"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Ing. Armandina Leal F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A818-E20F-4EB3-B6C6-AE93A9D691C7}" type="slidenum"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Recorridos en Árboles Bi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682720" y="3276720"/>
            <a:ext cx="276480" cy="288720"/>
          </a:xfrm>
          <a:prstGeom prst="line">
            <a:avLst/>
          </a:prstGeom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38320" y="2521080"/>
            <a:ext cx="444600" cy="44424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38400" y="3054240"/>
            <a:ext cx="444240" cy="4446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13040" y="2901960"/>
            <a:ext cx="444600" cy="4446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5160" y="3646440"/>
            <a:ext cx="444600" cy="4446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60520" y="3544920"/>
            <a:ext cx="444600" cy="4446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09920" y="3486240"/>
            <a:ext cx="444600" cy="44424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23920" y="4253040"/>
            <a:ext cx="444600" cy="44424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41480" y="4218120"/>
            <a:ext cx="444600" cy="44424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63840" y="2768760"/>
            <a:ext cx="384120" cy="222120"/>
          </a:xfrm>
          <a:prstGeom prst="line">
            <a:avLst/>
          </a:prstGeom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623600" y="2832120"/>
            <a:ext cx="446040" cy="289080"/>
          </a:xfrm>
          <a:prstGeom prst="line">
            <a:avLst/>
          </a:prstGeom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993600" y="3378240"/>
            <a:ext cx="262080" cy="299880"/>
          </a:xfrm>
          <a:prstGeom prst="line">
            <a:avLst/>
          </a:prstGeom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87800" y="3276720"/>
            <a:ext cx="301680" cy="288720"/>
          </a:xfrm>
          <a:prstGeom prst="line">
            <a:avLst/>
          </a:prstGeom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93600" y="4059360"/>
            <a:ext cx="225720" cy="237960"/>
          </a:xfrm>
          <a:prstGeom prst="line">
            <a:avLst/>
          </a:prstGeom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92320" y="252396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53880" y="3057480"/>
            <a:ext cx="4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@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7040" y="28796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4160" y="3522600"/>
            <a:ext cx="33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51320" y="3527280"/>
            <a:ext cx="3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87320" y="36752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6080" y="430704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6240" y="425916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5373720"/>
            <a:ext cx="388764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$, 2, @, 5, A, %, 8, 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07880" y="4979880"/>
            <a:ext cx="278532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Post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1880" y="4373640"/>
            <a:ext cx="388800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2, $, @, #, 5, A, 8, 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47400" y="3979800"/>
            <a:ext cx="249408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In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10320" y="2959200"/>
            <a:ext cx="265716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Pre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38760" y="3373560"/>
            <a:ext cx="388764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#, @, 2, $, 8, A, 5, 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193840" y="3927600"/>
            <a:ext cx="262080" cy="299880"/>
          </a:xfrm>
          <a:prstGeom prst="line">
            <a:avLst/>
          </a:prstGeom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108320" y="1530360"/>
          <a:ext cx="4797720" cy="5267160"/>
        </p:xfrm>
        <a:graphic>
          <a:graphicData uri="http://schemas.openxmlformats.org/drawingml/2006/table">
            <a:tbl>
              <a:tblPr/>
              <a:tblGrid>
                <a:gridCol w="2398680"/>
                <a:gridCol w="2399040"/>
              </a:tblGrid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25360" y="1703520"/>
            <a:ext cx="3716280" cy="2288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Dado los siguientes recorridos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ado 2 recorridos construir el ár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95760" y="631512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526104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65560" y="580248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14880" y="574200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15120" y="6272280"/>
            <a:ext cx="38556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320800" y="5570640"/>
            <a:ext cx="219240" cy="2602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870080" y="6093000"/>
            <a:ext cx="220680" cy="2584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70520" y="5519880"/>
            <a:ext cx="220680" cy="2584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03960" y="6099120"/>
            <a:ext cx="147600" cy="1652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33920" y="52563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32480" y="632448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462640" y="62755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72120" y="57564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6440" y="3371760"/>
            <a:ext cx="260172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, %, &amp;, $, 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2978280"/>
            <a:ext cx="262728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In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4520" y="2084400"/>
            <a:ext cx="265716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Pre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2960" y="2498760"/>
            <a:ext cx="262908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$, %, A, &amp;, 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1800" y="3903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8840" y="4127400"/>
            <a:ext cx="379728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Preorden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 indica que la raíz es: </a:t>
            </a: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6520" y="4584600"/>
            <a:ext cx="381636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Inorden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 indica quién está a la izquierda y quién a la derech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59320" y="208116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07200" y="2076480"/>
            <a:ext cx="3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92560" y="1589040"/>
            <a:ext cx="82080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12680" y="2127240"/>
            <a:ext cx="69120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, %, &amp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52520" y="2133720"/>
            <a:ext cx="26604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2120" y="5315040"/>
            <a:ext cx="3819600" cy="6426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Preorden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 también indica cuál es el siguiente valor a procesa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85120" y="1596960"/>
            <a:ext cx="82044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59600" y="192240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39120" y="2463840"/>
            <a:ext cx="38556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794720" y="2232000"/>
            <a:ext cx="218880" cy="2602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07480" y="191772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432280" y="1960560"/>
            <a:ext cx="26604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53200" y="2509920"/>
            <a:ext cx="28296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994520" y="2529000"/>
            <a:ext cx="28296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92560" y="2992320"/>
            <a:ext cx="82080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62640" y="4379760"/>
            <a:ext cx="38556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52920" y="332568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32440" y="3867120"/>
            <a:ext cx="38556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288040" y="3635280"/>
            <a:ext cx="218880" cy="2602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836600" y="4157640"/>
            <a:ext cx="220680" cy="258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00800" y="332100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99000" y="438948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19120" y="3344760"/>
            <a:ext cx="26604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70200" y="3873600"/>
            <a:ext cx="28296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72160" y="3000240"/>
            <a:ext cx="82080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20080" y="4438800"/>
            <a:ext cx="38556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010360" y="338472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89880" y="3925800"/>
            <a:ext cx="38556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010360" y="442908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845480" y="3693960"/>
            <a:ext cx="218880" cy="2606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7394040" y="4216320"/>
            <a:ext cx="220680" cy="258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54920" y="4235400"/>
            <a:ext cx="201600" cy="2192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058240" y="337968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56440" y="444816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058240" y="44323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497440" y="3414600"/>
            <a:ext cx="26604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79960" y="4929120"/>
            <a:ext cx="82080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02640" y="1608120"/>
            <a:ext cx="103248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%, A, &amp;, 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04200" y="1625760"/>
            <a:ext cx="103284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A, &amp;, 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56560" y="2992320"/>
            <a:ext cx="103248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%, A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&amp;, 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15720" y="3011400"/>
            <a:ext cx="103248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%, A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&amp;,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 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070960" y="4940280"/>
            <a:ext cx="103248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%, A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&amp;,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ado 2 recorridos construir el ár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108320" y="1530360"/>
          <a:ext cx="4797720" cy="5267160"/>
        </p:xfrm>
        <a:graphic>
          <a:graphicData uri="http://schemas.openxmlformats.org/drawingml/2006/table">
            <a:tbl>
              <a:tblPr/>
              <a:tblGrid>
                <a:gridCol w="2398680"/>
                <a:gridCol w="2399040"/>
              </a:tblGrid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225360" y="1703520"/>
            <a:ext cx="3716280" cy="2288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Dado los siguientes recorridos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95760" y="627696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522288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65560" y="576432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14880" y="570384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64000" y="629748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320800" y="5532480"/>
            <a:ext cx="219240" cy="2602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870080" y="6054840"/>
            <a:ext cx="220680" cy="2584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70520" y="5481720"/>
            <a:ext cx="220680" cy="258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91000" y="6075360"/>
            <a:ext cx="147960" cy="258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33920" y="521820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32480" y="628668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1880" y="6300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72120" y="57182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6440" y="3371760"/>
            <a:ext cx="260172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, %, &amp;, $, 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978280"/>
            <a:ext cx="262728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In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4160" y="2084400"/>
            <a:ext cx="278532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Post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2960" y="2498760"/>
            <a:ext cx="262908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, &amp;, %, #, 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1800" y="3903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1400" y="4127400"/>
            <a:ext cx="392508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Postorden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 indica que la raíz es: </a:t>
            </a: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8120" y="4584600"/>
            <a:ext cx="388476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Inorden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 indica quién está a la izquierda y quién a la derech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59320" y="208116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07200" y="2076480"/>
            <a:ext cx="3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92560" y="1589040"/>
            <a:ext cx="82080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12680" y="2127240"/>
            <a:ext cx="69120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, %, &amp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52520" y="2133720"/>
            <a:ext cx="26604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8120" y="5315040"/>
            <a:ext cx="3873600" cy="6426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292929"/>
                </a:solidFill>
                <a:latin typeface="Arial"/>
              </a:rPr>
              <a:t>Postorden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 también indica cuál es el siguiente valor a procesa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585120" y="1596960"/>
            <a:ext cx="82044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959600" y="192240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007480" y="191772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92560" y="2992320"/>
            <a:ext cx="82080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52920" y="332568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32440" y="3867120"/>
            <a:ext cx="38556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288040" y="3635280"/>
            <a:ext cx="218880" cy="2602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00800" y="332100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360" y="3936960"/>
            <a:ext cx="28296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72160" y="3000240"/>
            <a:ext cx="82080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10360" y="3384720"/>
            <a:ext cx="38592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89880" y="3925800"/>
            <a:ext cx="38556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010360" y="4429080"/>
            <a:ext cx="385920" cy="362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845480" y="3693960"/>
            <a:ext cx="218880" cy="2606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954920" y="4235400"/>
            <a:ext cx="201600" cy="2192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8240" y="337968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58240" y="44323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79960" y="4929120"/>
            <a:ext cx="82080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Pas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075640" y="1608120"/>
            <a:ext cx="103284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, &amp;, %, #,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 $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504200" y="1625760"/>
            <a:ext cx="103284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, &amp;, %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 $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56560" y="2992320"/>
            <a:ext cx="103284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, &amp;,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 %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 $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515360" y="3011400"/>
            <a:ext cx="103320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 %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 $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70600" y="4940280"/>
            <a:ext cx="1033200" cy="2764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 %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#</a:t>
            </a: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 $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407440" y="2436840"/>
            <a:ext cx="38556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63080" y="2214720"/>
            <a:ext cx="220680" cy="2584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464680" y="245124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18000" y="1974960"/>
            <a:ext cx="69120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, %, &amp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50080" y="3862440"/>
            <a:ext cx="38556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05360" y="3639960"/>
            <a:ext cx="220680" cy="258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06960" y="38768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47960" y="3895560"/>
            <a:ext cx="28296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477280" y="3889440"/>
            <a:ext cx="385560" cy="361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32920" y="3666960"/>
            <a:ext cx="220680" cy="258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34520" y="39038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252920" y="3941640"/>
            <a:ext cx="282960" cy="27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corridos conver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48960" y="1941480"/>
            <a:ext cx="754236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isitan 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los nodos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n orden contrario es decir, primero a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derech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y después a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izquierd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9900"/>
                </a:solidFill>
                <a:latin typeface="Arial"/>
              </a:rPr>
              <a:t>Recorridos converso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INORDEN CONVERS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PREORDEN CONVERS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POSTORDEN CONVERS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 es muy común encontrar una aplicación para ello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corridos Nivel por Ni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Recorre el árbol en forma horizontal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19240" y="4233960"/>
            <a:ext cx="385920" cy="361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71720" y="3166920"/>
            <a:ext cx="385920" cy="36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51240" y="3708360"/>
            <a:ext cx="385560" cy="3621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311640" y="3660840"/>
            <a:ext cx="385560" cy="361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6720" y="4292640"/>
            <a:ext cx="385920" cy="361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706840" y="3476520"/>
            <a:ext cx="218880" cy="2602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293560" y="4011480"/>
            <a:ext cx="220680" cy="258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32080" y="3425760"/>
            <a:ext cx="155520" cy="271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68760" y="4006800"/>
            <a:ext cx="134640" cy="285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19240" y="316224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55960" y="424332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784600" y="42958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68520" y="36752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52480" y="3772080"/>
            <a:ext cx="2439000" cy="5814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%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#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s-ES" sz="3200" spc="-1" strike="noStrike">
                <a:solidFill>
                  <a:srgbClr val="66ff33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64120" y="3389400"/>
            <a:ext cx="291168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Nivel por Niv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79720" y="3579840"/>
            <a:ext cx="2108160" cy="0"/>
          </a:xfrm>
          <a:prstGeom prst="line">
            <a:avLst/>
          </a:prstGeom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073240" y="4130640"/>
            <a:ext cx="2108160" cy="0"/>
          </a:xfrm>
          <a:prstGeom prst="line">
            <a:avLst/>
          </a:prstGeom>
          <a:ln w="9360">
            <a:solidFill>
              <a:srgbClr val="29292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ación del Recorrido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ivel por Ni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Para implementar este recorrido se utiliza una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Fila 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que almacena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apuntadores a los nodos del árbol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Proceso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ter el apuntador </a:t>
            </a: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al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nodo raíz a una Fil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ientras la Fila no se vací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acar </a:t>
            </a:r>
            <a:r>
              <a:rPr b="0" lang="es-ES" sz="2000" spc="-1" strike="noStrike">
                <a:solidFill>
                  <a:srgbClr val="292929"/>
                </a:solidFill>
                <a:latin typeface="Arial"/>
              </a:rPr>
              <a:t>un apuntador de la Fila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y procesar el nodo apuntad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eter a la Fila los apuntadores a los hijos</a:t>
            </a:r>
            <a:r>
              <a:rPr b="0" lang="es-E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l nodo procesado (si éstos existen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Recorr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92929"/>
                </a:solidFill>
                <a:latin typeface="Arial"/>
              </a:rPr>
              <a:t>Recorrer el árbol es “pasar por” o “visitar” todos los nodos del mism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92929"/>
                </a:solidFill>
                <a:latin typeface="Arial"/>
              </a:rPr>
              <a:t>Recorridos típico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Preord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Inord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Postord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Otro tipo de recorrid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Convers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Nivel por ni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23080" y="3535200"/>
            <a:ext cx="2609640" cy="13136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recorridos se aplican sobre un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Árbol Binar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NO TIENE que ser ABB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Recorrido Pre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240" y="18622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Proceso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Visita el nodo raíz del árbol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Recorre el preorden el subárbol izquierdo del nodo raíz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Recorre el preorden el subárbol derecho del nodo raíz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Aplicación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: Generar una réplica del árbo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88000" y="4659480"/>
            <a:ext cx="284796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21, 13, 10, 18, 33, 25, 4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16640" y="2227320"/>
            <a:ext cx="42876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9200" y="2908440"/>
            <a:ext cx="42732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83280" y="2803680"/>
            <a:ext cx="42876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40320" y="3581280"/>
            <a:ext cx="42876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89840" y="3589200"/>
            <a:ext cx="42840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65760" y="3632040"/>
            <a:ext cx="42732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72520" y="3543480"/>
            <a:ext cx="42696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233760" y="2598840"/>
            <a:ext cx="24444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744880" y="3271680"/>
            <a:ext cx="24444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0" y="2536920"/>
            <a:ext cx="244440" cy="3110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50120" y="3170160"/>
            <a:ext cx="244440" cy="3733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11880" y="3279600"/>
            <a:ext cx="6192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910200" y="3198960"/>
            <a:ext cx="182520" cy="4330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3880" y="228744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62640" y="36608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19720" y="3668760"/>
            <a:ext cx="4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34160" y="3693960"/>
            <a:ext cx="4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0040" y="360360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45200" y="286704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3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91440" y="4290840"/>
            <a:ext cx="265716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Pre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lementación del Pre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65200" y="2238480"/>
            <a:ext cx="5168880" cy="43531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void </a:t>
            </a: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DespliegaPreorden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( Nodo*  R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( R != NULL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t &lt;&lt;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pliegaPreorden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q 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pliegaPreor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10200" y="2757600"/>
            <a:ext cx="3948120" cy="146556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lementación del Preorden para desplegar el contenido del árbol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lamada a la función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pliegaPreorden(Raiz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Recorrido In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Proceso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Recorre en inorden el subárbol izquierd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Visita la raíz del árbol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Recorre en inorden el subárbol derech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Aplicación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: Desplegar en orden creciente los elementos del árbol si este es un ABB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88000" y="4659480"/>
            <a:ext cx="284796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10, 13, 18, 21, 25, 33, 4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16640" y="2227320"/>
            <a:ext cx="42876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2908440"/>
            <a:ext cx="42732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83280" y="2803680"/>
            <a:ext cx="42876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40320" y="3581280"/>
            <a:ext cx="42876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2440" y="3576600"/>
            <a:ext cx="42840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78720" y="3632040"/>
            <a:ext cx="42696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72520" y="3543480"/>
            <a:ext cx="42696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233760" y="2598840"/>
            <a:ext cx="24444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744880" y="3271680"/>
            <a:ext cx="24444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0" y="2536920"/>
            <a:ext cx="244440" cy="3110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50120" y="3170160"/>
            <a:ext cx="244440" cy="3733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3267000"/>
            <a:ext cx="6192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22800" y="3198960"/>
            <a:ext cx="182520" cy="4330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3880" y="228744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62640" y="36608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2680" y="3656160"/>
            <a:ext cx="49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6760" y="3693960"/>
            <a:ext cx="4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20040" y="360360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45200" y="286704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3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90360" y="4290840"/>
            <a:ext cx="249408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In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lementación del In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7400" y="1881360"/>
            <a:ext cx="5632560" cy="43531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void </a:t>
            </a: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spliega</a:t>
            </a: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Inorden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( Nodo*  R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( R != NULL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{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pliegaInor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q 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t &lt;&lt;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pliegaInor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7400" y="2320920"/>
            <a:ext cx="3735360" cy="146556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lementación del Inorden para desplegar el contenido del árbol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lamada a la función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pliegaInorden (Raiz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Recorrido Post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Proceso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Recorre en postorden el subárbol izquierd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Recorre en postorden el subárbol derech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Visita la raíz del árbol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Aplicación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: Liberar los nodos de un árbo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88000" y="4659480"/>
            <a:ext cx="284796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10, 18, 13, 25, 40, 33, 2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16640" y="2227320"/>
            <a:ext cx="42876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2160" y="2908440"/>
            <a:ext cx="42696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83280" y="2803680"/>
            <a:ext cx="42876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40320" y="3581280"/>
            <a:ext cx="42876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15040" y="3589200"/>
            <a:ext cx="42876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65760" y="3632040"/>
            <a:ext cx="427320" cy="433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3543480"/>
            <a:ext cx="426960" cy="43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233760" y="2598840"/>
            <a:ext cx="24444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744880" y="3271680"/>
            <a:ext cx="24444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0" y="2536920"/>
            <a:ext cx="244440" cy="3110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50120" y="3170160"/>
            <a:ext cx="244440" cy="3733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83440" y="3279600"/>
            <a:ext cx="115920" cy="309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10200" y="3198960"/>
            <a:ext cx="182520" cy="4330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3880" y="228744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62640" y="36608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45280" y="3668760"/>
            <a:ext cx="49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4160" y="3693960"/>
            <a:ext cx="4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20040" y="360360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45200" y="286704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292929"/>
                </a:solidFill>
                <a:latin typeface="Arial"/>
              </a:rPr>
              <a:t>33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90720" y="4290840"/>
            <a:ext cx="278532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Post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lementación Post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600" y="1854360"/>
            <a:ext cx="5632200" cy="43531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void </a:t>
            </a: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spliega</a:t>
            </a: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Postorden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( Nodo*  R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f ( R != NULL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{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pliegaPostor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q 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pliegaPostor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t &lt;&lt; 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97440" y="4586400"/>
            <a:ext cx="3948120" cy="146556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lementación del Postorden para desplegar el contenido del árbol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lamada a la función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pliegaPostorden (Raiz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5480" y="4105440"/>
            <a:ext cx="505080" cy="502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01840" y="1928880"/>
            <a:ext cx="50472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1040" y="2682720"/>
            <a:ext cx="50472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2960" y="2573280"/>
            <a:ext cx="50472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6520" y="3395520"/>
            <a:ext cx="50508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93960" y="3548160"/>
            <a:ext cx="50472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5680" y="4348080"/>
            <a:ext cx="50472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7040" y="3530520"/>
            <a:ext cx="50508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59320" y="3395520"/>
            <a:ext cx="50472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60800" y="4194000"/>
            <a:ext cx="50472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085480" y="2360520"/>
            <a:ext cx="287640" cy="3603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496520" y="3086280"/>
            <a:ext cx="287640" cy="3603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92520" y="2263680"/>
            <a:ext cx="288720" cy="3603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14600" y="3000240"/>
            <a:ext cx="289080" cy="4334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38320" y="3187800"/>
            <a:ext cx="73080" cy="3603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886120" y="3025800"/>
            <a:ext cx="216000" cy="5047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809720" y="4013280"/>
            <a:ext cx="216000" cy="3603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30480" y="3957480"/>
            <a:ext cx="216000" cy="2876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65200" y="199404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33360" y="34797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04840" y="3639960"/>
            <a:ext cx="5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98760" y="4419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52840" y="360216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86000" y="4317840"/>
            <a:ext cx="7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39960" y="346716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6040" y="26449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903240" y="3784680"/>
            <a:ext cx="287280" cy="3603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4120" y="4186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1440" y="4270320"/>
            <a:ext cx="490680" cy="503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33520" y="3987720"/>
            <a:ext cx="209520" cy="2872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86080" y="4359240"/>
            <a:ext cx="6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2360" y="5373720"/>
            <a:ext cx="388764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2, 4, 8, 11, 9, 7, 19, 16, 25, 21, 1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07880" y="4979880"/>
            <a:ext cx="278532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Post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1880" y="4373640"/>
            <a:ext cx="388800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2, 4, 7, 8, 9, 11, 12, 16, 19, 21, 2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47400" y="3979800"/>
            <a:ext cx="249408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In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34080" y="3352680"/>
            <a:ext cx="3887640" cy="368280"/>
          </a:xfrm>
          <a:prstGeom prst="rect">
            <a:avLst/>
          </a:prstGeom>
          <a:noFill/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12, 7, 4, 2, 9, 8, 11, 21, 16, 19, 2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10320" y="2959200"/>
            <a:ext cx="2657160" cy="3682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rrido en Preord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5T04:46:48Z</dcterms:created>
  <dc:creator>Liza Lartigue</dc:creator>
  <dc:description/>
  <dc:language>en-US</dc:language>
  <cp:lastModifiedBy>Armandina J Leal</cp:lastModifiedBy>
  <dcterms:modified xsi:type="dcterms:W3CDTF">2003-03-06T20:13:24Z</dcterms:modified>
  <cp:revision>97</cp:revision>
  <dc:subject/>
  <dc:title>Árboles Binarios de Búsqueda</dc:title>
</cp:coreProperties>
</file>