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E6E9-B8F5-4B37-B04B-8E79311A4A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Times New Roman"/>
              </a:rPr>
              <a:t>Digital object identifier </a:t>
            </a: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s-EC" sz="1200" spc="-1" strike="noStrike">
                <a:solidFill>
                  <a:srgbClr val="000000"/>
                </a:solidFill>
                <a:latin typeface="Times New Roman"/>
              </a:rPr>
              <a:t>DOI </a:t>
            </a: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(en español «identificador digital de objeto» y no «identificador de objeto digital»)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un sistema parecido a los identificadores URI. El objeto puede ser cualquier entidad o cosa, física, digital o abstrac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Una forma común de emplear el sistema DOI es dar a las publicaciones científicas un número específic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cualquiera puede utilizar para localizar a través de la Red el citado artículo. A diferencia del sistema URL, usado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las páginas web, el sistema DOI no cambia con el paso del tiempo, aunque el artículo sea reubicado en una 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distinta puesto que lleva la información incorporada en forma de metada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El sistema de control DOI ha sido elaborado por la Corporación Nacional para Iniciativas de Investigación (CNRI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una asociación estadounidense no lucrativa destinada a promover el desarrollo de las tecnologías de la información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la comunicación en el campo de la investigación científ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3D0E-3DD7-4D85-8C51-DE20F96C12E5}" type="slidenum">
              <a:rPr b="0" lang="es-EC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705-29EB-4A40-9E07-6FA56B23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0AA-7DDA-4403-868A-13853C1E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EAB-934C-43A7-ACCB-7D33A5EA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444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19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265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8444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419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26C-FA79-491B-8C60-B4838FD8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FEB-DA0D-4126-BD49-5E278657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D495-714C-41DE-9F59-3FB8F56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06BF-185C-49AF-83CA-62E641A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CED-B739-48D4-BF36-63B9704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0821-1E4F-4AB4-ADEE-8A2C3C25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26920" y="122400"/>
            <a:ext cx="7174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06AE-A081-4C5A-8A4B-6FE8253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1AF7-00BA-40A5-B6E9-11E1CD2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8E7-A16D-4B65-8892-32E2A193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C83-3BB6-4B3E-9BF4-27DABD74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BAC7-671B-4FA2-BEE2-344E649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78B6-17B6-4C46-B268-A7DEAA48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222C-5752-4DB9-A64E-C67E285F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8444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419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8444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419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E24-96B5-4035-80C1-029F7ABA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C0DA-E8EE-4907-B015-AF939E26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E5E0-236A-41CB-8197-E2669FB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7E16-9799-40CD-A196-56C7B4A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1632-DACF-476E-A236-4BAF6E12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5B57-0E32-40FB-9828-22F4547B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152-7C29-43DF-96DB-70119CB5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26920" y="122400"/>
            <a:ext cx="7174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9B10-41D5-4A43-A076-73B0FE09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B6C8-C94B-4D0D-86E1-43977D2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DE8D-323A-48C7-8F21-E001676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81B6-76A5-4F35-8E56-A75B98D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7FBF-8744-4921-ABD4-E79476D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5A51-7D96-4882-93EF-2200C62F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8444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419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265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8444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419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B1D6-0106-452F-9C8F-BB7FDA0A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7CC-E038-42E7-A4F1-5C8DB63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F2B-C47E-47C7-8EB8-C53A7417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26920" y="122400"/>
            <a:ext cx="7174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2A0-F02E-4246-9892-20190165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BD8-46F8-475B-B40E-57FBA15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280-CB7E-4D10-8B9B-FC684A1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29D-460C-42F4-8AFA-318C105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DAA-BD3C-4342-AB6A-49BA65D757F2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partamento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1A9-3662-4F50-BC4F-E0A0B083A35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39" name="Rectangle 41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WordArt 42"/>
            <p:cNvSpPr txBox="1"/>
            <p:nvPr/>
          </p:nvSpPr>
          <p:spPr>
            <a:xfrm rot="16200000">
              <a:off x="-2700000" y="3213000"/>
              <a:ext cx="619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pto. de Informática UMCC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1" name="Picture 43" descr="logofacultad"/>
          <p:cNvPicPr/>
          <p:nvPr/>
        </p:nvPicPr>
        <p:blipFill>
          <a:blip r:embed="rId2"/>
          <a:stretch/>
        </p:blipFill>
        <p:spPr>
          <a:xfrm>
            <a:off x="8172360" y="1484280"/>
            <a:ext cx="72072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1" descr="logofacultad"/>
          <p:cNvPicPr/>
          <p:nvPr/>
        </p:nvPicPr>
        <p:blipFill>
          <a:blip r:embed="rId2"/>
          <a:stretch/>
        </p:blipFill>
        <p:spPr>
          <a:xfrm>
            <a:off x="7451640" y="476280"/>
            <a:ext cx="1409760" cy="1038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2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114" name="Rectangle 4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WordArt 44"/>
            <p:cNvSpPr txBox="1"/>
            <p:nvPr/>
          </p:nvSpPr>
          <p:spPr>
            <a:xfrm rot="16200000">
              <a:off x="-2700000" y="3213000"/>
              <a:ext cx="619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pto. de Informática UMCC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899640" y="6248520"/>
            <a:ext cx="16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A650-A4F3-42C4-80DA-2534407D0C1C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partamento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0D17-DC10-43F3-807E-CA1F67CC092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0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191" name="Rectangle 41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42"/>
            <p:cNvSpPr txBox="1"/>
            <p:nvPr/>
          </p:nvSpPr>
          <p:spPr>
            <a:xfrm rot="16200000">
              <a:off x="-2700000" y="3213000"/>
              <a:ext cx="619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pto. de Informática UMCC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193" name="Picture 43" descr="logofacultad"/>
          <p:cNvPicPr/>
          <p:nvPr/>
        </p:nvPicPr>
        <p:blipFill>
          <a:blip r:embed="rId2"/>
          <a:stretch/>
        </p:blipFill>
        <p:spPr>
          <a:xfrm>
            <a:off x="8172360" y="1484280"/>
            <a:ext cx="720720" cy="53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8884-454C-4697-8B37-B12B7B28C2C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61977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Uso de bibliografía. Bases de datos bibliográficas. Creación de bibliotecas personales de citas bibliográfic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26920" y="4149720"/>
            <a:ext cx="642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ulio A. Telot Gonzál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Añadir referencias en la biblioteca (se abre la biblioteca y se selecciona New Referenc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5292720" y="357336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567480" y="4097160"/>
            <a:ext cx="189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selecciona el tipo de referencia cuando no sea artículo de re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6560" y="1719360"/>
            <a:ext cx="7859880" cy="4411440"/>
          </a:xfrm>
          <a:prstGeom prst="rect">
            <a:avLst/>
          </a:prstGeom>
          <a:ln w="0">
            <a:noFill/>
          </a:ln>
        </p:spPr>
      </p:pic>
      <p:pic>
        <p:nvPicPr>
          <p:cNvPr id="265" name="Imagen 2" descr=""/>
          <p:cNvPicPr/>
          <p:nvPr/>
        </p:nvPicPr>
        <p:blipFill>
          <a:blip r:embed="rId2"/>
          <a:stretch/>
        </p:blipFill>
        <p:spPr>
          <a:xfrm>
            <a:off x="826920" y="1657440"/>
            <a:ext cx="8209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sertar nueva referencia (colocar dato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940360" y="378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criba el contenido de cada campo dond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916360" y="3789360"/>
            <a:ext cx="29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26560" y="1719360"/>
            <a:ext cx="7859880" cy="441144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2" descr=""/>
          <p:cNvPicPr/>
          <p:nvPr/>
        </p:nvPicPr>
        <p:blipFill>
          <a:blip r:embed="rId2"/>
          <a:stretch/>
        </p:blipFill>
        <p:spPr>
          <a:xfrm>
            <a:off x="909720" y="1676520"/>
            <a:ext cx="77770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uscar en la bibliote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560" y="1719360"/>
            <a:ext cx="7859880" cy="44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to 2"/>
          <p:cNvGraphicFramePr/>
          <p:nvPr/>
        </p:nvGraphicFramePr>
        <p:xfrm>
          <a:off x="1763640" y="1071720"/>
          <a:ext cx="4948200" cy="53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071720"/>
                    <a:ext cx="49482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Atributos especia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0000"/>
                </a:solidFill>
                <a:latin typeface="Arial"/>
              </a:rPr>
              <a:t>ISBN International Standard Book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0000"/>
                </a:solidFill>
                <a:latin typeface="Arial"/>
              </a:rPr>
              <a:t>ISSN International Standard Serial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0000"/>
                </a:solidFill>
                <a:latin typeface="Arial"/>
              </a:rPr>
              <a:t>DOI Digital Object Identif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tras operaciones posi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76360" y="19810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mbiar el orden de la pantalla (Ej. Que primero aparezca el titulo y después el aut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Ver más detalles (ver completa alguna referenc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ditar biblioteca (hacer cambios en dat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figurar biblioteca para que abra automáticamente al abrir End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 (ver Manual de EndNote X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sertar citas en un documento Wo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ede usarse directamente con Microsoft Word (&gt;97) para crear bibliografías formateadas y citaciones para artícul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incluye una cita que ofrece información bibliográfica que remite al lector a una referencia específica en las referencias bibliografías al final del documento en Tesis de Maestría y Doctorado, Trabajos de Diploma y artículos científ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 necesario abrir EndNote estando en Word (puede ser con un botón de la barra de herramient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cedimiento para insertar citas en Word (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03040" y="4384440"/>
            <a:ext cx="7583400" cy="16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pués de la palabra donde desea insertar citas. Añada un espac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one una o varias citas en EndN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ga clic en Insert Citations, Insert Selected Cit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to 2"/>
          <p:cNvGraphicFramePr/>
          <p:nvPr/>
        </p:nvGraphicFramePr>
        <p:xfrm>
          <a:off x="843120" y="1739880"/>
          <a:ext cx="804996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739880"/>
                    <a:ext cx="80499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cedimiento para insertar citas en Word (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6560" y="1719000"/>
            <a:ext cx="785988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ga clic en Insert Selected Citations en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6920" y="270828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se habla de Enseñanza a Distancia existen muchos criterios (Hartley; Rushby), pero es necesario estudiarlos a 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tley, J. "Individual preferences in e-learning."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3): 383. Reviews the book "Individual Preferences in E-Learning," by Howard H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shby, N.  "E-learning's greatest hits."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3): 388. Reviews the book "E-Learning's Greatest Hits," by Clive Shephe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096200" y="625644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lo Ann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869800" y="63086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 a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>
            <a:hlinkClick r:id="rId1" action="ppaction://hlinksldjump"/>
          </p:cNvPr>
          <p:cNvSpPr/>
          <p:nvPr/>
        </p:nvSpPr>
        <p:spPr>
          <a:xfrm>
            <a:off x="7596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tilo para las referencias (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xisten numerosos estilos para las referencias, según acuerdos internacionales o loc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uede seleccionarse un estilo mediante el botón Format Bibliography que se coloca en Word o en el propio EndNote (Tools-&gt;Cite While You Write-&gt;Format Bibliography) y seleccione un Esti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tilo para las referencias (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826920" y="1719360"/>
            <a:ext cx="7129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bases de datos bibliográficas pers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bibliotecas personales usando ENDN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sar bases de datos bibliográficas con acceso vía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ovechar las posibilidades de las bases de datos intern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portar bibliografía obtenida de una base de datos internacional hacia una biblioteca personal ENDN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0066"/>
                </a:solidFill>
                <a:latin typeface="Arial"/>
              </a:rPr>
              <a:t>Estilo para las referencias (Ejemplo estilo Vancouver del caso ya mostrado)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se habla de Enseñanza a Distancia existen muchos criterios (1, 2), pero es necesario estudiarlos a fo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ushby N. E-learning's greatest hits.35(3):38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rtley J. Individual preferences in e-learning.35(3):38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602720" y="62564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 a Estilo Ann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>
            <a:hlinkClick r:id="rId1" action="ppaction://hlinksldjump"/>
          </p:cNvPr>
          <p:cNvSpPr/>
          <p:nvPr/>
        </p:nvSpPr>
        <p:spPr>
          <a:xfrm>
            <a:off x="399564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sumen End 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Herramienta útil para insertar citas bibliográficas y tener bibliotecas personales de cit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Ideal para Tesis de Maestría, Doctorado y Trabajos de Investigación en gene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Basado en la creación de una base de datos donde los campos son los atributos de cada publicación, existiendo diferentes campos según el tipo de public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fácilmente manejable dentro de Microsoft Wo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ueden usarse diferentes estilos de referencias bibliográficas, pero en un documento sólo debe usarse un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ases de datos EBSCO* H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BSCO es una corporación de nivel mundial en cuanto al suministro de información y soluciones administrativas ia través de suscripciones a revistas impresas y electrónicas, bases de datos de investigación y acceso en línea a más de 100 bases de datos y miles de revistas y libros electrón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erifique que tiene acceso a Intern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 el explorador de Internet abra la siguiente dirección: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http://search.ebscohost.com/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la pantalla de acceso a EBSCO Host. Ingrese el Identificador y el Password si lo posee y lo necesit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caso de no poseerlo debe contactar con la base de datos EBSCO para establecer los mecanismos de inscripción en la mism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60520" y="625644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Elton B. Stephens Company (1944) http://www.ebsco.com/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Base de Datos Science Direct (ELSEVI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una de las más abarcadoras herramientas de investigación científica en la We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ne más de 460 millones de ite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buscar contenidos de revistas, sitios de científicos, cursos, material inédito, patentes, repositorios institucionales e información en la We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mayoría de sus registros requieren de pago para bajar el texto complet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tras Bases de Datos Bibliográf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59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B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cience 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r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ylor and Fran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Vir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rcados Emer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rent Contents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499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antalla de presentación de Science Dir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9" name="1 Imagen" descr=""/>
          <p:cNvPicPr/>
          <p:nvPr/>
        </p:nvPicPr>
        <p:blipFill>
          <a:blip r:embed="rId1"/>
          <a:stretch/>
        </p:blipFill>
        <p:spPr>
          <a:xfrm>
            <a:off x="812880" y="2060640"/>
            <a:ext cx="80722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Resultado de la búsqueda (por cualquier ite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1" name="1 Imagen" descr=""/>
          <p:cNvPicPr/>
          <p:nvPr/>
        </p:nvPicPr>
        <p:blipFill>
          <a:blip r:embed="rId1"/>
          <a:stretch/>
        </p:blipFill>
        <p:spPr>
          <a:xfrm>
            <a:off x="819000" y="1628640"/>
            <a:ext cx="8172720" cy="4442040"/>
          </a:xfrm>
          <a:prstGeom prst="rect">
            <a:avLst/>
          </a:prstGeom>
          <a:ln w="0">
            <a:noFill/>
          </a:ln>
        </p:spPr>
      </p:pic>
      <p:sp>
        <p:nvSpPr>
          <p:cNvPr id="312" name="4 CuadroTexto"/>
          <p:cNvSpPr/>
          <p:nvPr/>
        </p:nvSpPr>
        <p:spPr>
          <a:xfrm>
            <a:off x="1544400" y="2708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0000"/>
                </a:solidFill>
                <a:latin typeface="Arial"/>
              </a:rPr>
              <a:t>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CuadroTexto"/>
          <p:cNvSpPr/>
          <p:nvPr/>
        </p:nvSpPr>
        <p:spPr>
          <a:xfrm>
            <a:off x="6516720" y="433404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eleccionar items, se ven dos gratis a texto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CuadroTexto"/>
          <p:cNvSpPr/>
          <p:nvPr/>
        </p:nvSpPr>
        <p:spPr>
          <a:xfrm>
            <a:off x="1233000" y="6381720"/>
            <a:ext cx="77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e puede seleccionar exportarlos a RIS (Reference International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Exportar a RIS para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5265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Biblioteca Virtual Taylor &amp; Franc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Resultados de búsqueda en Taylor &amp; Franc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812880" y="1413000"/>
            <a:ext cx="8151840" cy="5111640"/>
          </a:xfrm>
          <a:prstGeom prst="rect">
            <a:avLst/>
          </a:prstGeom>
          <a:ln w="0">
            <a:noFill/>
          </a:ln>
        </p:spPr>
      </p:pic>
      <p:sp>
        <p:nvSpPr>
          <p:cNvPr id="321" name="4 CuadroTexto"/>
          <p:cNvSpPr/>
          <p:nvPr/>
        </p:nvSpPr>
        <p:spPr>
          <a:xfrm>
            <a:off x="3001680" y="227664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Download 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6 Conector recto de flecha"/>
          <p:cNvCxnSpPr/>
          <p:nvPr/>
        </p:nvCxnSpPr>
        <p:spPr>
          <a:xfrm flipH="1">
            <a:off x="2842920" y="2852280"/>
            <a:ext cx="14472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ase de datos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a bibliografías existentes con sus atributos tal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ít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vi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330066"/>
                </a:solidFill>
                <a:latin typeface="Arial"/>
              </a:rPr>
              <a:t>Descargar resultado de búsqueda en Taylor &amp; Franci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900000" y="1465200"/>
            <a:ext cx="7848720" cy="513252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>
            <a:off x="4729680" y="350028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0000"/>
                </a:solidFill>
                <a:latin typeface="Arial"/>
              </a:rPr>
              <a:t>Se obtien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0000"/>
                </a:solidFill>
                <a:latin typeface="Arial"/>
              </a:rPr>
              <a:t>nombre.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sumen parcial de Bases de Datos Bibliográf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eden hacerse búsquedas bibliográficas de materiales existentes en distintas bases de datos atendiendo a distintos criterios (hay materiales a texto completo y otros 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eden almacenarse los resultados de esas búsquedas para su posterior uso, tanto en formato texto como en formato propio para crear bibliotecas pers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ocasiones es necesario tener permiso de acceso estas base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5076720" cy="3073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174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Transferencia de datos de una base de datos bibliográfica a End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6920" y="2027160"/>
            <a:ext cx="3168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File-&gt;Import se selecciona el archivo que fue guardado con la búsqueda en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 de usar formato RIS (Reference Information Standard), el acceso es más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 flipH="1">
            <a:off x="6227640" y="2781360"/>
            <a:ext cx="194472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934520" y="51577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leccion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rabajo Independie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rear una Biblioteca personal digitalizada con no menos de 8 refe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aborar un documento de tres páginas donde se haga uso de la Biblioteca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dNote es un paquete bibliográfico completo. Permite construir su propia biblioteca personalizada de citas. Puede usarse pa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macenar sus referencias en una base de da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cargar referencias de otras bases de da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ear referencias de manera automática en un documento, usando Microsoft Word 97, 2000, XP, 2003, 2007, 2010,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tilizar plantillas para la escritura de artículos en más de 2300 formatos diferentes (ver. 10.0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dNote está diseñado para ser instalado en una computadora personal sencilla. Puede ser utilizado en re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rear una biblioteca en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Archivo de la Biblioteca EndNote es una colección de referencias a libros, artículos periódicos, etc. Contiene toda la información que se necesita para crear una bibliografía. Si se desea, se puede añadir otra información como resúmenes, palabras clave y no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cceso a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Imagen 2" descr=""/>
          <p:cNvPicPr/>
          <p:nvPr/>
        </p:nvPicPr>
        <p:blipFill>
          <a:blip r:embed="rId1"/>
          <a:stretch/>
        </p:blipFill>
        <p:spPr>
          <a:xfrm>
            <a:off x="1778040" y="1521000"/>
            <a:ext cx="43783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cceso a EndNote desde Wo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Imagen 1" descr=""/>
          <p:cNvPicPr/>
          <p:nvPr/>
        </p:nvPicPr>
        <p:blipFill>
          <a:blip r:embed="rId1"/>
          <a:stretch/>
        </p:blipFill>
        <p:spPr>
          <a:xfrm>
            <a:off x="692280" y="2133720"/>
            <a:ext cx="84517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reación de nueva biblioteca en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Imagen 1" descr=""/>
          <p:cNvPicPr/>
          <p:nvPr/>
        </p:nvPicPr>
        <p:blipFill>
          <a:blip r:embed="rId1"/>
          <a:stretch/>
        </p:blipFill>
        <p:spPr>
          <a:xfrm>
            <a:off x="826920" y="1417680"/>
            <a:ext cx="82249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uardar nueva bibliote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010640" cy="44751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2339640" y="630864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rchivo creado es una biblioteca EndNote (en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03:00:30Z</dcterms:created>
  <dc:creator>Julio Telot González</dc:creator>
  <dc:description/>
  <dc:language>en-US</dc:language>
  <cp:lastModifiedBy>JT</cp:lastModifiedBy>
  <dcterms:modified xsi:type="dcterms:W3CDTF">2015-10-06T15:28:06Z</dcterms:modified>
  <cp:revision>91</cp:revision>
  <dc:subject/>
  <dc:title>El Diseño Teórico y la Formulación de la Propuesta (Proyecto) de Investigación</dc:title>
</cp:coreProperties>
</file>