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284D-8F12-41A6-A8D6-FF3C5D977A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C" sz="1200" spc="-1" strike="noStrike">
                <a:solidFill>
                  <a:srgbClr val="000000"/>
                </a:solidFill>
                <a:latin typeface="Times New Roman"/>
              </a:rPr>
              <a:t>Digital object identifier </a:t>
            </a: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s-EC" sz="1200" spc="-1" strike="noStrike">
                <a:solidFill>
                  <a:srgbClr val="000000"/>
                </a:solidFill>
                <a:latin typeface="Times New Roman"/>
              </a:rPr>
              <a:t>DOI </a:t>
            </a: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(en español «identificador digital de objeto» y no «identificador de objeto digital»)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un sistema parecido a los identificadores URI. El objeto puede ser cualquier entidad o cosa, física, digital o abstrac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Una forma común de emplear el sistema DOI es dar a las publicaciones científicas un número específic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cualquiera puede utilizar para localizar a través de la Red el citado artículo. A diferencia del sistema URL, usado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las páginas web, el sistema DOI no cambia con el paso del tiempo, aunque el artículo sea reubicado en una 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distinta puesto que lleva la información incorporada en forma de metada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El sistema de control DOI ha sido elaborado por la Corporación Nacional para Iniciativas de Investigación (CNRI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una asociación estadounidense no lucrativa destinada a promover el desarrollo de las tecnologías de la información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Times New Roman"/>
              </a:rPr>
              <a:t>la comunicación en el campo de la investigación científ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7442-FA3A-4C58-A185-4BF32A2E467C}" type="slidenum">
              <a:rPr b="0" lang="es-EC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DDD-C238-4BF3-8FFB-6BC7BF1F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D64-3FD1-4CB4-99A5-A0FE90A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85D-78A8-45A9-A143-58B08C14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444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419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265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8444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419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2FD-A103-4B5E-BC30-8C97AD7A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6AE7-C978-4838-A817-2FFF31D5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43C8-CA18-4696-B734-AF878E80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2EFE-187E-4057-8591-75FA8913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0D06-3870-4B90-A78C-34C5C67D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A29B-E192-4D5C-A264-4B218B8D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26920" y="122400"/>
            <a:ext cx="7174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FA87-3E99-4B05-9AAE-ABFEBDF7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A679-9F82-44A0-9F46-43831D0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AED-4B94-42DB-8EA8-5FC25604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6A64-CF52-493E-B548-1B25656E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F018-4D3F-4B40-9287-CC41FAB3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4865-338E-4D05-B5C3-D80460F6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D0A3-2B96-4C79-8131-BA642D5B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48444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419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48444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1419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E5A7-A46D-414F-9E73-F2092453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C0D1-E9CF-4F3D-BD76-30EFAF72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78A7-6490-4399-B6BB-760C0332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917F-C3D7-40B6-8146-DA7BC787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1805E-6269-4560-AA8E-626DE5E9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BAD5-6509-4828-94AC-CB2E662E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354-BA9E-4C5B-B88E-F61E51A1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26920" y="122400"/>
            <a:ext cx="7174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1695-D863-4433-85CF-55810EDE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60D81-9496-43C8-8136-6102982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A006B-6426-42C1-BDEF-21A5235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3F15-6538-4AAA-8E43-2663BD0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7DE5-B749-43AC-BCA5-4E4D4C2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AB73-54D8-4EC4-8A9A-AE0D5BEA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48444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41960" y="171936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8265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48444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41960" y="4023720"/>
            <a:ext cx="2530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4571-154C-4974-841C-3771C576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53C-EFAE-431A-A66D-D31D83C9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CE1-0762-4C1F-9998-7C90B09F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26920" y="122400"/>
            <a:ext cx="7174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AE32-F54E-45DC-8A70-6215CDA5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F7C-FE23-436E-9247-06F058B7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54240" y="402372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323-28B5-48BB-B032-10C4C5E4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54240" y="1719360"/>
            <a:ext cx="38354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6560" y="4023720"/>
            <a:ext cx="78598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F54-FA47-47CD-9D09-DBF703D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4075-E701-4F0A-99F2-01E78BFC2FB7}" type="datetime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partamento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370C-C6B6-4097-9AFF-D019CBD9749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39" name="Rectangle 41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WordArt 42"/>
            <p:cNvSpPr txBox="1"/>
            <p:nvPr/>
          </p:nvSpPr>
          <p:spPr>
            <a:xfrm rot="16200000">
              <a:off x="-2700000" y="3213000"/>
              <a:ext cx="619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pto. de Informática UMCC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1" name="Picture 43" descr="logofacultad"/>
          <p:cNvPicPr/>
          <p:nvPr/>
        </p:nvPicPr>
        <p:blipFill>
          <a:blip r:embed="rId2"/>
          <a:stretch/>
        </p:blipFill>
        <p:spPr>
          <a:xfrm>
            <a:off x="8172360" y="1484280"/>
            <a:ext cx="72072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1" descr="logofacultad"/>
          <p:cNvPicPr/>
          <p:nvPr/>
        </p:nvPicPr>
        <p:blipFill>
          <a:blip r:embed="rId2"/>
          <a:stretch/>
        </p:blipFill>
        <p:spPr>
          <a:xfrm>
            <a:off x="7451640" y="476280"/>
            <a:ext cx="1409760" cy="10382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42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114" name="Rectangle 43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WordArt 44"/>
            <p:cNvSpPr txBox="1"/>
            <p:nvPr/>
          </p:nvSpPr>
          <p:spPr>
            <a:xfrm rot="16200000">
              <a:off x="-2700000" y="3213000"/>
              <a:ext cx="619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pto. de Informática UMCC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899640" y="6248520"/>
            <a:ext cx="16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DD47-2DF0-4485-8FEE-F48021F1DD0E}" type="datetime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partamento de Informá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D010-6EB9-49B6-93F6-433C7997702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40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sp>
          <p:nvSpPr>
            <p:cNvPr id="191" name="Rectangle 41"/>
            <p:cNvSpPr/>
            <p:nvPr/>
          </p:nvSpPr>
          <p:spPr>
            <a:xfrm>
              <a:off x="0" y="0"/>
              <a:ext cx="755640" cy="6858000"/>
            </a:xfrm>
            <a:prstGeom prst="rect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42"/>
            <p:cNvSpPr txBox="1"/>
            <p:nvPr/>
          </p:nvSpPr>
          <p:spPr>
            <a:xfrm rot="16200000">
              <a:off x="-2700000" y="3213000"/>
              <a:ext cx="619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pto. de Informática UMCC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193" name="Picture 43" descr="logofacultad"/>
          <p:cNvPicPr/>
          <p:nvPr/>
        </p:nvPicPr>
        <p:blipFill>
          <a:blip r:embed="rId2"/>
          <a:stretch/>
        </p:blipFill>
        <p:spPr>
          <a:xfrm>
            <a:off x="8172360" y="1484280"/>
            <a:ext cx="720720" cy="531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342A-B005-4885-BDF4-CB508888195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619776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Uso de bibliografía. Bases de datos bibliográficas. Creación de bibliotecas personales de citas bibliográfic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26920" y="4149720"/>
            <a:ext cx="6423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ulio A. Telot Gonzále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Añadir referencias en la biblioteca (se abre la biblioteca y se selecciona New Referenc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5292720" y="357336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567480" y="4097160"/>
            <a:ext cx="189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selecciona el tipo de referencia cuando no sea artículo de re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26560" y="1719360"/>
            <a:ext cx="7859880" cy="4411440"/>
          </a:xfrm>
          <a:prstGeom prst="rect">
            <a:avLst/>
          </a:prstGeom>
          <a:ln w="0">
            <a:noFill/>
          </a:ln>
        </p:spPr>
      </p:pic>
      <p:pic>
        <p:nvPicPr>
          <p:cNvPr id="265" name="Imagen 2" descr=""/>
          <p:cNvPicPr/>
          <p:nvPr/>
        </p:nvPicPr>
        <p:blipFill>
          <a:blip r:embed="rId2"/>
          <a:stretch/>
        </p:blipFill>
        <p:spPr>
          <a:xfrm>
            <a:off x="826920" y="1657440"/>
            <a:ext cx="8209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sertar nueva referencia (colocar dato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940360" y="378936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criba el contenido de cada campo donde correspo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916360" y="3789360"/>
            <a:ext cx="29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26560" y="1719360"/>
            <a:ext cx="7859880" cy="4411440"/>
          </a:xfrm>
          <a:prstGeom prst="rect">
            <a:avLst/>
          </a:prstGeom>
          <a:ln w="0">
            <a:noFill/>
          </a:ln>
        </p:spPr>
      </p:pic>
      <p:pic>
        <p:nvPicPr>
          <p:cNvPr id="270" name="Imagen 2" descr=""/>
          <p:cNvPicPr/>
          <p:nvPr/>
        </p:nvPicPr>
        <p:blipFill>
          <a:blip r:embed="rId2"/>
          <a:stretch/>
        </p:blipFill>
        <p:spPr>
          <a:xfrm>
            <a:off x="909720" y="1676520"/>
            <a:ext cx="77770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94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Buscar en la bibliote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26560" y="1719360"/>
            <a:ext cx="7859880" cy="441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to 2"/>
          <p:cNvGraphicFramePr/>
          <p:nvPr/>
        </p:nvGraphicFramePr>
        <p:xfrm>
          <a:off x="1763640" y="1071720"/>
          <a:ext cx="4948200" cy="539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to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071720"/>
                    <a:ext cx="494820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Atributos especia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0000"/>
                </a:solidFill>
                <a:latin typeface="Arial"/>
              </a:rPr>
              <a:t>ISBN International Standard Book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0000"/>
                </a:solidFill>
                <a:latin typeface="Arial"/>
              </a:rPr>
              <a:t>ISSN International Standard Serial Num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000" spc="-1" strike="noStrike">
                <a:solidFill>
                  <a:srgbClr val="000000"/>
                </a:solidFill>
                <a:latin typeface="Arial"/>
              </a:rPr>
              <a:t>DOI Digital Object Identif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tras operaciones posi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76360" y="19810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mbiar el orden de la pantalla (Ej. Que primero aparezca el titulo y después el aut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Ver más detalles (ver completa alguna referenci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ditar biblioteca (hacer cambios en dat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figurar biblioteca para que abra automáticamente al abrir End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s (ver Manual de EndNote X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Insertar citas en un documento Wo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uede usarse directamente con Microsoft Word (&gt;97) para crear bibliografías formateadas y citaciones para artícul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incluye una cita que ofrece información bibliográfica que remite al lector a una referencia específica en las referencias bibliografías al final del documento en Tesis de Maestría y Doctorado, Trabajos de Diploma y artículos científ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 necesario abrir EndNote estando en Word (puede ser con un botón de la barra de herramient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Procedimiento para insertar citas en Word (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03040" y="4384440"/>
            <a:ext cx="7583400" cy="16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pués de la palabra donde desea insertar citas. Añada un espac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one una o varias citas en EndN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aga clic en Insert Citations, Insert Selected Cit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to 2"/>
          <p:cNvGraphicFramePr/>
          <p:nvPr/>
        </p:nvGraphicFramePr>
        <p:xfrm>
          <a:off x="843120" y="1739880"/>
          <a:ext cx="804996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to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739880"/>
                    <a:ext cx="804996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Procedimiento para insertar citas en Word (I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6560" y="1719000"/>
            <a:ext cx="785988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aga clic en Insert Selected Citations en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26920" y="2708280"/>
            <a:ext cx="72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ndo se habla de Enseñanza a Distancia existen muchos criterios (Hartley; Rushby), pero es necesario estudiarlos a f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tley, J. "Individual preferences in e-learning."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3): 383. Reviews the book "Individual Preferences in E-Learning," by Howard H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shby, N.  "E-learning's greatest hits."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3): 388. Reviews the book "E-Learning's Greatest Hits," by Clive Shephe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096200" y="625644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lo Anno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869800" y="63086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r a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">
            <a:hlinkClick r:id="rId1" action="ppaction://hlinksldjump"/>
          </p:cNvPr>
          <p:cNvSpPr/>
          <p:nvPr/>
        </p:nvSpPr>
        <p:spPr>
          <a:xfrm>
            <a:off x="7596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tilo para las referencias (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xisten numerosos estilos para las referencias, según acuerdos internacionales o loc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uede seleccionarse un estilo mediante el botón Format Bibliography que se coloca en Word o en el propio EndNote (Tools-&gt;Cite While You Write-&gt;Format Bibliography) y seleccione un Esti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tilo para las referencias (I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826920" y="1719360"/>
            <a:ext cx="71298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bjetiv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rear bases de datos bibliográficas pers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rear bibliotecas personales usando ENDN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sar bases de datos bibliográficas con acceso vía 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provechar las posibilidades de las bases de datos interna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mportar bibliografía obtenida de una base de datos internacional hacia una biblioteca personal ENDN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0066"/>
                </a:solidFill>
                <a:latin typeface="Arial"/>
              </a:rPr>
              <a:t>Estilo para las referencias (Ejemplo estilo Vancouver del caso ya mostrado)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ndo se habla de Enseñanza a Distancia existen muchos criterios (1, 2), pero es necesario estudiarlos a fo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ushby N. E-learning's greatest hits.35(3):38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artley J. Individual preferences in e-learning.35(3):38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602720" y="62564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r a Estilo Annot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">
            <a:hlinkClick r:id="rId1" action="ppaction://hlinksldjump"/>
          </p:cNvPr>
          <p:cNvSpPr/>
          <p:nvPr/>
        </p:nvSpPr>
        <p:spPr>
          <a:xfrm>
            <a:off x="399564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sumen End 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Herramienta útil para insertar citas bibliográficas y tener bibliotecas personales de cit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Ideal para Tesis de Maestría, Doctorado y Trabajos de Investigación en gener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Basado en la creación de una base de datos donde los campos son los atributos de cada publicación, existiendo diferentes campos según el tipo de public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 fácilmente manejable dentro de Microsoft Wo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ueden usarse diferentes estilos de referencias bibliográficas, pero en un documento sólo debe usarse un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Bases de datos EBSCO* Ho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BSCO es una corporación de nivel mundial en cuanto al suministro de información y soluciones administrativas ia través de suscripciones a revistas impresas y electrónicas, bases de datos de investigación y acceso en línea a más de 100 bases de datos y miles de revistas y libros electrón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erifique que tiene acceso a Interne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 el explorador de Internet abra la siguiente dirección: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http://search.ebscohost.com/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 la pantalla de acceso a EBSCO Host. Ingrese el Identificador y el Password si lo posee y lo necesit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 caso de no poseerlo debe contactar con la base de datos EBSCO para establecer los mecanismos de inscripción en la mism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460520" y="625644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Elton B. Stephens Company (1944) http://www.ebsco.com/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Base de Datos Science Direct (ELSEVIER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 una de las más abarcadoras herramientas de investigación científica en la We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ne más de 460 millones de ite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ite buscar contenidos de revistas, sitios de científicos, cursos, material inédito, patentes, repositorios institucionales e información en la Web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mayoría de sus registros requieren de pago para bajar el texto complet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tras Bases de Datos Bibliográf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8598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B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cience 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r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ylor and Fran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Vir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rcados Emer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rrent Contents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49944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Pantalla de presentación de Science Dire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9" name="1 Imagen" descr=""/>
          <p:cNvPicPr/>
          <p:nvPr/>
        </p:nvPicPr>
        <p:blipFill>
          <a:blip r:embed="rId1"/>
          <a:stretch/>
        </p:blipFill>
        <p:spPr>
          <a:xfrm>
            <a:off x="812880" y="2060640"/>
            <a:ext cx="807228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Resultado de la búsqueda (por cualquier item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1" name="1 Imagen" descr=""/>
          <p:cNvPicPr/>
          <p:nvPr/>
        </p:nvPicPr>
        <p:blipFill>
          <a:blip r:embed="rId1"/>
          <a:stretch/>
        </p:blipFill>
        <p:spPr>
          <a:xfrm>
            <a:off x="819000" y="1628640"/>
            <a:ext cx="8172720" cy="4442040"/>
          </a:xfrm>
          <a:prstGeom prst="rect">
            <a:avLst/>
          </a:prstGeom>
          <a:ln w="0">
            <a:noFill/>
          </a:ln>
        </p:spPr>
      </p:pic>
      <p:sp>
        <p:nvSpPr>
          <p:cNvPr id="312" name="4 CuadroTexto"/>
          <p:cNvSpPr/>
          <p:nvPr/>
        </p:nvSpPr>
        <p:spPr>
          <a:xfrm>
            <a:off x="1544400" y="27082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0000"/>
                </a:solidFill>
                <a:latin typeface="Arial"/>
              </a:rPr>
              <a:t>Op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CuadroTexto"/>
          <p:cNvSpPr/>
          <p:nvPr/>
        </p:nvSpPr>
        <p:spPr>
          <a:xfrm>
            <a:off x="6516720" y="433404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Seleccionar items, se ven dos gratis a texto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2 CuadroTexto"/>
          <p:cNvSpPr/>
          <p:nvPr/>
        </p:nvSpPr>
        <p:spPr>
          <a:xfrm>
            <a:off x="1233000" y="6381720"/>
            <a:ext cx="77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Se puede seleccionar exportarlos a RIS (Reference International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Exportar a RIS para End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5265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Biblioteca Virtual Taylor &amp; Franc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900" spc="-1" strike="noStrike">
                <a:solidFill>
                  <a:srgbClr val="330066"/>
                </a:solidFill>
                <a:latin typeface="Arial"/>
              </a:rPr>
              <a:t>Resultados de búsqueda en Taylor &amp; Franc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812880" y="1413000"/>
            <a:ext cx="8151840" cy="5111640"/>
          </a:xfrm>
          <a:prstGeom prst="rect">
            <a:avLst/>
          </a:prstGeom>
          <a:ln w="0">
            <a:noFill/>
          </a:ln>
        </p:spPr>
      </p:pic>
      <p:sp>
        <p:nvSpPr>
          <p:cNvPr id="321" name="4 CuadroTexto"/>
          <p:cNvSpPr/>
          <p:nvPr/>
        </p:nvSpPr>
        <p:spPr>
          <a:xfrm>
            <a:off x="3001680" y="2276640"/>
            <a:ext cx="20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A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000000"/>
                </a:solidFill>
                <a:latin typeface="Arial"/>
              </a:rPr>
              <a:t>Download 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6 Conector recto de flecha"/>
          <p:cNvCxnSpPr/>
          <p:nvPr/>
        </p:nvCxnSpPr>
        <p:spPr>
          <a:xfrm flipH="1">
            <a:off x="2842920" y="2852280"/>
            <a:ext cx="144720" cy="289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Base de datos bibliográf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a bibliografías existentes con sus atributos tales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ítu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vi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úm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b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itio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330066"/>
                </a:solidFill>
                <a:latin typeface="Arial"/>
              </a:rPr>
              <a:t>Descargar resultado de búsqueda en Taylor &amp; Franci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900000" y="1465200"/>
            <a:ext cx="7848720" cy="5132520"/>
          </a:xfrm>
          <a:prstGeom prst="rect">
            <a:avLst/>
          </a:prstGeom>
          <a:ln w="0">
            <a:noFill/>
          </a:ln>
        </p:spPr>
      </p:pic>
      <p:sp>
        <p:nvSpPr>
          <p:cNvPr id="325" name="4 CuadroTexto"/>
          <p:cNvSpPr/>
          <p:nvPr/>
        </p:nvSpPr>
        <p:spPr>
          <a:xfrm>
            <a:off x="4729680" y="350028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0000"/>
                </a:solidFill>
                <a:latin typeface="Arial"/>
              </a:rPr>
              <a:t>Se obtien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800" spc="-1" strike="noStrike">
                <a:solidFill>
                  <a:srgbClr val="ff0000"/>
                </a:solidFill>
                <a:latin typeface="Arial"/>
              </a:rPr>
              <a:t>nombre.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sumen parcial de Bases de Datos Bibliográf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ueden hacerse búsquedas bibliográficas de materiales existentes en distintas bases de datos atendiendo a distintos criterios (hay materiales a texto completo y otros 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ueden almacenarse los resultados de esas búsquedas para su posterior uso, tanto en formato texto como en formato propio para crear bibliotecas pers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 ocasiones es necesario tener permiso de acceso estas base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5076720" cy="30736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174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Transferencia de datos de una base de datos bibliográfica a EndNot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6920" y="2027160"/>
            <a:ext cx="3168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partir de File-&gt;Import se selecciona el archivo que fue guardado con la búsqueda en la 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o de usar formato RIS (Reference Information Standard), el acceso es más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"/>
          <p:cNvSpPr/>
          <p:nvPr/>
        </p:nvSpPr>
        <p:spPr>
          <a:xfrm flipH="1">
            <a:off x="6227640" y="2781360"/>
            <a:ext cx="1944720" cy="244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4934520" y="515772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leccion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rabajo Independien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rear una Biblioteca personal digitalizada con no menos de 8 refer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aborar un documento de tres páginas donde se haga uso de la Biblioteca anter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ND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dNote es un paquete bibliográfico completo. Permite construir su propia biblioteca personalizada de citas. Puede usarse par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lmacenar sus referencias en una base de dat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scargar referencias de otras bases de dat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rear referencias de manera automática en un documento, usando Microsoft Word 97, 2000, XP, 2003, 2007, 2010, 20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tilizar plantillas para la escritura de artículos en más de 2300 formatos diferentes (ver. 10.0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ndNote está diseñado para ser instalado en una computadora personal sencilla. Puede ser utilizado en re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rear una biblioteca en END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Un Archivo de la Biblioteca EndNote es una colección de referencias a libros, artículos periódicos, etc. Contiene toda la información que se necesita para crear una bibliografía. Si se desea, se puede añadir otra información como resúmenes, palabras clave y not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Acceso a End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Imagen 2" descr=""/>
          <p:cNvPicPr/>
          <p:nvPr/>
        </p:nvPicPr>
        <p:blipFill>
          <a:blip r:embed="rId1"/>
          <a:stretch/>
        </p:blipFill>
        <p:spPr>
          <a:xfrm>
            <a:off x="1778040" y="1521000"/>
            <a:ext cx="43783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Acceso a EndNote desde Wo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Imagen 1" descr=""/>
          <p:cNvPicPr/>
          <p:nvPr/>
        </p:nvPicPr>
        <p:blipFill>
          <a:blip r:embed="rId1"/>
          <a:stretch/>
        </p:blipFill>
        <p:spPr>
          <a:xfrm>
            <a:off x="692280" y="2133720"/>
            <a:ext cx="845172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reación de nueva biblioteca en EndN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Imagen 1" descr=""/>
          <p:cNvPicPr/>
          <p:nvPr/>
        </p:nvPicPr>
        <p:blipFill>
          <a:blip r:embed="rId1"/>
          <a:stretch/>
        </p:blipFill>
        <p:spPr>
          <a:xfrm>
            <a:off x="826920" y="1417680"/>
            <a:ext cx="82249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122400"/>
            <a:ext cx="7174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Guardar nueva bibliote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010640" cy="44751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2339640" y="6308640"/>
            <a:ext cx="55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rchivo creado es una biblioteca EndNote (en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8T03:00:30Z</dcterms:created>
  <dc:creator>Julio Telot González</dc:creator>
  <dc:description/>
  <dc:language>en-US</dc:language>
  <cp:lastModifiedBy>JT</cp:lastModifiedBy>
  <dcterms:modified xsi:type="dcterms:W3CDTF">2015-10-06T15:28:06Z</dcterms:modified>
  <cp:revision>91</cp:revision>
  <dc:subject/>
  <dc:title>El Diseño Teórico y la Formulación de la Propuesta (Proyecto) de Investigación</dc:title>
</cp:coreProperties>
</file>