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7C4-CA33-42C7-A3A8-57290A8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774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412-8B5E-4EA8-A838-23CBC35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1348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388-2555-4D81-9443-48FF9717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9748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6180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9748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86180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112-B831-4B34-BFDD-2DF4150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5A19-F742-447E-B303-F247FA42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4495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A0D-9725-4DE0-93C3-DED6320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D47-F598-49D5-812F-F4CC882A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9DE-24A6-4359-9604-C4A080C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6CD8-E8D9-4443-8519-B7256AA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895120"/>
            <a:ext cx="624816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F44-DC4C-4139-965B-67F155A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9545-5AA1-4EE7-957D-EB6706D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4495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0CC-F4FB-4292-95F3-D1B1BA1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1348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7D68-F804-4931-9F23-13D04E3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B1B-0E89-4AFD-AE37-0ECB857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4774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BC9-A1DA-4827-84C9-7DE0EF2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1348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C329-F44C-4B48-9D4C-47E1E64A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9748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61800" y="4495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9748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861800" y="4774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FDC9-FC31-4B52-A42B-2DCE1E08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0C7-BCD4-4C49-9CDA-FD793F6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378-4C94-4A76-B626-8D38369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39B-369A-408E-8723-FD22E7B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2895120"/>
            <a:ext cx="624816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7D4-F88A-465B-88C3-3C091B06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099-FC2D-42D6-9E81-53E0D1B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13480" y="4774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F3F-39A2-4224-9D16-CFD4D16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13480" y="4495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774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69C-9FAD-400C-9CCF-F220C69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94E-615E-4E8C-BD4C-E7B7D31B3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314280"/>
            <a:ext cx="8665920" cy="733320"/>
          </a:xfrm>
          <a:prstGeom prst="rect">
            <a:avLst/>
          </a:prstGeom>
          <a:gradFill rotWithShape="0">
            <a:gsLst>
              <a:gs pos="0">
                <a:srgbClr val="223461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6" name="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0920" y="1052640"/>
              <a:ext cx="864216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26440" y="46080"/>
            <a:ext cx="1473120" cy="1003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4C0-F06D-4717-A7C0-B1EC4D4E36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werPoint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4572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a7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a9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a971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a971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55110"/>
              </a:gs>
              <a:gs pos="50000">
                <a:srgbClr val="da971e"/>
              </a:gs>
              <a:gs pos="100000">
                <a:srgbClr val="75511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a971e">
                  <a:alpha val="0"/>
                </a:srgbClr>
              </a:gs>
              <a:gs pos="100000">
                <a:srgbClr val="895f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aaa7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aaa7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75b41"/>
              </a:gs>
              <a:gs pos="50000">
                <a:srgbClr val="4aaa7a"/>
              </a:gs>
              <a:gs pos="100000">
                <a:srgbClr val="275b4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aa7a">
                  <a:alpha val="0"/>
                </a:srgbClr>
              </a:gs>
              <a:gs pos="100000">
                <a:srgbClr val="2e6b4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0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a71d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23461"/>
              </a:gs>
              <a:gs pos="100000">
                <a:srgbClr val="4a71d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73c72"/>
              </a:gs>
              <a:gs pos="50000">
                <a:srgbClr val="4a71d4"/>
              </a:gs>
              <a:gs pos="100000">
                <a:srgbClr val="273c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71d4">
                  <a:alpha val="0"/>
                </a:srgbClr>
              </a:gs>
              <a:gs pos="100000">
                <a:srgbClr val="2e478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0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65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a971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352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4cc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0876400">
            <a:off x="2986200" y="49593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7800" y="37400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38320" y="37497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55960" y="37656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38098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35400" y="43671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0826600">
            <a:off x="1143000" y="43495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66680" y="3359160"/>
            <a:ext cx="1371240" cy="1441080"/>
            <a:chOff x="1066680" y="3359160"/>
            <a:chExt cx="1371240" cy="1441080"/>
          </a:xfrm>
        </p:grpSpPr>
        <p:sp>
          <p:nvSpPr>
            <p:cNvPr id="286" name=""/>
            <p:cNvSpPr/>
            <p:nvPr/>
          </p:nvSpPr>
          <p:spPr>
            <a:xfrm>
              <a:off x="1066680" y="33591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84320" y="33674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7640" y="33811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9280" y="34178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47120" y="3865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033560" y="25938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09520" y="19875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22480" y="19922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33640" y="20034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20289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06800" y="2336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00400" y="20638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22440" y="15303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2160" y="15336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5397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75000" y="15588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3000" y="1754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f4f4cc"/>
              </a:gs>
              <a:gs pos="100000">
                <a:srgbClr val="d8d8b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f4f4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2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15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18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1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1dbb2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51" name="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63" name="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385" name="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386" name="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89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92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398" name="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03" name="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04" name="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07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15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20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21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24" name="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27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33" name="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38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39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42" name="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45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51" name="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3" idx="3"/>
            <a:endCxn id="464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4" idx="3"/>
            <a:endCxn id="465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5" idx="3"/>
            <a:endCxn id="466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4450d"/>
              </a:gs>
              <a:gs pos="100000">
                <a:srgbClr val="da971e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3461"/>
              </a:gs>
              <a:gs pos="100000">
                <a:srgbClr val="4a71d4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461"/>
              </a:gs>
              <a:gs pos="100000">
                <a:srgbClr val="4a71d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4450d"/>
              </a:gs>
              <a:gs pos="100000">
                <a:srgbClr val="da971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483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4450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485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12600">
                <a:solidFill>
                  <a:srgbClr val="6c40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491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12600">
                <a:solidFill>
                  <a:srgbClr val="6c40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4450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497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12600">
                <a:solidFill>
                  <a:srgbClr val="6c40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311d37"/>
                  </a:gs>
                  <a:gs pos="50000">
                    <a:srgbClr val="6c4078"/>
                  </a:gs>
                  <a:gs pos="100000">
                    <a:srgbClr val="311d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85800" y="1792440"/>
          <a:ext cx="7620120" cy="3693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4450d"/>
                        </a:gs>
                        <a:gs pos="50000">
                          <a:srgbClr val="da971e"/>
                        </a:gs>
                        <a:gs pos="100000">
                          <a:srgbClr val="64450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4a71d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97240" y="327672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537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9a81"/>
                </a:gs>
                <a:gs pos="100000">
                  <a:srgbClr val="f4f4c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b0b093"/>
                </a:gs>
                <a:gs pos="100000">
                  <a:srgbClr val="f4f4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195920" y="507528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543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95f12"/>
                </a:gs>
                <a:gs pos="100000">
                  <a:srgbClr val="da971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d6d15"/>
                </a:gs>
                <a:gs pos="100000">
                  <a:srgbClr val="da971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5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134160" y="507528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549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e4786"/>
                </a:gs>
                <a:gs pos="100000">
                  <a:srgbClr val="4a71d4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55199"/>
                </a:gs>
                <a:gs pos="100000">
                  <a:srgbClr val="4a7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115240" y="507528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555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e6b4d"/>
                </a:gs>
                <a:gs pos="100000">
                  <a:srgbClr val="4aaa7a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357a58"/>
                </a:gs>
                <a:gs pos="100000">
                  <a:srgbClr val="4aaa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096680" y="507528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3" name="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da971e"/>
                </a:gs>
                <a:gs pos="100000">
                  <a:srgbClr val="64450d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97" name="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a71d4"/>
                </a:gs>
                <a:gs pos="100000">
                  <a:srgbClr val="223461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743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07" name="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da971e"/>
                </a:gs>
                <a:gs pos="100000">
                  <a:srgbClr val="64450d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1" name="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a71d4"/>
                </a:gs>
                <a:gs pos="100000">
                  <a:srgbClr val="223461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635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54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828800" y="373392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4aaa7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4aaa7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290760"/>
            <a:ext cx="20574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c1d3"/>
              </a:gs>
              <a:gs pos="100000">
                <a:srgbClr val="6c40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1f0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9490e"/>
                  </a:gs>
                  <a:gs pos="100000">
                    <a:srgbClr val="da97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a971e"/>
                  </a:gs>
                  <a:gs pos="100000">
                    <a:srgbClr val="edd09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a71d4"/>
                </a:gs>
                <a:gs pos="100000">
                  <a:srgbClr val="2234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fccef"/>
                </a:gs>
                <a:gs pos="100000">
                  <a:srgbClr val="4a71d4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48235"/>
                  </a:srgbClr>
                </a:gs>
                <a:gs pos="100000">
                  <a:srgbClr val="3a59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241600">
            <a:off x="1077840" y="23857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a71d4"/>
              </a:gs>
              <a:gs pos="100000">
                <a:srgbClr val="edf0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4647960" y="22093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056200">
            <a:off x="7467120" y="2514240"/>
            <a:ext cx="106704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056200">
            <a:off x="3047760" y="548604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56200">
            <a:off x="5714640" y="4876560"/>
            <a:ext cx="1066680" cy="30456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056200">
            <a:off x="2057040" y="38095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5238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a971e"/>
              </a:gs>
              <a:gs pos="100000">
                <a:srgbClr val="4a330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3048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a71d4"/>
              </a:gs>
              <a:gs pos="100000">
                <a:srgbClr val="1723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78000" y="47451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3636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114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7524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4aaa7a"/>
              </a:gs>
              <a:gs pos="100000">
                <a:srgbClr val="193a2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8000" y="358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39640" y="1981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71480" y="225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1560" y="4572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0600" y="5195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5100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73200" y="18111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>
            <a:off x="456840" y="18108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534600" y="137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64675">
                  <a:alpha val="12156"/>
                </a:srgbClr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8f8e5"/>
              </a:gs>
            </a:gsLst>
            <a:lin ang="54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8f8e5"/>
              </a:gs>
            </a:gsLst>
            <a:lin ang="54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999ff"/>
              </a:gs>
              <a:gs pos="100000">
                <a:srgbClr val="46467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11d37"/>
              </a:gs>
              <a:gs pos="50000">
                <a:srgbClr val="6c4078"/>
              </a:gs>
              <a:gs pos="100000">
                <a:srgbClr val="311d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bdbd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dbdfe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16200000">
            <a:off x="2812680" y="2869200"/>
            <a:ext cx="4906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9f9ea"/>
              </a:gs>
              <a:gs pos="100000">
                <a:srgbClr val="f4f4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rot="5400000">
            <a:off x="5683320" y="281520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9f9ea"/>
              </a:gs>
              <a:gs pos="100000">
                <a:srgbClr val="f4f4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rot="10800000">
            <a:off x="4249800" y="431640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9f9ea"/>
              </a:gs>
              <a:gs pos="100000">
                <a:srgbClr val="f4f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22720" y="1752480"/>
            <a:ext cx="2563560" cy="2563920"/>
            <a:chOff x="3222720" y="1752480"/>
            <a:chExt cx="2563560" cy="2563920"/>
          </a:xfrm>
        </p:grpSpPr>
        <p:sp>
          <p:nvSpPr>
            <p:cNvPr id="183" name=""/>
            <p:cNvSpPr/>
            <p:nvPr/>
          </p:nvSpPr>
          <p:spPr>
            <a:xfrm>
              <a:off x="3222720" y="17524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6c40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a971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55110"/>
                </a:gs>
                <a:gs pos="50000">
                  <a:srgbClr val="da971e"/>
                </a:gs>
                <a:gs pos="100000">
                  <a:srgbClr val="7551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1"/>
              </a:gs>
              <a:gs pos="50000">
                <a:srgbClr val="4a71d4"/>
              </a:gs>
              <a:gs pos="100000">
                <a:srgbClr val="2234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1d37"/>
              </a:gs>
              <a:gs pos="50000">
                <a:srgbClr val="6c4078"/>
              </a:gs>
              <a:gs pos="100000">
                <a:srgbClr val="311d3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080" y="1295280"/>
            <a:ext cx="5790960" cy="4496040"/>
          </a:xfrm>
          <a:prstGeom prst="rightArrow">
            <a:avLst>
              <a:gd name="adj1" fmla="val 79306"/>
              <a:gd name="adj2" fmla="val 31902"/>
            </a:avLst>
          </a:prstGeom>
          <a:gradFill rotWithShape="0">
            <a:gsLst>
              <a:gs pos="0">
                <a:srgbClr val="4a71d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480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a71d4"/>
              </a:gs>
              <a:gs pos="100000">
                <a:srgbClr val="2234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480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4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21:53Z</dcterms:created>
  <dc:creator>Sung Ha, Park</dc:creator>
  <dc:description/>
  <dc:language>en-US</dc:language>
  <cp:lastModifiedBy>Sung Ha, Park</cp:lastModifiedBy>
  <dcterms:modified xsi:type="dcterms:W3CDTF">2004-11-19T05:23:36Z</dcterms:modified>
  <cp:revision>7</cp:revision>
  <dc:subject/>
  <dc:title>PowerPoint Template</dc:title>
</cp:coreProperties>
</file>