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982-E40C-4DB3-A92E-875621B5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43434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4960" y="3329640"/>
            <a:ext cx="43434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8F6-4B06-4347-8578-A3AB0664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3048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504960" y="33296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30480" y="33296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3AC-1CBD-4E86-B640-ADE2CAB7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73400" y="29714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42200" y="29714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504960" y="33296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973400" y="33296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42200" y="33296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B7E-4764-46A3-B423-8E3CAF52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02C5-D832-4372-B7A8-DDEAC2F6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504960" y="29714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4BB7-47F0-4873-8737-B006D8C3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2B70-CA09-4843-9326-8F0EE273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2119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30480" y="2971440"/>
            <a:ext cx="2119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29B0-BF33-423D-A8CB-511C278A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775E-D672-45F9-8DE6-A9B7B288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990360"/>
            <a:ext cx="670572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32F4-BD82-45FC-8273-9BD99B78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30480" y="2971440"/>
            <a:ext cx="2119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04960" y="33296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BDA9-849E-47C9-8D78-9E03E3B9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504960" y="29714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693-4BA1-41E6-97C6-BBD7E0F8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2119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3048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30480" y="33296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DC95-59E9-41D8-8176-4C4A6330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3048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504960" y="3329640"/>
            <a:ext cx="43434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09AB-C948-47E2-A788-FDF49BD1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43434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4960" y="3329640"/>
            <a:ext cx="43434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F006-80B9-4F47-9CFF-C4A0FA58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3048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504960" y="33296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730480" y="33296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7CF9-00E2-48E0-A6A3-AB57409D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73400" y="29714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42200" y="29714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504960" y="33296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4973400" y="33296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42200" y="3329640"/>
            <a:ext cx="13982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C4B3-C895-4036-9EEB-F398AF64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DD1-3EE6-4B1C-B135-DB158D3B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2119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30480" y="2971440"/>
            <a:ext cx="2119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CA3-567B-45AF-B680-7F84AA14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7A0-A883-472E-A5B4-3CEBFF72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990360"/>
            <a:ext cx="670572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027-4E13-4289-ADAC-6C1E1423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30480" y="2971440"/>
            <a:ext cx="2119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04960" y="33296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2C0-BC95-4B16-8656-DCE10288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2119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3048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30480" y="33296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DFC-EE2D-4311-851A-1E027B09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0496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30480" y="2971440"/>
            <a:ext cx="21193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04960" y="3329640"/>
            <a:ext cx="43434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A45-566A-4EF6-9C9D-F580222F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8965-B69E-4858-A444-8531377163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86c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86c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803B-7C24-48C0-A23C-C0266E2910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5" name="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6705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5086c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504960" y="29714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e8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5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c59d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4c59d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82f71"/>
              </a:gs>
              <a:gs pos="50000">
                <a:srgbClr val="4c59d2"/>
              </a:gs>
              <a:gs pos="100000">
                <a:srgbClr val="282f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c59d2">
                  <a:alpha val="0"/>
                </a:srgbClr>
              </a:gs>
              <a:gs pos="100000">
                <a:srgbClr val="30388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0b5c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0b5c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66169"/>
              </a:gs>
              <a:gs pos="50000">
                <a:srgbClr val="a0b5c4"/>
              </a:gs>
              <a:gs pos="100000">
                <a:srgbClr val="56616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a0b5c4">
                  <a:alpha val="0"/>
                </a:srgbClr>
              </a:gs>
              <a:gs pos="100000">
                <a:srgbClr val="65727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276" name="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e884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3e21"/>
              </a:gs>
              <a:gs pos="100000">
                <a:srgbClr val="de884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74926"/>
              </a:gs>
              <a:gs pos="50000">
                <a:srgbClr val="de8848"/>
              </a:gs>
              <a:gs pos="100000">
                <a:srgbClr val="77492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de8848">
                  <a:alpha val="0"/>
                </a:srgbClr>
              </a:gs>
              <a:gs pos="100000">
                <a:srgbClr val="8c562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286" name="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291" name="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6124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8096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480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18288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c59d2"/>
              </a:gs>
              <a:gs pos="100000">
                <a:srgbClr val="85ba5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41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20876400">
            <a:off x="30114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433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638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811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733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609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0826600">
            <a:off x="11685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92240" y="3276720"/>
            <a:ext cx="1371240" cy="1441080"/>
            <a:chOff x="1092240" y="3276720"/>
            <a:chExt cx="1371240" cy="1441080"/>
          </a:xfrm>
        </p:grpSpPr>
        <p:sp>
          <p:nvSpPr>
            <p:cNvPr id="309" name=""/>
            <p:cNvSpPr/>
            <p:nvPr/>
          </p:nvSpPr>
          <p:spPr>
            <a:xfrm>
              <a:off x="10922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098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232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948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726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990720" y="25113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190512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9640" y="1909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0440" y="19209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44440" y="19461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63960" y="2254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57560" y="19810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79600" y="14479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89320" y="145080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95440" y="1457280"/>
            <a:ext cx="63360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32160" y="14763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50160" y="1671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33520" y="1447920"/>
            <a:ext cx="7543800" cy="4405320"/>
            <a:chOff x="533520" y="1447920"/>
            <a:chExt cx="7543800" cy="4405320"/>
          </a:xfrm>
        </p:grpSpPr>
        <p:sp>
          <p:nvSpPr>
            <p:cNvPr id="328" name=""/>
            <p:cNvSpPr/>
            <p:nvPr/>
          </p:nvSpPr>
          <p:spPr>
            <a:xfrm>
              <a:off x="2454120" y="2147760"/>
              <a:ext cx="3633840" cy="370548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4e9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344760" y="3073320"/>
              <a:ext cx="1852560" cy="1995480"/>
              <a:chOff x="3344760" y="3073320"/>
              <a:chExt cx="1852560" cy="1995480"/>
            </a:xfrm>
          </p:grpSpPr>
          <p:sp>
            <p:nvSpPr>
              <p:cNvPr id="330" name=""/>
              <p:cNvSpPr/>
              <p:nvPr/>
            </p:nvSpPr>
            <p:spPr>
              <a:xfrm>
                <a:off x="3344760" y="3073320"/>
                <a:ext cx="18525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56440" y="3106440"/>
                <a:ext cx="142920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609360" y="385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894120" y="1790640"/>
              <a:ext cx="617400" cy="615960"/>
              <a:chOff x="3894120" y="1790640"/>
              <a:chExt cx="617400" cy="61596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3894120" y="1790640"/>
                <a:ext cx="617400" cy="615960"/>
                <a:chOff x="3894120" y="1790640"/>
                <a:chExt cx="617400" cy="6159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894120" y="179064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e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964680" y="180072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4023360" y="1885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3292920" y="4865040"/>
              <a:ext cx="334080" cy="310320"/>
              <a:chOff x="3292920" y="4865040"/>
              <a:chExt cx="334080" cy="310320"/>
            </a:xfrm>
          </p:grpSpPr>
          <p:sp>
            <p:nvSpPr>
              <p:cNvPr id="339" name=""/>
              <p:cNvSpPr/>
              <p:nvPr/>
            </p:nvSpPr>
            <p:spPr>
              <a:xfrm rot="18226800">
                <a:off x="3317400" y="5027760"/>
                <a:ext cx="122040" cy="12420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a788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226800">
                <a:off x="3480480" y="4888080"/>
                <a:ext cx="122040" cy="12420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a788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727360" y="5135400"/>
              <a:ext cx="617400" cy="642960"/>
              <a:chOff x="2727360" y="5135400"/>
              <a:chExt cx="617400" cy="6429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727360" y="5135400"/>
                <a:ext cx="617400" cy="642960"/>
                <a:chOff x="2727360" y="5135400"/>
                <a:chExt cx="617400" cy="642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727360" y="5135400"/>
                  <a:ext cx="61740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62b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797920" y="5145840"/>
                  <a:ext cx="47628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2852280" y="5256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5748480" y="3073320"/>
              <a:ext cx="614160" cy="649440"/>
              <a:chOff x="5748480" y="3073320"/>
              <a:chExt cx="614160" cy="64944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5748480" y="3073320"/>
                <a:ext cx="614160" cy="649440"/>
                <a:chOff x="5748480" y="3073320"/>
                <a:chExt cx="614160" cy="6494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748480" y="3073320"/>
                  <a:ext cx="61416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79e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818680" y="3083760"/>
                  <a:ext cx="47376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5860080" y="3162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197320" y="5140440"/>
              <a:ext cx="587520" cy="582480"/>
              <a:chOff x="5197320" y="5140440"/>
              <a:chExt cx="587520" cy="58248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5197320" y="5140440"/>
                <a:ext cx="587520" cy="582480"/>
                <a:chOff x="5197320" y="5140440"/>
                <a:chExt cx="587520" cy="582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197320" y="514044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264280" y="514980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5316840" y="517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247840" y="3073320"/>
              <a:ext cx="617760" cy="641520"/>
              <a:chOff x="2247840" y="3073320"/>
              <a:chExt cx="617760" cy="6415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2247840" y="3073320"/>
                <a:ext cx="617760" cy="641520"/>
                <a:chOff x="2247840" y="3073320"/>
                <a:chExt cx="617760" cy="6415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247840" y="307332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43d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18400" y="308376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2373480" y="314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18226800">
              <a:off x="5128920" y="4995360"/>
              <a:ext cx="12204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8226800">
              <a:off x="4992480" y="48538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10600" y="3477960"/>
              <a:ext cx="375840" cy="239760"/>
              <a:chOff x="2910600" y="3477960"/>
              <a:chExt cx="375840" cy="239760"/>
            </a:xfrm>
          </p:grpSpPr>
          <p:sp>
            <p:nvSpPr>
              <p:cNvPr id="364" name=""/>
              <p:cNvSpPr/>
              <p:nvPr/>
            </p:nvSpPr>
            <p:spPr>
              <a:xfrm rot="18226800">
                <a:off x="2935080" y="3500280"/>
                <a:ext cx="120960" cy="12420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7f4e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226800">
                <a:off x="3141000" y="3570840"/>
                <a:ext cx="120600" cy="12420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b412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145400" y="2520720"/>
              <a:ext cx="170640" cy="433800"/>
              <a:chOff x="4145400" y="2520720"/>
              <a:chExt cx="170640" cy="433800"/>
            </a:xfrm>
          </p:grpSpPr>
          <p:sp>
            <p:nvSpPr>
              <p:cNvPr id="367" name=""/>
              <p:cNvSpPr/>
              <p:nvPr/>
            </p:nvSpPr>
            <p:spPr>
              <a:xfrm rot="18226800">
                <a:off x="4169520" y="254376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4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226800">
                <a:off x="4169520" y="280764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05a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rot="18226800">
              <a:off x="5489280" y="3525840"/>
              <a:ext cx="122400" cy="125640"/>
            </a:xfrm>
            <a:prstGeom prst="ellipse">
              <a:avLst/>
            </a:prstGeom>
            <a:gradFill rotWithShape="0">
              <a:gsLst>
                <a:gs pos="0">
                  <a:srgbClr val="7780dc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8226800">
              <a:off x="5266440" y="3642480"/>
              <a:ext cx="122400" cy="123840"/>
            </a:xfrm>
            <a:prstGeom prst="ellipse">
              <a:avLst/>
            </a:prstGeom>
            <a:gradFill rotWithShape="0">
              <a:gsLst>
                <a:gs pos="0">
                  <a:srgbClr val="7780dc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520" y="32162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44760" y="144792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62640" y="32288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7624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1328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7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2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3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6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7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0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9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4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5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8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6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1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2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5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4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9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0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3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2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6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5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86c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9" name=""/>
            <p:cNvCxnSpPr>
              <a:stCxn id="505" idx="3"/>
              <a:endCxn id="50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506" idx="3"/>
              <a:endCxn id="50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066680" y="1752480"/>
            <a:ext cx="6782040" cy="4006440"/>
            <a:chOff x="1066680" y="1752480"/>
            <a:chExt cx="6782040" cy="4006440"/>
          </a:xfrm>
        </p:grpSpPr>
        <p:sp>
          <p:nvSpPr>
            <p:cNvPr id="514" name=""/>
            <p:cNvSpPr/>
            <p:nvPr/>
          </p:nvSpPr>
          <p:spPr>
            <a:xfrm>
              <a:off x="1066680" y="19371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eff5e9"/>
                </a:gs>
              </a:gsLst>
              <a:lin ang="5400000"/>
            </a:gradFill>
            <a:ln w="2556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1251360" y="23688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3688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137484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5526"/>
                </a:gs>
                <a:gs pos="50000">
                  <a:srgbClr val="85ba54"/>
                </a:gs>
                <a:gs pos="100000">
                  <a:srgbClr val="3d55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9832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4084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19440" y="19371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e4e9ed"/>
                </a:gs>
              </a:gsLst>
              <a:lin ang="5400000"/>
            </a:gradFill>
            <a:ln w="25560">
              <a:solidFill>
                <a:srgbClr val="a0b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21" name=""/>
            <p:cNvGraphicFramePr/>
            <p:nvPr/>
          </p:nvGraphicFramePr>
          <p:xfrm>
            <a:off x="4704120" y="23688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3688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3" name=""/>
            <p:cNvSpPr/>
            <p:nvPr/>
          </p:nvSpPr>
          <p:spPr>
            <a:xfrm>
              <a:off x="482760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5072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9360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a0b5c4"/>
              </a:gs>
              <a:gs pos="100000">
                <a:srgbClr val="49535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6552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de8848"/>
              </a:gs>
              <a:gs pos="100000">
                <a:srgbClr val="663e2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5ba54"/>
              </a:gs>
              <a:gs pos="100000">
                <a:srgbClr val="3d552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3418800">
            <a:off x="4916160" y="3008160"/>
            <a:ext cx="923760" cy="1003320"/>
          </a:xfrm>
          <a:prstGeom prst="rect">
            <a:avLst/>
          </a:prstGeom>
          <a:gradFill rotWithShape="0">
            <a:gsLst>
              <a:gs pos="0">
                <a:srgbClr val="4c59d2"/>
              </a:gs>
              <a:gs pos="100000">
                <a:srgbClr val="23296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27952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38080" y="2165400"/>
          <a:ext cx="6934320" cy="3168720"/>
        </p:xfrm>
        <a:graphic>
          <a:graphicData uri="http://schemas.openxmlformats.org/drawingml/2006/table">
            <a:tbl>
              <a:tblPr/>
              <a:tblGrid>
                <a:gridCol w="1563480"/>
                <a:gridCol w="1090800"/>
                <a:gridCol w="1069920"/>
                <a:gridCol w="1068480"/>
                <a:gridCol w="1074600"/>
                <a:gridCol w="106704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12280" y="562680"/>
            <a:ext cx="7379640" cy="5581800"/>
            <a:chOff x="512280" y="562680"/>
            <a:chExt cx="7379640" cy="5581800"/>
          </a:xfrm>
        </p:grpSpPr>
        <p:sp>
          <p:nvSpPr>
            <p:cNvPr id="547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8c94e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de8848"/>
                </a:gs>
                <a:gs pos="100000">
                  <a:srgbClr val="9a5e3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2b7eb"/>
                </a:gs>
                <a:gs pos="100000">
                  <a:srgbClr val="4c59d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d5526"/>
                </a:gs>
                <a:gs pos="100000">
                  <a:srgbClr val="85ba54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0b5c4">
                    <a:alpha val="19215"/>
                  </a:srgbClr>
                </a:gs>
                <a:gs pos="100000">
                  <a:srgbClr val="6572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6f7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539200">
              <a:off x="930600" y="14666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5b6770"/>
                </a:gs>
                <a:gs pos="100000">
                  <a:srgbClr val="a0b5c4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7d8e99"/>
                </a:gs>
                <a:gs pos="100000">
                  <a:srgbClr val="a0b5c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676520" y="1828800"/>
          <a:ext cx="5610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61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0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ba54"/>
                </a:gs>
                <a:gs pos="100000">
                  <a:srgbClr val="e4efd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5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8848"/>
                </a:gs>
                <a:gs pos="100000">
                  <a:srgbClr val="f7e4d7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0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86c2"/>
                </a:gs>
                <a:gs pos="100000">
                  <a:srgbClr val="d9e4f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5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b5c4"/>
                </a:gs>
                <a:gs pos="100000">
                  <a:srgbClr val="e9eef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581280" y="34290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e8848"/>
                    </a:gs>
                    <a:gs pos="100000">
                      <a:srgbClr val="5086c2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e8848"/>
                  </a:gs>
                  <a:gs pos="100000">
                    <a:srgbClr val="5086c2"/>
                  </a:gs>
                </a:gsLst>
                <a:lin ang="1080000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91760"/>
            <a:ext cx="722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3840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0d291"/>
              </a:gs>
              <a:gs pos="100000">
                <a:srgbClr val="85ba5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6d7ea"/>
              </a:gs>
              <a:gs pos="100000">
                <a:srgbClr val="5086c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138" name="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139" name="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26405d"/>
                  </a:gs>
                  <a:gs pos="100000">
                    <a:srgbClr val="5086c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0c8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63e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f2d4be"/>
                </a:gs>
                <a:gs pos="100000">
                  <a:srgbClr val="de8848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48235"/>
                  </a:srgbClr>
                </a:gs>
                <a:gs pos="100000">
                  <a:srgbClr val="af6b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88296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9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e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452a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7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1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63e21"/>
                </a:gs>
                <a:gs pos="50000">
                  <a:srgbClr val="de8848"/>
                </a:gs>
                <a:gs pos="100000">
                  <a:srgbClr val="663e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0"/>
                </a:gs>
                <a:gs pos="50000">
                  <a:srgbClr val="4c59d2"/>
                </a:gs>
                <a:gs pos="100000">
                  <a:srgbClr val="2329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1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92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9cee6"/>
                  </a:gs>
                  <a:gs pos="100000">
                    <a:srgbClr val="5086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9cee6"/>
                  </a:gs>
                  <a:gs pos="100000">
                    <a:srgbClr val="5086c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9cee6"/>
                  </a:gs>
                  <a:gs pos="100000">
                    <a:srgbClr val="5086c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59d2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282f71"/>
                  </a:gs>
                  <a:gs pos="50000">
                    <a:srgbClr val="4c59d2"/>
                  </a:gs>
                  <a:gs pos="100000">
                    <a:srgbClr val="282f7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3e21"/>
                </a:gs>
                <a:gs pos="50000">
                  <a:srgbClr val="de8848"/>
                </a:gs>
                <a:gs pos="100000">
                  <a:srgbClr val="663e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3e21"/>
                </a:gs>
                <a:gs pos="50000">
                  <a:srgbClr val="de8848"/>
                </a:gs>
                <a:gs pos="100000">
                  <a:srgbClr val="663e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3e21"/>
                </a:gs>
                <a:gs pos="50000">
                  <a:srgbClr val="de8848"/>
                </a:gs>
                <a:gs pos="100000">
                  <a:srgbClr val="663e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0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d5526"/>
                </a:gs>
                <a:gs pos="50000">
                  <a:srgbClr val="85ba54"/>
                </a:gs>
                <a:gs pos="100000">
                  <a:srgbClr val="3d552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5b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2960"/>
                </a:gs>
                <a:gs pos="50000">
                  <a:srgbClr val="4c59d2"/>
                </a:gs>
                <a:gs pos="100000">
                  <a:srgbClr val="2329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172f"/>
                </a:gs>
                <a:gs pos="50000">
                  <a:srgbClr val="003366"/>
                </a:gs>
                <a:gs pos="100000">
                  <a:srgbClr val="0017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0863c"/>
                </a:gs>
                <a:gs pos="50000">
                  <a:srgbClr val="85ba54"/>
                </a:gs>
                <a:gs pos="100000">
                  <a:srgbClr val="60863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64097"/>
                </a:gs>
                <a:gs pos="50000">
                  <a:srgbClr val="4c59d2"/>
                </a:gs>
                <a:gs pos="100000">
                  <a:srgbClr val="36409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0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3828d"/>
                </a:gs>
                <a:gs pos="50000">
                  <a:srgbClr val="a0b5c4"/>
                </a:gs>
                <a:gs pos="100000">
                  <a:srgbClr val="7382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2449"/>
                </a:gs>
                <a:gs pos="50000">
                  <a:srgbClr val="003366"/>
                </a:gs>
                <a:gs pos="100000">
                  <a:srgbClr val="0024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32800" y="1065600"/>
            <a:ext cx="5481000" cy="5149080"/>
            <a:chOff x="1432800" y="1065600"/>
            <a:chExt cx="5481000" cy="5149080"/>
          </a:xfrm>
        </p:grpSpPr>
        <p:sp>
          <p:nvSpPr>
            <p:cNvPr id="245" name=""/>
            <p:cNvSpPr/>
            <p:nvPr/>
          </p:nvSpPr>
          <p:spPr>
            <a:xfrm rot="20805000">
              <a:off x="4400640" y="27990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fefefe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61200">
              <a:off x="2606400" y="2351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4128200">
              <a:off x="4456800" y="82116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65868"/>
                </a:gs>
                <a:gs pos="100000">
                  <a:srgbClr val="fefefe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432800" y="1571040"/>
              <a:ext cx="5481000" cy="4643640"/>
              <a:chOff x="1432800" y="1571040"/>
              <a:chExt cx="5481000" cy="4643640"/>
            </a:xfrm>
          </p:grpSpPr>
          <p:sp>
            <p:nvSpPr>
              <p:cNvPr id="249" name=""/>
              <p:cNvSpPr/>
              <p:nvPr/>
            </p:nvSpPr>
            <p:spPr>
              <a:xfrm>
                <a:off x="4203000" y="289872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256200">
                <a:off x="2606400" y="219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4922600">
                <a:off x="4584240" y="105048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692520" y="2862360"/>
              <a:ext cx="1339920" cy="1338120"/>
              <a:chOff x="3692520" y="2862360"/>
              <a:chExt cx="1339920" cy="1338120"/>
            </a:xfrm>
          </p:grpSpPr>
          <p:sp>
            <p:nvSpPr>
              <p:cNvPr id="253" name=""/>
              <p:cNvSpPr/>
              <p:nvPr/>
            </p:nvSpPr>
            <p:spPr>
              <a:xfrm>
                <a:off x="3692520" y="286236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12828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45520" y="288432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888000" y="33530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73360" y="3052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68720" y="22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03720" y="4775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7:12:51Z</dcterms:modified>
  <cp:revision>41</cp:revision>
  <dc:subject/>
  <dc:title>PowerPoint Template</dc:title>
</cp:coreProperties>
</file>