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1DF-4A3F-4BD7-B029-B325A6FD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F48-B6FF-49B9-AB4E-61D5B120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2D1-1F45-4D3A-ADD4-0E685DFF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2484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176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3792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2484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176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ED9-B80F-4391-B15C-E7CAB329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6467-AD2C-4AC3-89EF-8710E12E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1A2-713B-4CBA-BADA-9A70D88A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6376-05D4-4F24-BD9A-0F87B2B1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5EFC-8211-4AC0-8F09-DB26B7A2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0310-3388-45B3-8A14-CD98765B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848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57DC-62F7-4BFF-9C56-BFAA96CE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5D94-B4D3-4396-BBF2-D7F0A0D2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96D-8750-439C-BE16-344B71DE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ECFB-EA9F-4838-8115-0EEDE39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F5B9-1FEF-46A9-BEBF-21222B80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2D76-DA24-4FF8-9B8C-E2F10A7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E60-9F5E-425E-BAD1-CFA6869F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484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176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3792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2484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176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133C-3E7E-406C-AAAD-D886B822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B09-23BE-4517-A9AD-0DFAEA87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D2F-B5A5-41B9-BB41-CCF99BF9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116-039D-4BE7-93EC-0284502C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848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90E-9346-4BFD-97AF-DE7BF19B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9AE-8329-4734-90A7-4051BB2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AD4-E33D-4C7D-AE1E-F22E9F20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4CD-EFA0-4D26-A68D-484BFE6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7676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95880" y="62672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1272-F2B9-4D5C-BD6B-46DE579F3F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24680" y="15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3663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98F-C82F-4927-BAE8-AB6B5E591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58160" y="1857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3663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4.wmf"/><Relationship Id="rId6" Type="http://schemas.openxmlformats.org/officeDocument/2006/relationships/image" Target="../media/image6.png"/><Relationship Id="rId7" Type="http://schemas.openxmlformats.org/officeDocument/2006/relationships/image" Target="../media/image4.wmf"/><Relationship Id="rId8" Type="http://schemas.openxmlformats.org/officeDocument/2006/relationships/image" Target="../media/image7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196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88520" y="3581280"/>
            <a:ext cx="75960" cy="228600"/>
          </a:xfrm>
          <a:prstGeom prst="rect">
            <a:avLst/>
          </a:prstGeom>
          <a:solidFill>
            <a:srgbClr val="e36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476d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476d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e3f76"/>
              </a:gs>
              <a:gs pos="50000">
                <a:srgbClr val="7476dc"/>
              </a:gs>
              <a:gs pos="100000">
                <a:srgbClr val="3e3f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7476dc">
                  <a:alpha val="0"/>
                </a:srgbClr>
              </a:gs>
              <a:gs pos="100000">
                <a:srgbClr val="494a8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fb24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fb24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45f23"/>
              </a:gs>
              <a:gs pos="50000">
                <a:srgbClr val="7fb242"/>
              </a:gs>
              <a:gs pos="100000">
                <a:srgbClr val="445f2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fb242">
                  <a:alpha val="0"/>
                </a:srgbClr>
              </a:gs>
              <a:gs pos="100000">
                <a:srgbClr val="5070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2" name="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99d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0486b"/>
              </a:gs>
              <a:gs pos="100000">
                <a:srgbClr val="699d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8547d"/>
              </a:gs>
              <a:gs pos="50000">
                <a:srgbClr val="699de9"/>
              </a:gs>
              <a:gs pos="100000">
                <a:srgbClr val="3854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699de9">
                  <a:alpha val="0"/>
                </a:srgbClr>
              </a:gs>
              <a:gs pos="100000">
                <a:srgbClr val="4263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2" name="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67" name="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3663f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88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14" name="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3663f"/>
                </a:gs>
                <a:gs pos="100000">
                  <a:srgbClr val="6d31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c6b8"/>
                </a:gs>
                <a:gs pos="100000">
                  <a:srgbClr val="e366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476d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53665"/>
              </a:gs>
              <a:gs pos="100000">
                <a:srgbClr val="7476d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e3f76"/>
              </a:gs>
              <a:gs pos="50000">
                <a:srgbClr val="7476dc"/>
              </a:gs>
              <a:gs pos="100000">
                <a:srgbClr val="3e3f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7476dc">
                  <a:alpha val="0"/>
                </a:srgbClr>
              </a:gs>
              <a:gs pos="100000">
                <a:srgbClr val="494a8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21" name="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34" name="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3663f"/>
                </a:gs>
                <a:gs pos="100000">
                  <a:srgbClr val="6d31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c6b8"/>
                </a:gs>
                <a:gs pos="100000">
                  <a:srgbClr val="e366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37" name="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3663f"/>
                </a:gs>
                <a:gs pos="100000">
                  <a:srgbClr val="6d31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c6b8"/>
                </a:gs>
                <a:gs pos="100000">
                  <a:srgbClr val="e366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40" name="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3663f"/>
                </a:gs>
                <a:gs pos="100000">
                  <a:srgbClr val="6d31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c6b8"/>
                </a:gs>
                <a:gs pos="100000">
                  <a:srgbClr val="e366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43" name="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3663f"/>
                </a:gs>
                <a:gs pos="100000">
                  <a:srgbClr val="6d31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c6b8"/>
                </a:gs>
                <a:gs pos="100000">
                  <a:srgbClr val="e366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46" name="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3663f"/>
                </a:gs>
                <a:gs pos="100000">
                  <a:srgbClr val="6d31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c6b8"/>
                </a:gs>
                <a:gs pos="100000">
                  <a:srgbClr val="e3663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9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4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04840" y="2438280"/>
            <a:ext cx="8744040" cy="3591360"/>
            <a:chOff x="204840" y="2438280"/>
            <a:chExt cx="8744040" cy="3591360"/>
          </a:xfrm>
        </p:grpSpPr>
        <p:sp>
          <p:nvSpPr>
            <p:cNvPr id="395" name=""/>
            <p:cNvSpPr/>
            <p:nvPr/>
          </p:nvSpPr>
          <p:spPr>
            <a:xfrm>
              <a:off x="204840" y="3145320"/>
              <a:ext cx="8744040" cy="50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4840" y="3194640"/>
              <a:ext cx="8744040" cy="13356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907880" y="3445200"/>
              <a:ext cx="1612080" cy="2516040"/>
              <a:chOff x="4907880" y="3445200"/>
              <a:chExt cx="1612080" cy="251604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4907880" y="3616200"/>
                <a:ext cx="1486080" cy="2345040"/>
                <a:chOff x="4907880" y="3616200"/>
                <a:chExt cx="1486080" cy="2345040"/>
              </a:xfrm>
            </p:grpSpPr>
            <p:sp>
              <p:nvSpPr>
                <p:cNvPr id="399" name=""/>
                <p:cNvSpPr/>
                <p:nvPr/>
              </p:nvSpPr>
              <p:spPr>
                <a:xfrm rot="3876600">
                  <a:off x="4479480" y="4521960"/>
                  <a:ext cx="2342880" cy="5331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876600">
                  <a:off x="5887080" y="5429160"/>
                  <a:ext cx="368280" cy="4363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5379840" y="3445200"/>
                <a:ext cx="1140120" cy="1799640"/>
                <a:chOff x="5379840" y="3445200"/>
                <a:chExt cx="1140120" cy="1799640"/>
              </a:xfrm>
            </p:grpSpPr>
            <p:sp>
              <p:nvSpPr>
                <p:cNvPr id="402" name=""/>
                <p:cNvSpPr/>
                <p:nvPr/>
              </p:nvSpPr>
              <p:spPr>
                <a:xfrm flipV="1" rot="3876600">
                  <a:off x="5050800" y="4140000"/>
                  <a:ext cx="1797840" cy="4089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 rot="3876600">
                  <a:off x="6114600" y="4844520"/>
                  <a:ext cx="282600" cy="3344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4438800" y="2586600"/>
              <a:ext cx="1376640" cy="1347480"/>
              <a:chOff x="4438800" y="2586600"/>
              <a:chExt cx="1376640" cy="1347480"/>
            </a:xfrm>
          </p:grpSpPr>
          <p:sp>
            <p:nvSpPr>
              <p:cNvPr id="405" name=""/>
              <p:cNvSpPr/>
              <p:nvPr/>
            </p:nvSpPr>
            <p:spPr>
              <a:xfrm>
                <a:off x="4438800" y="2586600"/>
                <a:ext cx="1376640" cy="134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38800" y="2586600"/>
                <a:ext cx="1376640" cy="1347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29520" y="2674080"/>
                <a:ext cx="1194840" cy="117072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529520" y="2676960"/>
                <a:ext cx="1194840" cy="1170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588560" y="2733480"/>
                <a:ext cx="1076400" cy="1053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4605480" y="2749680"/>
                <a:ext cx="1042560" cy="1022040"/>
                <a:chOff x="4605480" y="2749680"/>
                <a:chExt cx="1042560" cy="10220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605480" y="2749680"/>
                  <a:ext cx="1042560" cy="102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618440" y="2755080"/>
                  <a:ext cx="1017720" cy="99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629600" y="2765160"/>
                  <a:ext cx="967680" cy="93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86120" y="2791080"/>
                  <a:ext cx="86004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7042320" y="3513600"/>
              <a:ext cx="1612080" cy="2516040"/>
              <a:chOff x="7042320" y="3513600"/>
              <a:chExt cx="1612080" cy="251604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7042320" y="3684600"/>
                <a:ext cx="1486080" cy="2345040"/>
                <a:chOff x="7042320" y="3684600"/>
                <a:chExt cx="1486080" cy="2345040"/>
              </a:xfrm>
            </p:grpSpPr>
            <p:sp>
              <p:nvSpPr>
                <p:cNvPr id="417" name=""/>
                <p:cNvSpPr/>
                <p:nvPr/>
              </p:nvSpPr>
              <p:spPr>
                <a:xfrm rot="3876600">
                  <a:off x="6613920" y="4590360"/>
                  <a:ext cx="2342880" cy="5331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3876600">
                  <a:off x="8021520" y="5497560"/>
                  <a:ext cx="368280" cy="4363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7514280" y="3513600"/>
                <a:ext cx="1140120" cy="1799640"/>
                <a:chOff x="7514280" y="3513600"/>
                <a:chExt cx="1140120" cy="1799640"/>
              </a:xfrm>
            </p:grpSpPr>
            <p:sp>
              <p:nvSpPr>
                <p:cNvPr id="420" name=""/>
                <p:cNvSpPr/>
                <p:nvPr/>
              </p:nvSpPr>
              <p:spPr>
                <a:xfrm flipV="1" rot="3876600">
                  <a:off x="7185240" y="4208400"/>
                  <a:ext cx="1797840" cy="4089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 rot="3876600">
                  <a:off x="8249040" y="4912920"/>
                  <a:ext cx="282600" cy="3344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2" name=""/>
            <p:cNvSpPr/>
            <p:nvPr/>
          </p:nvSpPr>
          <p:spPr>
            <a:xfrm>
              <a:off x="6365160" y="2438280"/>
              <a:ext cx="1654200" cy="1616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65160" y="2438280"/>
              <a:ext cx="1654200" cy="1616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76040" y="2543400"/>
              <a:ext cx="1435680" cy="140400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77480" y="2546640"/>
              <a:ext cx="1436040" cy="14040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47320" y="2615040"/>
              <a:ext cx="1293120" cy="1262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6566760" y="2634120"/>
              <a:ext cx="1253880" cy="1225800"/>
              <a:chOff x="6566760" y="2634120"/>
              <a:chExt cx="1253880" cy="1225800"/>
            </a:xfrm>
          </p:grpSpPr>
          <p:sp>
            <p:nvSpPr>
              <p:cNvPr id="428" name=""/>
              <p:cNvSpPr/>
              <p:nvPr/>
            </p:nvSpPr>
            <p:spPr>
              <a:xfrm>
                <a:off x="6566760" y="2634120"/>
                <a:ext cx="1253880" cy="1225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582600" y="2640960"/>
                <a:ext cx="1224000" cy="1195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95560" y="2652480"/>
                <a:ext cx="1163520" cy="1117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3960" y="2683800"/>
                <a:ext cx="1034280" cy="906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949120" y="3445200"/>
              <a:ext cx="1612440" cy="2516040"/>
              <a:chOff x="2949120" y="3445200"/>
              <a:chExt cx="1612440" cy="251604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2949120" y="3616200"/>
                <a:ext cx="1486080" cy="2345040"/>
                <a:chOff x="2949120" y="3616200"/>
                <a:chExt cx="1486080" cy="2345040"/>
              </a:xfrm>
            </p:grpSpPr>
            <p:sp>
              <p:nvSpPr>
                <p:cNvPr id="434" name=""/>
                <p:cNvSpPr/>
                <p:nvPr/>
              </p:nvSpPr>
              <p:spPr>
                <a:xfrm rot="3876600">
                  <a:off x="2520720" y="4521960"/>
                  <a:ext cx="2342880" cy="5331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3876600">
                  <a:off x="3928680" y="5429160"/>
                  <a:ext cx="368280" cy="4363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421440" y="3445200"/>
                <a:ext cx="1140120" cy="1799640"/>
                <a:chOff x="3421440" y="3445200"/>
                <a:chExt cx="1140120" cy="1799640"/>
              </a:xfrm>
            </p:grpSpPr>
            <p:sp>
              <p:nvSpPr>
                <p:cNvPr id="437" name=""/>
                <p:cNvSpPr/>
                <p:nvPr/>
              </p:nvSpPr>
              <p:spPr>
                <a:xfrm flipV="1" rot="3876600">
                  <a:off x="3092400" y="4140000"/>
                  <a:ext cx="1797840" cy="4089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 rot="3876600">
                  <a:off x="4156200" y="4844520"/>
                  <a:ext cx="282600" cy="3344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9" name=""/>
            <p:cNvGrpSpPr/>
            <p:nvPr/>
          </p:nvGrpSpPr>
          <p:grpSpPr>
            <a:xfrm>
              <a:off x="2480040" y="2586600"/>
              <a:ext cx="1377000" cy="1347480"/>
              <a:chOff x="2480040" y="2586600"/>
              <a:chExt cx="1377000" cy="1347480"/>
            </a:xfrm>
          </p:grpSpPr>
          <p:sp>
            <p:nvSpPr>
              <p:cNvPr id="440" name=""/>
              <p:cNvSpPr/>
              <p:nvPr/>
            </p:nvSpPr>
            <p:spPr>
              <a:xfrm>
                <a:off x="2480040" y="2586600"/>
                <a:ext cx="1377000" cy="134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80040" y="2586600"/>
                <a:ext cx="1377000" cy="1347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70760" y="2674080"/>
                <a:ext cx="1195200" cy="117072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70760" y="2676960"/>
                <a:ext cx="1195200" cy="1170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630160" y="2733480"/>
                <a:ext cx="1076400" cy="1053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2646720" y="2749680"/>
                <a:ext cx="1042920" cy="1022040"/>
                <a:chOff x="2646720" y="2749680"/>
                <a:chExt cx="1042920" cy="10220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646720" y="2749680"/>
                  <a:ext cx="1042920" cy="102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659680" y="2755080"/>
                  <a:ext cx="1018080" cy="99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670840" y="2765160"/>
                  <a:ext cx="968040" cy="93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727360" y="2791080"/>
                  <a:ext cx="86040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0" name=""/>
            <p:cNvGrpSpPr/>
            <p:nvPr/>
          </p:nvGrpSpPr>
          <p:grpSpPr>
            <a:xfrm>
              <a:off x="1053000" y="3445200"/>
              <a:ext cx="1612440" cy="2516040"/>
              <a:chOff x="1053000" y="3445200"/>
              <a:chExt cx="1612440" cy="251604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053000" y="3616200"/>
                <a:ext cx="1486080" cy="2345040"/>
                <a:chOff x="1053000" y="3616200"/>
                <a:chExt cx="1486080" cy="2345040"/>
              </a:xfrm>
            </p:grpSpPr>
            <p:sp>
              <p:nvSpPr>
                <p:cNvPr id="452" name=""/>
                <p:cNvSpPr/>
                <p:nvPr/>
              </p:nvSpPr>
              <p:spPr>
                <a:xfrm rot="3876600">
                  <a:off x="624600" y="4521960"/>
                  <a:ext cx="2342880" cy="5331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3876600">
                  <a:off x="2032560" y="5429160"/>
                  <a:ext cx="368280" cy="4363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1525320" y="3445200"/>
                <a:ext cx="1140120" cy="1799640"/>
                <a:chOff x="1525320" y="3445200"/>
                <a:chExt cx="1140120" cy="1799640"/>
              </a:xfrm>
            </p:grpSpPr>
            <p:sp>
              <p:nvSpPr>
                <p:cNvPr id="455" name=""/>
                <p:cNvSpPr/>
                <p:nvPr/>
              </p:nvSpPr>
              <p:spPr>
                <a:xfrm flipV="1" rot="3876600">
                  <a:off x="1196280" y="4140000"/>
                  <a:ext cx="1797840" cy="4089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 rot="3876600">
                  <a:off x="2260080" y="4844520"/>
                  <a:ext cx="282600" cy="3344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583920" y="2586600"/>
              <a:ext cx="1377000" cy="1347480"/>
              <a:chOff x="583920" y="2586600"/>
              <a:chExt cx="1377000" cy="1347480"/>
            </a:xfrm>
          </p:grpSpPr>
          <p:sp>
            <p:nvSpPr>
              <p:cNvPr id="458" name=""/>
              <p:cNvSpPr/>
              <p:nvPr/>
            </p:nvSpPr>
            <p:spPr>
              <a:xfrm>
                <a:off x="583920" y="2586600"/>
                <a:ext cx="1377000" cy="134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3920" y="2586600"/>
                <a:ext cx="1377000" cy="1347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74640" y="2674080"/>
                <a:ext cx="1195200" cy="117072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74640" y="2676960"/>
                <a:ext cx="1195200" cy="1170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4040" y="2733480"/>
                <a:ext cx="1076400" cy="1053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750600" y="2749680"/>
                <a:ext cx="1042920" cy="1022040"/>
                <a:chOff x="750600" y="2749680"/>
                <a:chExt cx="1042920" cy="10220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750600" y="2749680"/>
                  <a:ext cx="1042920" cy="102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63560" y="2755080"/>
                  <a:ext cx="1018080" cy="99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74720" y="2765160"/>
                  <a:ext cx="968040" cy="93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31240" y="2791080"/>
                  <a:ext cx="86040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"/>
            <p:cNvSpPr/>
            <p:nvPr/>
          </p:nvSpPr>
          <p:spPr>
            <a:xfrm rot="3925800">
              <a:off x="1040040" y="44362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3925800">
              <a:off x="1529280" y="416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3925800">
              <a:off x="2930040" y="44362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3925800">
              <a:off x="3420720" y="416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3925800">
              <a:off x="4897440" y="44362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925800">
              <a:off x="5388120" y="416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3925800">
              <a:off x="7016760" y="4585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3925800">
              <a:off x="7504200" y="4307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777960" y="1871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68400" y="1871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49840" y="1871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95000" y="1828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6" idx="3"/>
            <a:endCxn id="477" idx="1"/>
          </p:cNvCxnSpPr>
          <p:nvPr/>
        </p:nvCxnSpPr>
        <p:spPr>
          <a:xfrm>
            <a:off x="1514160" y="205560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7" idx="3"/>
            <a:endCxn id="478" idx="1"/>
          </p:cNvCxnSpPr>
          <p:nvPr/>
        </p:nvCxnSpPr>
        <p:spPr>
          <a:xfrm>
            <a:off x="3504960" y="205560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8" idx="3"/>
            <a:endCxn id="479" idx="1"/>
          </p:cNvCxnSpPr>
          <p:nvPr/>
        </p:nvCxnSpPr>
        <p:spPr>
          <a:xfrm>
            <a:off x="5486040" y="205596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82f1d"/>
              </a:gs>
              <a:gs pos="100000">
                <a:srgbClr val="e3663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53665"/>
              </a:gs>
              <a:gs pos="100000">
                <a:srgbClr val="7476d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0486b"/>
              </a:gs>
              <a:gs pos="100000">
                <a:srgbClr val="699de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486b"/>
              </a:gs>
              <a:gs pos="100000">
                <a:srgbClr val="699d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53665"/>
              </a:gs>
              <a:gs pos="100000">
                <a:srgbClr val="7476d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2f1d"/>
              </a:gs>
              <a:gs pos="100000">
                <a:srgbClr val="e3663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111680" y="1858680"/>
            <a:ext cx="6437160" cy="1387800"/>
            <a:chOff x="1111680" y="1858680"/>
            <a:chExt cx="6437160" cy="1387800"/>
          </a:xfrm>
        </p:grpSpPr>
        <p:sp>
          <p:nvSpPr>
            <p:cNvPr id="496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498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07692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528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3663f"/>
                </a:gs>
                <a:gs pos="100000">
                  <a:srgbClr val="682f1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04" name="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87440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rot="3418800">
              <a:off x="469260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0" name="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6196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3663f"/>
                </a:gs>
                <a:gs pos="100000">
                  <a:srgbClr val="682f1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11280" y="1830240"/>
          <a:ext cx="7691400" cy="3384720"/>
        </p:xfrm>
        <a:graphic>
          <a:graphicData uri="http://schemas.openxmlformats.org/drawingml/2006/table">
            <a:tbl>
              <a:tblPr/>
              <a:tblGrid>
                <a:gridCol w="1536480"/>
                <a:gridCol w="1230480"/>
                <a:gridCol w="1230120"/>
                <a:gridCol w="1231920"/>
                <a:gridCol w="1231920"/>
                <a:gridCol w="1230480"/>
              </a:tblGrid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fb242"/>
                        </a:gs>
                        <a:gs pos="100000">
                          <a:srgbClr val="bcd69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fb242"/>
                        </a:gs>
                        <a:gs pos="100000">
                          <a:srgbClr val="bcd69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fb242"/>
                        </a:gs>
                        <a:gs pos="100000">
                          <a:srgbClr val="bcd69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fb242"/>
                        </a:gs>
                        <a:gs pos="100000">
                          <a:srgbClr val="bcd69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fb242"/>
                        </a:gs>
                        <a:gs pos="100000">
                          <a:srgbClr val="bcd69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fb242"/>
                        </a:gs>
                        <a:gs pos="100000">
                          <a:srgbClr val="bcd69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26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6a7e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99de9"/>
                </a:gs>
                <a:gs pos="100000">
                  <a:srgbClr val="496da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53559e"/>
                </a:gs>
                <a:gs pos="100000">
                  <a:srgbClr val="7476d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82f1d"/>
                </a:gs>
                <a:gs pos="100000">
                  <a:srgbClr val="e3663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fb242"/>
                </a:gs>
                <a:gs pos="100000">
                  <a:srgbClr val="c4db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7fb242"/>
                </a:gs>
                <a:gs pos="100000">
                  <a:srgbClr val="3a521e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fb242"/>
                </a:gs>
                <a:gs pos="100000">
                  <a:srgbClr val="c4db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1a3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95560" y="2695680"/>
            <a:ext cx="4830840" cy="218412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699de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77920" y="1905120"/>
            <a:ext cx="4856400" cy="476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2128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010280" y="4481640"/>
            <a:ext cx="1295640" cy="1461600"/>
            <a:chOff x="7010280" y="4481640"/>
            <a:chExt cx="1295640" cy="1461600"/>
          </a:xfrm>
        </p:grpSpPr>
        <p:sp>
          <p:nvSpPr>
            <p:cNvPr id="550" name=""/>
            <p:cNvSpPr/>
            <p:nvPr/>
          </p:nvSpPr>
          <p:spPr>
            <a:xfrm>
              <a:off x="7138080" y="5691240"/>
              <a:ext cx="1086120" cy="252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10280" y="4481640"/>
              <a:ext cx="1295640" cy="1277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38360" y="4511520"/>
              <a:ext cx="1235520" cy="1220400"/>
            </a:xfrm>
            <a:prstGeom prst="ellipse">
              <a:avLst/>
            </a:prstGeom>
            <a:gradFill rotWithShape="0">
              <a:gsLst>
                <a:gs pos="0">
                  <a:srgbClr val="507029"/>
                </a:gs>
                <a:gs pos="100000">
                  <a:srgbClr val="7fb242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240" y="4556160"/>
              <a:ext cx="1116720" cy="1101960"/>
            </a:xfrm>
            <a:prstGeom prst="ellipse">
              <a:avLst/>
            </a:prstGeom>
            <a:gradFill rotWithShape="0">
              <a:gsLst>
                <a:gs pos="0">
                  <a:srgbClr val="5b802f"/>
                </a:gs>
                <a:gs pos="100000">
                  <a:srgbClr val="7fb2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3"/>
            <a:stretch/>
          </p:blipFill>
          <p:spPr>
            <a:xfrm>
              <a:off x="7038360" y="4556160"/>
              <a:ext cx="820080" cy="80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7239240" y="4993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029200" y="4481640"/>
            <a:ext cx="1295280" cy="1461600"/>
            <a:chOff x="5029200" y="4481640"/>
            <a:chExt cx="1295280" cy="1461600"/>
          </a:xfrm>
        </p:grpSpPr>
        <p:sp>
          <p:nvSpPr>
            <p:cNvPr id="557" name=""/>
            <p:cNvSpPr/>
            <p:nvPr/>
          </p:nvSpPr>
          <p:spPr>
            <a:xfrm>
              <a:off x="5156640" y="5691240"/>
              <a:ext cx="1086120" cy="252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29200" y="4481640"/>
              <a:ext cx="1295280" cy="1277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56920" y="4511520"/>
              <a:ext cx="1235160" cy="1220400"/>
            </a:xfrm>
            <a:prstGeom prst="ellipse">
              <a:avLst/>
            </a:prstGeom>
            <a:gradFill rotWithShape="0">
              <a:gsLst>
                <a:gs pos="0">
                  <a:srgbClr val="426393"/>
                </a:gs>
                <a:gs pos="100000">
                  <a:srgbClr val="699d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04800" y="4556160"/>
              <a:ext cx="1116720" cy="1101960"/>
            </a:xfrm>
            <a:prstGeom prst="ellipse">
              <a:avLst/>
            </a:prstGeom>
            <a:gradFill rotWithShape="0">
              <a:gsLst>
                <a:gs pos="0">
                  <a:srgbClr val="4b71a8"/>
                </a:gs>
                <a:gs pos="100000">
                  <a:srgbClr val="699d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5"/>
            <a:stretch/>
          </p:blipFill>
          <p:spPr>
            <a:xfrm>
              <a:off x="5056920" y="4556160"/>
              <a:ext cx="819720" cy="80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5257800" y="4993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048120" y="4481640"/>
            <a:ext cx="1295280" cy="1461600"/>
            <a:chOff x="3048120" y="4481640"/>
            <a:chExt cx="1295280" cy="1461600"/>
          </a:xfrm>
        </p:grpSpPr>
        <p:sp>
          <p:nvSpPr>
            <p:cNvPr id="564" name=""/>
            <p:cNvSpPr/>
            <p:nvPr/>
          </p:nvSpPr>
          <p:spPr>
            <a:xfrm>
              <a:off x="3175560" y="5691240"/>
              <a:ext cx="1086120" cy="252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48120" y="4481640"/>
              <a:ext cx="1295280" cy="1277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75840" y="4511520"/>
              <a:ext cx="1235520" cy="1220400"/>
            </a:xfrm>
            <a:prstGeom prst="ellipse">
              <a:avLst/>
            </a:prstGeom>
            <a:gradFill rotWithShape="0">
              <a:gsLst>
                <a:gs pos="0">
                  <a:srgbClr val="494a8b"/>
                </a:gs>
                <a:gs pos="100000">
                  <a:srgbClr val="7476dc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23720" y="4556160"/>
              <a:ext cx="1117080" cy="1101960"/>
            </a:xfrm>
            <a:prstGeom prst="ellipse">
              <a:avLst/>
            </a:prstGeom>
            <a:gradFill rotWithShape="0">
              <a:gsLst>
                <a:gs pos="0">
                  <a:srgbClr val="53559e"/>
                </a:gs>
                <a:gs pos="100000">
                  <a:srgbClr val="7476d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7"/>
            <a:stretch/>
          </p:blipFill>
          <p:spPr>
            <a:xfrm>
              <a:off x="3075840" y="4556160"/>
              <a:ext cx="820080" cy="80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3277080" y="4993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109520" y="4481640"/>
            <a:ext cx="1295640" cy="1461600"/>
            <a:chOff x="1109520" y="4481640"/>
            <a:chExt cx="1295640" cy="1461600"/>
          </a:xfrm>
        </p:grpSpPr>
        <p:sp>
          <p:nvSpPr>
            <p:cNvPr id="571" name=""/>
            <p:cNvSpPr/>
            <p:nvPr/>
          </p:nvSpPr>
          <p:spPr>
            <a:xfrm>
              <a:off x="1201320" y="5691240"/>
              <a:ext cx="1086120" cy="252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09520" y="4481640"/>
              <a:ext cx="1295640" cy="12776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37600" y="4511520"/>
              <a:ext cx="1235520" cy="1220400"/>
            </a:xfrm>
            <a:prstGeom prst="ellipse">
              <a:avLst/>
            </a:prstGeom>
            <a:gradFill rotWithShape="0">
              <a:gsLst>
                <a:gs pos="0">
                  <a:srgbClr val="8f4027"/>
                </a:gs>
                <a:gs pos="100000">
                  <a:srgbClr val="e3663f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85480" y="4556160"/>
              <a:ext cx="1117080" cy="1101960"/>
            </a:xfrm>
            <a:prstGeom prst="ellipse">
              <a:avLst/>
            </a:prstGeom>
            <a:gradFill rotWithShape="0">
              <a:gsLst>
                <a:gs pos="0">
                  <a:srgbClr val="a4492d"/>
                </a:gs>
                <a:gs pos="100000">
                  <a:srgbClr val="e366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9"/>
            <a:stretch/>
          </p:blipFill>
          <p:spPr>
            <a:xfrm>
              <a:off x="1137600" y="4556160"/>
              <a:ext cx="820080" cy="80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338480" y="4993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1947960"/>
            <a:ext cx="762120" cy="664920"/>
            <a:chOff x="1828800" y="1947960"/>
            <a:chExt cx="762120" cy="664920"/>
          </a:xfrm>
        </p:grpSpPr>
        <p:sp>
          <p:nvSpPr>
            <p:cNvPr id="89" name=""/>
            <p:cNvSpPr/>
            <p:nvPr/>
          </p:nvSpPr>
          <p:spPr>
            <a:xfrm>
              <a:off x="183492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880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73080" y="19872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e3663f"/>
                </a:gs>
                <a:gs pos="100000">
                  <a:srgbClr val="682f1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828800" y="2862360"/>
            <a:ext cx="761760" cy="664920"/>
            <a:chOff x="1828800" y="2862360"/>
            <a:chExt cx="761760" cy="664920"/>
          </a:xfrm>
        </p:grpSpPr>
        <p:sp>
          <p:nvSpPr>
            <p:cNvPr id="93" name=""/>
            <p:cNvSpPr/>
            <p:nvPr/>
          </p:nvSpPr>
          <p:spPr>
            <a:xfrm>
              <a:off x="183492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3080" y="29016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438280" y="2557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5920" y="2023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2752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4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5920" y="2938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2752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3754440"/>
            <a:ext cx="762120" cy="665280"/>
            <a:chOff x="1828800" y="3754440"/>
            <a:chExt cx="762120" cy="665280"/>
          </a:xfrm>
        </p:grpSpPr>
        <p:sp>
          <p:nvSpPr>
            <p:cNvPr id="103" name=""/>
            <p:cNvSpPr/>
            <p:nvPr/>
          </p:nvSpPr>
          <p:spPr>
            <a:xfrm>
              <a:off x="183492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3080" y="37936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e3663f"/>
                </a:gs>
                <a:gs pos="100000">
                  <a:srgbClr val="682f1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28800" y="4668840"/>
            <a:ext cx="761760" cy="665280"/>
            <a:chOff x="1828800" y="4668840"/>
            <a:chExt cx="761760" cy="665280"/>
          </a:xfrm>
        </p:grpSpPr>
        <p:sp>
          <p:nvSpPr>
            <p:cNvPr id="107" name=""/>
            <p:cNvSpPr/>
            <p:nvPr/>
          </p:nvSpPr>
          <p:spPr>
            <a:xfrm>
              <a:off x="183492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3080" y="47080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438280" y="436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5920" y="3830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2752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278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5920" y="4745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752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19720" y="739800"/>
            <a:ext cx="0" cy="58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696960"/>
            <a:ext cx="42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663f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495680" y="2720880"/>
            <a:ext cx="4267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3505320"/>
            <a:ext cx="41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3360"/>
            <a:ext cx="81532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19720" y="739800"/>
            <a:ext cx="0" cy="58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96960"/>
            <a:ext cx="42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663f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5cdc1"/>
              </a:gs>
              <a:gs pos="100000">
                <a:srgbClr val="e3663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ef7"/>
              </a:gs>
              <a:gs pos="100000">
                <a:srgbClr val="699d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29" name="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0" name="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8396a"/>
                  </a:gs>
                  <a:gs pos="100000">
                    <a:srgbClr val="7476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7fb242"/>
                  </a:gs>
                  <a:gs pos="100000">
                    <a:srgbClr val="c5dca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9dbf6"/>
                </a:gs>
                <a:gs pos="100000">
                  <a:srgbClr val="699d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48235"/>
                  </a:srgbClr>
                </a:gs>
                <a:gs pos="100000">
                  <a:srgbClr val="527b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104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0" name="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efefe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728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62160" y="32439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031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3663f"/>
                </a:gs>
                <a:gs pos="100000">
                  <a:srgbClr val="5024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7fb242"/>
                </a:gs>
                <a:gs pos="100000">
                  <a:srgbClr val="2b3d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9" name="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5858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53665"/>
              </a:gs>
              <a:gs pos="50000">
                <a:srgbClr val="7476dc"/>
              </a:gs>
              <a:gs pos="100000">
                <a:srgbClr val="3536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6d6d6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6d6d6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1" name=""/>
            <p:cNvSpPr/>
            <p:nvPr/>
          </p:nvSpPr>
          <p:spPr>
            <a:xfrm flipH="1" rot="16200000">
              <a:off x="2813400" y="2869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fb0d6"/>
                </a:gs>
                <a:gs pos="100000">
                  <a:srgbClr val="3739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5400000">
              <a:off x="5684040" y="28155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fb0d6"/>
                </a:gs>
                <a:gs pos="100000">
                  <a:srgbClr val="37399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fb0d6"/>
                </a:gs>
                <a:gs pos="100000">
                  <a:srgbClr val="3739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2236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6852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476d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e3f76"/>
                </a:gs>
                <a:gs pos="50000">
                  <a:srgbClr val="7476dc"/>
                </a:gs>
                <a:gs pos="100000">
                  <a:srgbClr val="3e3f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a521e"/>
              </a:gs>
              <a:gs pos="50000">
                <a:srgbClr val="7fb242"/>
              </a:gs>
              <a:gs pos="100000">
                <a:srgbClr val="3a52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a521e"/>
              </a:gs>
              <a:gs pos="50000">
                <a:srgbClr val="7fb242"/>
              </a:gs>
              <a:gs pos="100000">
                <a:srgbClr val="3a52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a521e"/>
              </a:gs>
              <a:gs pos="50000">
                <a:srgbClr val="7fb242"/>
              </a:gs>
              <a:gs pos="100000">
                <a:srgbClr val="3a52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06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9240" y="1600200"/>
            <a:ext cx="5964120" cy="4495680"/>
          </a:xfrm>
          <a:prstGeom prst="rightArrow">
            <a:avLst>
              <a:gd name="adj1" fmla="val 79306"/>
              <a:gd name="adj2" fmla="val 32859"/>
            </a:avLst>
          </a:prstGeom>
          <a:gradFill rotWithShape="0">
            <a:gsLst>
              <a:gs pos="0">
                <a:srgbClr val="c0c0c0"/>
              </a:gs>
              <a:gs pos="100000">
                <a:srgbClr val="dfdf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048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3663f"/>
              </a:gs>
              <a:gs pos="100000">
                <a:srgbClr val="682f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7:10:12Z</dcterms:created>
  <dc:creator>Sung Ha, Park</dc:creator>
  <dc:description/>
  <dc:language>en-US</dc:language>
  <cp:lastModifiedBy>Sung Ha, Park</cp:lastModifiedBy>
  <dcterms:modified xsi:type="dcterms:W3CDTF">2004-11-23T07:36:48Z</dcterms:modified>
  <cp:revision>7</cp:revision>
  <dc:subject/>
  <dc:title>PowerPoint Template</dc:title>
</cp:coreProperties>
</file>