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F29-32DE-4209-93E3-0DAC9BD3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599040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F78-ACA1-4D8E-8922-C5ECA77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104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59F-BE3C-4158-9002-04DA41B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924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688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924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688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F1B-7493-4254-8F1B-BEA7F078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D79C-E706-4952-AFE7-D82EE8FE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861-E391-4507-A2E5-F0E823D3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5C2-7E24-4AA4-8159-F5A7E8B9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0E5-DD6E-4977-AD6B-ED7A8EF0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6CB8-EE68-4A9E-9CF5-AA07CFA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7238880" cy="49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2574-E669-474B-A7A5-0231176C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2096-93D1-4CA7-88F0-11F0DC3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D7C-391E-4662-8342-92D0782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8104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F03-617E-4E5E-B092-351002C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8CB0-154C-4CE0-AAB5-1000F52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599040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E25-C1EB-4ECD-B7C1-B7455A1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8104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D29F-020E-4267-B0E5-7F83A01F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924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6880" y="579132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924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6880" y="5990400"/>
            <a:ext cx="233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560B-10F0-41AE-95B3-C99D4189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34C-5A43-4367-B497-3EDE2D5E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D6A-BD33-46A1-BB82-DB462FE9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C1F-80FE-4B86-BBE5-4ADA054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7238880" cy="49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131-BEE1-4389-A73E-029BF9D7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EFB-700A-4E96-900C-EBEA1DE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1040" y="599040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ADF-4F8F-4487-8044-1804BF9F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1040" y="5791320"/>
            <a:ext cx="35323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990400"/>
            <a:ext cx="723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80A-C495-4B51-A6B2-9FFC4D4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436-9ABF-428B-B171-E57D6EEBEC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7DB9-1304-45C6-8F0F-3704B566CA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Click to edit subtitle style</a:t>
            </a:r>
            <a:endParaRPr b="0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173f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173f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d81"/>
              </a:gs>
              <a:gs pos="50000">
                <a:srgbClr val="4173f1"/>
              </a:gs>
              <a:gs pos="100000">
                <a:srgbClr val="233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73f1">
                  <a:alpha val="0"/>
                </a:srgbClr>
              </a:gs>
              <a:gs pos="100000">
                <a:srgbClr val="29489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982c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982c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c"/>
              </a:gs>
              <a:gs pos="50000">
                <a:srgbClr val="a982ca"/>
              </a:gs>
              <a:gs pos="100000">
                <a:srgbClr val="5b46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a982ca">
                  <a:alpha val="0"/>
                </a:srgbClr>
              </a:gs>
              <a:gs pos="100000">
                <a:srgbClr val="6a52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8a6e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f4c6b"/>
              </a:gs>
              <a:gs pos="100000">
                <a:srgbClr val="68a6e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97e"/>
              </a:gs>
              <a:gs pos="50000">
                <a:srgbClr val="68a6ea"/>
              </a:gs>
              <a:gs pos="100000">
                <a:srgbClr val="3859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8a6ea">
                  <a:alpha val="0"/>
                </a:srgbClr>
              </a:gs>
              <a:gs pos="100000">
                <a:srgbClr val="41699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75" name="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83" name="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02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04" name="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55200" y="1801800"/>
                  <a:ext cx="495360" cy="233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13" name=""/>
              <p:cNvSpPr/>
              <p:nvPr/>
            </p:nvSpPr>
            <p:spPr>
              <a:xfrm rot="18226800">
                <a:off x="3584520" y="503640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0568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8226800">
                <a:off x="3753720" y="489636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0568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81f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10716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847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23700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607360" y="516168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6732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b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rot="18226800">
              <a:off x="5469480" y="5005080"/>
              <a:ext cx="122040" cy="128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8226800">
              <a:off x="5326560" y="486216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159720" y="3481560"/>
              <a:ext cx="388800" cy="245160"/>
              <a:chOff x="3159720" y="3481560"/>
              <a:chExt cx="388800" cy="245160"/>
            </a:xfrm>
          </p:grpSpPr>
          <p:sp>
            <p:nvSpPr>
              <p:cNvPr id="338" name=""/>
              <p:cNvSpPr/>
              <p:nvPr/>
            </p:nvSpPr>
            <p:spPr>
              <a:xfrm rot="18226800">
                <a:off x="3186000" y="350352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b5f8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8226800">
                <a:off x="3400200" y="357516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250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41" name="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c4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2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rot="18226800">
              <a:off x="5844600" y="353052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c32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8226800">
              <a:off x="5612760" y="364680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c32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52" name="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59" name="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67" name="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81" name="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7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00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1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4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3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8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9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2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30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5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6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9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8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3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4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7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6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6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9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3" name=""/>
            <p:cNvCxnSpPr>
              <a:stCxn id="479" idx="3"/>
              <a:endCxn id="48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484" name=""/>
            <p:cNvCxnSpPr>
              <a:stCxn id="480" idx="3"/>
              <a:endCxn id="48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488" name="Puzzle3"/>
            <p:cNvSpPr/>
            <p:nvPr/>
          </p:nvSpPr>
          <p:spPr>
            <a:xfrm>
              <a:off x="4475160" y="144792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416994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Puzzle2"/>
            <p:cNvSpPr/>
            <p:nvPr/>
          </p:nvSpPr>
          <p:spPr>
            <a:xfrm>
              <a:off x="3961080" y="319572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8ae6cf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Puzzle4"/>
            <p:cNvSpPr/>
            <p:nvPr/>
          </p:nvSpPr>
          <p:spPr>
            <a:xfrm>
              <a:off x="2869560" y="316872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9cb6f6"/>
                </a:gs>
                <a:gs pos="100000">
                  <a:srgbClr val="4173f1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Puzzle1"/>
            <p:cNvSpPr/>
            <p:nvPr/>
          </p:nvSpPr>
          <p:spPr>
            <a:xfrm>
              <a:off x="2286000" y="217368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d3b5d"/>
                </a:gs>
                <a:gs pos="100000">
                  <a:srgbClr val="a982ca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02" name="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5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5152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2496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1616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896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4824000" y="17805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5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162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1236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672480" y="525960"/>
            <a:ext cx="7379640" cy="5581800"/>
            <a:chOff x="672480" y="525960"/>
            <a:chExt cx="7379640" cy="5581800"/>
          </a:xfrm>
        </p:grpSpPr>
        <p:sp>
          <p:nvSpPr>
            <p:cNvPr id="532" name="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57640" y="20232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5a5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20602200">
              <a:off x="1506240" y="20235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8a6ea"/>
                </a:gs>
                <a:gs pos="100000">
                  <a:srgbClr val="4873a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464120" y="20347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e53ae"/>
                </a:gs>
                <a:gs pos="100000">
                  <a:srgbClr val="4173f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473840" y="20332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d7c5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539200">
              <a:off x="1090800" y="14299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d3b5d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d7c5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7fa1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4a4f5"/>
              </a:gs>
              <a:gs pos="100000">
                <a:srgbClr val="4173f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56" name="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1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107244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63" name="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64" name="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a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93760" y="4184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69" name="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70" name="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4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51160" y="41400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75" name="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81f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241720" y="5791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6ea"/>
                    </a:gs>
                    <a:gs pos="100000">
                      <a:srgbClr val="2f4c6b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6ea"/>
                  </a:gs>
                  <a:gs pos="100000">
                    <a:srgbClr val="2f4c6b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ddbd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1f9"/>
              </a:gs>
              <a:gs pos="100000">
                <a:srgbClr val="4173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f3774"/>
                  </a:gs>
                  <a:gs pos="100000">
                    <a:srgbClr val="4173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aac0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f4c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9dff6"/>
                </a:gs>
                <a:gs pos="100000">
                  <a:srgbClr val="68a6e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48235"/>
                  </a:srgbClr>
                </a:gs>
                <a:gs pos="100000">
                  <a:srgbClr val="5282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2" name="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4440" y="1913040"/>
              <a:ext cx="118512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7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033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9640" y="480096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8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75480" y="2117160"/>
              <a:ext cx="1119600" cy="11440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4c6b"/>
                </a:gs>
                <a:gs pos="50000">
                  <a:srgbClr val="68a6ea"/>
                </a:gs>
                <a:gs pos="100000">
                  <a:srgbClr val="2f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d356f"/>
                </a:gs>
                <a:gs pos="50000">
                  <a:srgbClr val="4173f1"/>
                </a:gs>
                <a:gs pos="100000">
                  <a:srgbClr val="1d35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add3"/>
                  </a:gs>
                  <a:gs pos="100000">
                    <a:srgbClr val="0b3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add3"/>
                  </a:gs>
                  <a:gs pos="100000">
                    <a:srgbClr val="0b319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add3"/>
                  </a:gs>
                  <a:gs pos="100000">
                    <a:srgbClr val="0b319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173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d81"/>
                  </a:gs>
                  <a:gs pos="50000">
                    <a:srgbClr val="4173f1"/>
                  </a:gs>
                  <a:gs pos="100000">
                    <a:srgbClr val="233d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c6b"/>
                </a:gs>
                <a:gs pos="50000">
                  <a:srgbClr val="68a6ea"/>
                </a:gs>
                <a:gs pos="100000">
                  <a:srgbClr val="2f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c6b"/>
                </a:gs>
                <a:gs pos="50000">
                  <a:srgbClr val="68a6ea"/>
                </a:gs>
                <a:gs pos="100000">
                  <a:srgbClr val="2f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c6b"/>
                </a:gs>
                <a:gs pos="50000">
                  <a:srgbClr val="68a6ea"/>
                </a:gs>
                <a:gs pos="100000">
                  <a:srgbClr val="2f4c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d356f"/>
                </a:gs>
                <a:gs pos="50000">
                  <a:srgbClr val="4173f1"/>
                </a:gs>
                <a:gs pos="100000">
                  <a:srgbClr val="1d35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d3b5d"/>
                </a:gs>
                <a:gs pos="50000">
                  <a:srgbClr val="a982ca"/>
                </a:gs>
                <a:gs pos="100000">
                  <a:srgbClr val="4d3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642"/>
                </a:gs>
                <a:gs pos="50000">
                  <a:srgbClr val="0b3191"/>
                </a:gs>
                <a:gs pos="100000">
                  <a:srgbClr val="0516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36e"/>
                </a:gs>
                <a:gs pos="50000">
                  <a:srgbClr val="00cc99"/>
                </a:gs>
                <a:gs pos="100000">
                  <a:srgbClr val="0093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e53ae"/>
                </a:gs>
                <a:gs pos="50000">
                  <a:srgbClr val="4173f1"/>
                </a:gs>
                <a:gs pos="100000">
                  <a:srgbClr val="2e5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a5d91"/>
                </a:gs>
                <a:gs pos="50000">
                  <a:srgbClr val="a982ca"/>
                </a:gs>
                <a:gs pos="100000">
                  <a:srgbClr val="7a5d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72368"/>
                </a:gs>
                <a:gs pos="50000">
                  <a:srgbClr val="0b3191"/>
                </a:gs>
                <a:gs pos="100000">
                  <a:srgbClr val="0723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8a6ea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cdab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99cf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07:14Z</dcterms:modified>
  <cp:revision>54</cp:revision>
  <dc:subject/>
  <dc:title>PowerPoint Template</dc:title>
</cp:coreProperties>
</file>