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6D5-1FB1-48D4-9162-57744455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2F6-FC9E-40D5-8F76-0BA82296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672-7A17-4CAF-B772-C95B0AE8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8076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3288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2864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18076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3288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2DE-D3C2-455F-AD45-EDB70A7F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7C711-7A61-4AE7-910F-A67B5331F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133FC-6C53-41BB-8B60-1042945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5B81B-A5E0-46F2-AB62-DA7A31B4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B816-0A0F-41DA-8589-E1F06305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A98D1-CDE5-4B9B-8A46-9EAB03750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61954-0826-4A8E-9260-ACA59BD1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69771-9034-4F46-88F6-5EFB725C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540-3B3A-4892-BC0F-2844F108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9E7FE-7F35-4E50-901E-1014DFD2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23B2C-51D1-4352-A632-2258E34F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603D0-E01D-4E74-B761-92B4FB61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CA43C-B2CC-4836-8AD5-E1861E1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8076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3288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2864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518076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3288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56F3C-5905-4A82-91EB-0BC7BC0CD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8FA-06AF-48BB-8942-7E95C111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9AD-D195-4187-8919-0572AC7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CCA-DCAF-4BBD-94D3-20C4EB5F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245-4BD5-4550-95E8-A45E8C00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B09-3424-4151-90EF-284BE9F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D88-3651-4BC8-9DA9-FDF5B1ED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FDA-6BD7-4F60-876B-1A267719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79000" y="6514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83280" y="63975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498680" y="6514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D22D-A9B3-4E72-A788-BC131AE189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81800" y="632448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553080"/>
            <a:ext cx="5715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47676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1828800" y="64767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B939-57B0-47EB-B930-71ACBD5501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1520" y="6095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62294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4600" y="6375240"/>
            <a:ext cx="52578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subtitle styl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895480" y="2133720"/>
            <a:ext cx="3197160" cy="2890800"/>
            <a:chOff x="2895480" y="2133720"/>
            <a:chExt cx="3197160" cy="2890800"/>
          </a:xfrm>
        </p:grpSpPr>
        <p:sp>
          <p:nvSpPr>
            <p:cNvPr id="219" name=""/>
            <p:cNvSpPr/>
            <p:nvPr/>
          </p:nvSpPr>
          <p:spPr>
            <a:xfrm flipH="1" rot="16200000">
              <a:off x="2813400" y="32504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9ead7"/>
                </a:gs>
                <a:gs pos="100000">
                  <a:srgbClr val="f3cc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rot="5400000">
              <a:off x="5684040" y="319680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9ead7"/>
                </a:gs>
                <a:gs pos="100000">
                  <a:srgbClr val="f3cc9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9ead7"/>
                </a:gs>
                <a:gs pos="100000">
                  <a:srgbClr val="f3cc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6852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351c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f2b6c"/>
                </a:gs>
                <a:gs pos="50000">
                  <a:srgbClr val="9351c9"/>
                </a:gs>
                <a:gs pos="100000">
                  <a:srgbClr val="4f2b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c4f5d"/>
              </a:gs>
              <a:gs pos="50000">
                <a:srgbClr val="84acca"/>
              </a:gs>
              <a:gs pos="100000">
                <a:srgbClr val="3c4f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c4f5d"/>
              </a:gs>
              <a:gs pos="50000">
                <a:srgbClr val="84acca"/>
              </a:gs>
              <a:gs pos="100000">
                <a:srgbClr val="3c4f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c4f5d"/>
              </a:gs>
              <a:gs pos="50000">
                <a:srgbClr val="84acca"/>
              </a:gs>
              <a:gs pos="100000">
                <a:srgbClr val="3c4f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a6a"/>
              </a:gs>
              <a:gs pos="50000">
                <a:srgbClr val="557fe7"/>
              </a:gs>
              <a:gs pos="100000">
                <a:srgbClr val="273a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a6a"/>
              </a:gs>
              <a:gs pos="50000">
                <a:srgbClr val="557fe7"/>
              </a:gs>
              <a:gs pos="100000">
                <a:srgbClr val="273a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a6a"/>
              </a:gs>
              <a:gs pos="50000">
                <a:srgbClr val="557fe7"/>
              </a:gs>
              <a:gs pos="100000">
                <a:srgbClr val="273a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4f5d"/>
              </a:gs>
              <a:gs pos="50000">
                <a:srgbClr val="84acca"/>
              </a:gs>
              <a:gs pos="100000">
                <a:srgbClr val="3c4f5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8a7797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a6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3255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c4f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7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35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351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351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f2b6c"/>
              </a:gs>
              <a:gs pos="50000">
                <a:srgbClr val="9351c9"/>
              </a:gs>
              <a:gs pos="100000">
                <a:srgbClr val="4f2b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351c9">
                  <a:alpha val="0"/>
                </a:srgbClr>
              </a:gs>
              <a:gs pos="100000">
                <a:srgbClr val="5d3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eb2a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eb2a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5c"/>
              </a:gs>
              <a:gs pos="50000">
                <a:srgbClr val="3eb2ac"/>
              </a:gs>
              <a:gs pos="100000">
                <a:srgbClr val="215f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b2ac">
                  <a:alpha val="0"/>
                </a:srgbClr>
              </a:gs>
              <a:gs pos="100000">
                <a:srgbClr val="2770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89" name="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57f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73a6a"/>
              </a:gs>
              <a:gs pos="100000">
                <a:srgbClr val="557f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d447c"/>
              </a:gs>
              <a:gs pos="50000">
                <a:srgbClr val="557fe7"/>
              </a:gs>
              <a:gs pos="100000">
                <a:srgbClr val="2d44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7fe7">
                  <a:alpha val="0"/>
                </a:srgbClr>
              </a:gs>
              <a:gs pos="100000">
                <a:srgbClr val="3550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299" name="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04" name="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557f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876400">
            <a:off x="323064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6224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8276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9256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8020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20826600">
            <a:off x="144792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371600" y="3352680"/>
            <a:ext cx="1371240" cy="1441080"/>
            <a:chOff x="1371600" y="3352680"/>
            <a:chExt cx="1371240" cy="1441080"/>
          </a:xfrm>
        </p:grpSpPr>
        <p:sp>
          <p:nvSpPr>
            <p:cNvPr id="325" name=""/>
            <p:cNvSpPr/>
            <p:nvPr/>
          </p:nvSpPr>
          <p:spPr>
            <a:xfrm>
              <a:off x="137160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8924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0256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420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5204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990720" y="2692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206064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79640" y="20653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90440" y="207648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4440" y="210168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63960" y="2435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9544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1784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2720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3368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7004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8804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7973000">
            <a:off x="4777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3465600">
            <a:off x="4777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4368800">
            <a:off x="3557880" y="24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7534800">
            <a:off x="3520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56080" y="35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0800000">
            <a:off x="294588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92440" y="176688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429000" y="1825560"/>
            <a:ext cx="360360" cy="360360"/>
            <a:chOff x="3429000" y="1825560"/>
            <a:chExt cx="360360" cy="360360"/>
          </a:xfrm>
        </p:grpSpPr>
        <p:sp>
          <p:nvSpPr>
            <p:cNvPr id="351" name=""/>
            <p:cNvSpPr/>
            <p:nvPr/>
          </p:nvSpPr>
          <p:spPr>
            <a:xfrm>
              <a:off x="3429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4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484360" y="3481560"/>
            <a:ext cx="360360" cy="360360"/>
            <a:chOff x="2484360" y="3481560"/>
            <a:chExt cx="360360" cy="360360"/>
          </a:xfrm>
        </p:grpSpPr>
        <p:sp>
          <p:nvSpPr>
            <p:cNvPr id="354" name=""/>
            <p:cNvSpPr/>
            <p:nvPr/>
          </p:nvSpPr>
          <p:spPr>
            <a:xfrm>
              <a:off x="2484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00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348000" y="5024520"/>
            <a:ext cx="360360" cy="360360"/>
            <a:chOff x="3348000" y="5024520"/>
            <a:chExt cx="360360" cy="360360"/>
          </a:xfrm>
        </p:grpSpPr>
        <p:sp>
          <p:nvSpPr>
            <p:cNvPr id="357" name=""/>
            <p:cNvSpPr/>
            <p:nvPr/>
          </p:nvSpPr>
          <p:spPr>
            <a:xfrm>
              <a:off x="3348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63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278320" y="1805040"/>
            <a:ext cx="360360" cy="360360"/>
            <a:chOff x="5278320" y="1805040"/>
            <a:chExt cx="360360" cy="360360"/>
          </a:xfrm>
        </p:grpSpPr>
        <p:sp>
          <p:nvSpPr>
            <p:cNvPr id="360" name=""/>
            <p:cNvSpPr/>
            <p:nvPr/>
          </p:nvSpPr>
          <p:spPr>
            <a:xfrm>
              <a:off x="527832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416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227640" y="3481560"/>
            <a:ext cx="360360" cy="360360"/>
            <a:chOff x="6227640" y="3481560"/>
            <a:chExt cx="360360" cy="360360"/>
          </a:xfrm>
        </p:grpSpPr>
        <p:sp>
          <p:nvSpPr>
            <p:cNvPr id="363" name=""/>
            <p:cNvSpPr/>
            <p:nvPr/>
          </p:nvSpPr>
          <p:spPr>
            <a:xfrm>
              <a:off x="622764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4348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34120" y="5081760"/>
            <a:ext cx="360360" cy="360360"/>
            <a:chOff x="5334120" y="5081760"/>
            <a:chExt cx="360360" cy="360360"/>
          </a:xfrm>
        </p:grpSpPr>
        <p:sp>
          <p:nvSpPr>
            <p:cNvPr id="366" name=""/>
            <p:cNvSpPr/>
            <p:nvPr/>
          </p:nvSpPr>
          <p:spPr>
            <a:xfrm>
              <a:off x="5334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49960" y="51116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62412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351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29160" y="27255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3255c"/>
              </a:gs>
              <a:gs pos="100000">
                <a:srgbClr val="9351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51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f2b6c"/>
              </a:gs>
              <a:gs pos="50000">
                <a:srgbClr val="9351c9"/>
              </a:gs>
              <a:gs pos="100000">
                <a:srgbClr val="4f2b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351c9">
                  <a:alpha val="0"/>
                </a:srgbClr>
              </a:gs>
              <a:gs pos="100000">
                <a:srgbClr val="5d3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835440" y="2930400"/>
            <a:ext cx="1522440" cy="1522440"/>
            <a:chOff x="3835440" y="2930400"/>
            <a:chExt cx="1522440" cy="1522440"/>
          </a:xfrm>
        </p:grpSpPr>
        <p:sp>
          <p:nvSpPr>
            <p:cNvPr id="373" name=""/>
            <p:cNvSpPr/>
            <p:nvPr/>
          </p:nvSpPr>
          <p:spPr>
            <a:xfrm>
              <a:off x="3835440" y="2930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57760" y="29494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75040" y="295920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0880" y="2973240"/>
              <a:ext cx="1366920" cy="13417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71880" y="300996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16448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71752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91700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3192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17520" y="5105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0260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840680" y="50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391" name="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274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403" name="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517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425" name="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426" name="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429" name="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432" name="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438" name="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443" name="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444" name="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447" name="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455" name="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460" name="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461" name="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464" name="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467" name="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473" name="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478" name="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479" name="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482" name="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485" name="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491" name="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 rot="3925800">
            <a:off x="8964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14022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28728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33786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49302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925800">
            <a:off x="54360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925800">
            <a:off x="7144920" y="43952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925800">
            <a:off x="7650720" y="4106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96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7684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7498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79500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503" idx="3"/>
            <a:endCxn id="504" idx="1"/>
          </p:cNvCxnSpPr>
          <p:nvPr/>
        </p:nvCxnSpPr>
        <p:spPr>
          <a:xfrm>
            <a:off x="1514160" y="18270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4" idx="3"/>
            <a:endCxn id="505" idx="1"/>
          </p:cNvCxnSpPr>
          <p:nvPr/>
        </p:nvCxnSpPr>
        <p:spPr>
          <a:xfrm>
            <a:off x="3504960" y="18270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505" idx="3"/>
            <a:endCxn id="506" idx="1"/>
          </p:cNvCxnSpPr>
          <p:nvPr/>
        </p:nvCxnSpPr>
        <p:spPr>
          <a:xfrm>
            <a:off x="5486040" y="18273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351c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4acc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57fe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57fe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4acca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351c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20601600">
            <a:off x="1303200" y="20239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rot="20602200">
            <a:off x="1281600" y="20548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20601600">
            <a:off x="1312920" y="20350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 rot="20602200">
            <a:off x="1295280" y="20426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20539200">
            <a:off x="1307520" y="205308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90" name="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25360" y="19872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9351c9"/>
                </a:gs>
                <a:gs pos="100000">
                  <a:srgbClr val="43255c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94" name="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25360" y="29016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557fe7"/>
                </a:gs>
                <a:gs pos="100000">
                  <a:srgbClr val="273a6a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04" name="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5360" y="37936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9351c9"/>
                </a:gs>
                <a:gs pos="100000">
                  <a:srgbClr val="43255c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08" name="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25360" y="4708080"/>
              <a:ext cx="664200" cy="57528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57fe7"/>
                </a:gs>
                <a:gs pos="100000">
                  <a:srgbClr val="273a6a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514240" y="419112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subtitle styl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657600" y="48006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1f53"/>
                    </a:gs>
                    <a:gs pos="100000">
                      <a:srgbClr val="84acc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1f53"/>
                  </a:gs>
                  <a:gs pos="100000">
                    <a:srgbClr val="84acc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cc9d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3cc9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bc6ec"/>
              </a:gs>
              <a:gs pos="100000">
                <a:srgbClr val="9351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8d5f6"/>
              </a:gs>
              <a:gs pos="100000">
                <a:srgbClr val="557f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27" name="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72761"/>
                  </a:gs>
                  <a:gs pos="100000">
                    <a:srgbClr val="9351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9351c9"/>
                  </a:gs>
                  <a:gs pos="100000">
                    <a:srgbClr val="ceb1e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57fe7"/>
                </a:gs>
                <a:gs pos="100000">
                  <a:srgbClr val="273a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2d1f5"/>
                </a:gs>
                <a:gs pos="100000">
                  <a:srgbClr val="557f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57fe7">
                    <a:alpha val="48235"/>
                  </a:srgbClr>
                </a:gs>
                <a:gs pos="100000">
                  <a:srgbClr val="4364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557f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20241600">
            <a:off x="123624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f2f6f9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56200">
            <a:off x="4571640" y="243792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20056200">
            <a:off x="7467120" y="2666520"/>
            <a:ext cx="106704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056200">
            <a:off x="2971440" y="563832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056200">
            <a:off x="5714640" y="502884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0056200">
            <a:off x="2057040" y="3962160"/>
            <a:ext cx="1066680" cy="30456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16002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351c9"/>
              </a:gs>
              <a:gs pos="100000">
                <a:srgbClr val="321b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5404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57fe7"/>
              </a:gs>
              <a:gs pos="100000">
                <a:srgbClr val="1a2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676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2e3d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1164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f3cc9d"/>
              </a:gs>
              <a:gs pos="100000">
                <a:srgbClr val="6656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4044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eb2ac"/>
              </a:gs>
              <a:gs pos="100000">
                <a:srgbClr val="153d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0676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98400" y="2057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0240" y="233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4032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19360" y="5272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776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H="1">
            <a:off x="61560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9336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58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1480" y="1712520"/>
              <a:ext cx="53496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2080" y="1936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92400" y="172548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64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2400" y="31449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70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92400" y="460548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38080" y="1447920"/>
            <a:ext cx="7383960" cy="4421160"/>
            <a:chOff x="838080" y="1447920"/>
            <a:chExt cx="7383960" cy="4421160"/>
          </a:xfrm>
        </p:grpSpPr>
        <p:grpSp>
          <p:nvGrpSpPr>
            <p:cNvPr id="177" name=""/>
            <p:cNvGrpSpPr/>
            <p:nvPr/>
          </p:nvGrpSpPr>
          <p:grpSpPr>
            <a:xfrm>
              <a:off x="2362320" y="1447920"/>
              <a:ext cx="4419000" cy="4376160"/>
              <a:chOff x="2362320" y="1447920"/>
              <a:chExt cx="4419000" cy="4376160"/>
            </a:xfrm>
          </p:grpSpPr>
          <p:sp>
            <p:nvSpPr>
              <p:cNvPr id="178" name="Puzzle3"/>
              <p:cNvSpPr/>
              <p:nvPr/>
            </p:nvSpPr>
            <p:spPr>
              <a:xfrm>
                <a:off x="4514400" y="1447920"/>
                <a:ext cx="1737000" cy="2325600"/>
              </a:xfrm>
              <a:prstGeom prst="pie">
                <a:avLst/>
              </a:prstGeom>
              <a:gradFill rotWithShape="0">
                <a:gsLst>
                  <a:gs pos="0">
                    <a:srgbClr val="355092"/>
                  </a:gs>
                  <a:gs pos="100000">
                    <a:srgbClr val="557fe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Puzzle2"/>
              <p:cNvSpPr/>
              <p:nvPr/>
            </p:nvSpPr>
            <p:spPr>
              <a:xfrm>
                <a:off x="4008960" y="31420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6d8e5"/>
                  </a:gs>
                  <a:gs pos="100000">
                    <a:srgbClr val="84acc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Puzzle4"/>
              <p:cNvSpPr/>
              <p:nvPr/>
            </p:nvSpPr>
            <p:spPr>
              <a:xfrm>
                <a:off x="2936160" y="3115800"/>
                <a:ext cx="1671480" cy="2708280"/>
              </a:xfrm>
              <a:prstGeom prst="pie">
                <a:avLst/>
              </a:prstGeom>
              <a:gradFill rotWithShape="0">
                <a:gsLst>
                  <a:gs pos="0">
                    <a:srgbClr val="c6a4e2"/>
                  </a:gs>
                  <a:gs pos="100000">
                    <a:srgbClr val="9351c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Puzzle1"/>
              <p:cNvSpPr/>
              <p:nvPr/>
            </p:nvSpPr>
            <p:spPr>
              <a:xfrm>
                <a:off x="2362320" y="2151360"/>
                <a:ext cx="2806920" cy="1614240"/>
              </a:xfrm>
              <a:prstGeom prst="pie">
                <a:avLst/>
              </a:prstGeom>
              <a:gradFill rotWithShape="0">
                <a:gsLst>
                  <a:gs pos="0">
                    <a:srgbClr val="1c524f"/>
                  </a:gs>
                  <a:gs pos="100000">
                    <a:srgbClr val="3eb2a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477840" y="382428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080" y="3214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90920" y="15238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7080" y="550080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7524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7b0ef">
                  <a:alpha val="12156"/>
                </a:srgbClr>
              </a:gs>
              <a:gs pos="50000">
                <a:srgbClr val="557fe7"/>
              </a:gs>
              <a:gs pos="100000">
                <a:srgbClr val="97b0ef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b8cfe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bf8"/>
              </a:gs>
              <a:gs pos="100000">
                <a:srgbClr val="f3cc9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bf8"/>
              </a:gs>
              <a:gs pos="100000">
                <a:srgbClr val="f3cc9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197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198" name="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02" name="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08" name="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Sung Ha, Park</dc:creator>
  <dc:description/>
  <dc:language>en-US</dc:language>
  <cp:lastModifiedBy>Sung Ha, Park</cp:lastModifiedBy>
  <dcterms:modified xsi:type="dcterms:W3CDTF">2004-11-19T07:03:17Z</dcterms:modified>
  <cp:revision>11</cp:revision>
  <dc:subject/>
  <dc:title>PowerPoint Template</dc:title>
</cp:coreProperties>
</file>