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A09-EF7A-4B83-9CDB-08A5DB80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D20-C73B-4B23-80EC-A594D35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7CF-2682-4C15-868B-92A4CB2F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C96-48BA-4BB6-B05D-84B81049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2BF-EDF6-43F2-AB76-3BDB0F8D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8A9-291A-41C2-B59A-41BF136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6E4-B043-40EA-89A2-CE8A1DFB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5C6-69BA-4668-867C-CCF7A57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08F-EFC8-4BD3-B04A-C56B2B0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A44-F5FB-44DC-836B-4BC1B37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FA1-C581-462B-92BF-0E96F20C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720-85B6-4ACA-A513-7664763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24F-AE8E-4DB2-88CF-025AF1CFBB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42e"/>
              </a:gs>
              <a:gs pos="50000">
                <a:srgbClr val="eab764"/>
              </a:gs>
              <a:gs pos="100000">
                <a:srgbClr val="6b54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f67"/>
              </a:gs>
              <a:gs pos="50000">
                <a:srgbClr val="8d67e1"/>
              </a:gs>
              <a:gs pos="100000">
                <a:srgbClr val="402f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73a2"/>
              </a:gs>
              <a:gs pos="50000">
                <a:srgbClr val="65a9ed"/>
              </a:gs>
              <a:gs pos="100000">
                <a:srgbClr val="4573a2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3d6b"/>
              </a:gs>
              <a:gs pos="50000">
                <a:srgbClr val="6d85e9"/>
              </a:gs>
              <a:gs pos="100000">
                <a:srgbClr val="323d6b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00"/>
              </a:gs>
              <a:gs pos="50000">
                <a:srgbClr val="e3af7b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8b2e"/>
              </a:gs>
              <a:gs pos="50000">
                <a:srgbClr val="cfc293"/>
              </a:gs>
              <a:gs pos="100000">
                <a:srgbClr val="a48b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7a20"/>
              </a:gs>
              <a:gs pos="50000">
                <a:srgbClr val="afb98b"/>
              </a:gs>
              <a:gs pos="100000">
                <a:srgbClr val="657a2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1:44Z</dcterms:modified>
  <cp:revision>92</cp:revision>
  <dc:subject/>
  <dc:title>Contents Design</dc:title>
</cp:coreProperties>
</file>