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4C3-644F-4DE0-B575-A252C778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5F2-9AB9-4C43-A029-C1B210AB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29B-D58D-4F3B-8F90-431B81A7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6EA-EF6A-40B8-B570-869961CF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8EF-CCC7-4BC2-B1F5-8915A3C0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E17-63F2-4FF8-A78D-BA49B5F3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B0B-B567-4D5E-8568-118EBF8F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B2A-20F9-480B-9680-AA2D9ACB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14F-21E0-486A-9DCB-C58CB7E0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CBA-E7D9-4E46-98C4-D6EC7763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8A0-A3BF-4D55-BE54-1F3593AD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E17-160A-4AC7-AA41-8A7CA6AA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C999-BE2C-4009-A925-9923AA4B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800" y="205740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800" y="283680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800" y="359892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800" y="443700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88000" y="2399040"/>
            <a:ext cx="5836320" cy="459000"/>
            <a:chOff x="2088000" y="2399040"/>
            <a:chExt cx="5836320" cy="459000"/>
          </a:xfrm>
        </p:grpSpPr>
        <p:grpSp>
          <p:nvGrpSpPr>
            <p:cNvPr id="47" name=""/>
            <p:cNvGrpSpPr/>
            <p:nvPr/>
          </p:nvGrpSpPr>
          <p:grpSpPr>
            <a:xfrm>
              <a:off x="2284200" y="2574720"/>
              <a:ext cx="5640120" cy="107640"/>
              <a:chOff x="2284200" y="2574720"/>
              <a:chExt cx="5640120" cy="107640"/>
            </a:xfrm>
          </p:grpSpPr>
          <p:sp>
            <p:nvSpPr>
              <p:cNvPr id="48" name=""/>
              <p:cNvSpPr/>
              <p:nvPr/>
            </p:nvSpPr>
            <p:spPr>
              <a:xfrm>
                <a:off x="2284200" y="2605320"/>
                <a:ext cx="5640120" cy="4644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284200" y="266724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284200" y="257472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2088000" y="2399040"/>
              <a:ext cx="464400" cy="459000"/>
              <a:chOff x="2088000" y="2399040"/>
              <a:chExt cx="464400" cy="459000"/>
            </a:xfrm>
          </p:grpSpPr>
          <p:sp>
            <p:nvSpPr>
              <p:cNvPr id="52" name=""/>
              <p:cNvSpPr/>
              <p:nvPr/>
            </p:nvSpPr>
            <p:spPr>
              <a:xfrm rot="2686200">
                <a:off x="2300400" y="246096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2686200">
                <a:off x="2366640" y="252648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686200">
                <a:off x="2233080" y="239436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6200">
                <a:off x="2057400" y="271188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686200">
                <a:off x="2123280" y="264600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686200">
                <a:off x="2189160" y="257904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686200">
                <a:off x="2255040" y="251208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6200">
                <a:off x="2399760" y="2559600"/>
                <a:ext cx="32040" cy="33552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686200">
                <a:off x="2334960" y="2493360"/>
                <a:ext cx="31320" cy="33552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686200">
                <a:off x="2201400" y="2362320"/>
                <a:ext cx="31320" cy="33552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686200">
                <a:off x="2267280" y="2427840"/>
                <a:ext cx="32040" cy="33552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686200">
                <a:off x="2089800" y="267840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686200">
                <a:off x="2155680" y="261180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686200">
                <a:off x="2221920" y="254448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2087640" y="3160800"/>
            <a:ext cx="5836680" cy="459360"/>
            <a:chOff x="2087640" y="3160800"/>
            <a:chExt cx="5836680" cy="459360"/>
          </a:xfrm>
        </p:grpSpPr>
        <p:grpSp>
          <p:nvGrpSpPr>
            <p:cNvPr id="67" name=""/>
            <p:cNvGrpSpPr/>
            <p:nvPr/>
          </p:nvGrpSpPr>
          <p:grpSpPr>
            <a:xfrm>
              <a:off x="2284200" y="3336840"/>
              <a:ext cx="5640120" cy="107640"/>
              <a:chOff x="2284200" y="3336840"/>
              <a:chExt cx="5640120" cy="107640"/>
            </a:xfrm>
          </p:grpSpPr>
          <p:sp>
            <p:nvSpPr>
              <p:cNvPr id="68" name=""/>
              <p:cNvSpPr/>
              <p:nvPr/>
            </p:nvSpPr>
            <p:spPr>
              <a:xfrm>
                <a:off x="2284200" y="3367440"/>
                <a:ext cx="5640120" cy="4680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84200" y="342936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284200" y="333684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087640" y="3160800"/>
              <a:ext cx="464760" cy="459360"/>
              <a:chOff x="2087640" y="3160800"/>
              <a:chExt cx="464760" cy="459360"/>
            </a:xfrm>
          </p:grpSpPr>
          <p:sp>
            <p:nvSpPr>
              <p:cNvPr id="72" name=""/>
              <p:cNvSpPr/>
              <p:nvPr/>
            </p:nvSpPr>
            <p:spPr>
              <a:xfrm rot="2686200">
                <a:off x="2300760" y="3222360"/>
                <a:ext cx="32040" cy="33624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2686200">
                <a:off x="2366640" y="328824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2686200">
                <a:off x="2233440" y="3155760"/>
                <a:ext cx="32040" cy="33624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2686200">
                <a:off x="2057400" y="347400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2686200">
                <a:off x="2123280" y="340776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2686200">
                <a:off x="2189160" y="334080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686200">
                <a:off x="2255040" y="327384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686200">
                <a:off x="2399760" y="332172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686200">
                <a:off x="2334600" y="325512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686200">
                <a:off x="2201040" y="312408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686200">
                <a:off x="2267280" y="318960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686200">
                <a:off x="2089800" y="344052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2686200">
                <a:off x="2155680" y="337392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2686200">
                <a:off x="2221920" y="330660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2087640" y="3922920"/>
            <a:ext cx="5836680" cy="459360"/>
            <a:chOff x="2087640" y="3922920"/>
            <a:chExt cx="5836680" cy="459360"/>
          </a:xfrm>
        </p:grpSpPr>
        <p:grpSp>
          <p:nvGrpSpPr>
            <p:cNvPr id="87" name=""/>
            <p:cNvGrpSpPr/>
            <p:nvPr/>
          </p:nvGrpSpPr>
          <p:grpSpPr>
            <a:xfrm>
              <a:off x="2284200" y="4098960"/>
              <a:ext cx="5640120" cy="107640"/>
              <a:chOff x="2284200" y="4098960"/>
              <a:chExt cx="5640120" cy="107640"/>
            </a:xfrm>
          </p:grpSpPr>
          <p:sp>
            <p:nvSpPr>
              <p:cNvPr id="88" name=""/>
              <p:cNvSpPr/>
              <p:nvPr/>
            </p:nvSpPr>
            <p:spPr>
              <a:xfrm>
                <a:off x="2284200" y="4129560"/>
                <a:ext cx="5640120" cy="4680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84200" y="419148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84200" y="409896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087640" y="3922920"/>
              <a:ext cx="464760" cy="459360"/>
              <a:chOff x="2087640" y="3922920"/>
              <a:chExt cx="464760" cy="459360"/>
            </a:xfrm>
          </p:grpSpPr>
          <p:sp>
            <p:nvSpPr>
              <p:cNvPr id="92" name=""/>
              <p:cNvSpPr/>
              <p:nvPr/>
            </p:nvSpPr>
            <p:spPr>
              <a:xfrm rot="2686200">
                <a:off x="2300760" y="3984480"/>
                <a:ext cx="32040" cy="33624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2686200">
                <a:off x="2366640" y="405036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2686200">
                <a:off x="2233440" y="3917880"/>
                <a:ext cx="32040" cy="33624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686200">
                <a:off x="2057400" y="423612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686200">
                <a:off x="2123280" y="416988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686200">
                <a:off x="2189160" y="410292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686200">
                <a:off x="2255040" y="403596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686200">
                <a:off x="2399760" y="408384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686200">
                <a:off x="2334600" y="401724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686200">
                <a:off x="2201040" y="388620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686200">
                <a:off x="2267280" y="395172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686200">
                <a:off x="2089800" y="420264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686200">
                <a:off x="2155680" y="413604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686200">
                <a:off x="2221920" y="406872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087640" y="4761000"/>
            <a:ext cx="5836680" cy="459360"/>
            <a:chOff x="2087640" y="4761000"/>
            <a:chExt cx="5836680" cy="459360"/>
          </a:xfrm>
        </p:grpSpPr>
        <p:grpSp>
          <p:nvGrpSpPr>
            <p:cNvPr id="107" name=""/>
            <p:cNvGrpSpPr/>
            <p:nvPr/>
          </p:nvGrpSpPr>
          <p:grpSpPr>
            <a:xfrm>
              <a:off x="2284200" y="4937040"/>
              <a:ext cx="5640120" cy="107640"/>
              <a:chOff x="2284200" y="4937040"/>
              <a:chExt cx="5640120" cy="107640"/>
            </a:xfrm>
          </p:grpSpPr>
          <p:sp>
            <p:nvSpPr>
              <p:cNvPr id="108" name=""/>
              <p:cNvSpPr/>
              <p:nvPr/>
            </p:nvSpPr>
            <p:spPr>
              <a:xfrm>
                <a:off x="2284200" y="4967640"/>
                <a:ext cx="5640120" cy="4680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84200" y="502956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4200" y="493704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087640" y="4761000"/>
              <a:ext cx="464760" cy="459360"/>
              <a:chOff x="2087640" y="4761000"/>
              <a:chExt cx="464760" cy="459360"/>
            </a:xfrm>
          </p:grpSpPr>
          <p:sp>
            <p:nvSpPr>
              <p:cNvPr id="112" name=""/>
              <p:cNvSpPr/>
              <p:nvPr/>
            </p:nvSpPr>
            <p:spPr>
              <a:xfrm rot="2686200">
                <a:off x="2300760" y="4822560"/>
                <a:ext cx="32040" cy="33624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2686200">
                <a:off x="2366640" y="488844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686200">
                <a:off x="2233440" y="4755960"/>
                <a:ext cx="32040" cy="33624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686200">
                <a:off x="2057400" y="507420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686200">
                <a:off x="2123280" y="500796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686200">
                <a:off x="2189160" y="494100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686200">
                <a:off x="2255040" y="487404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686200">
                <a:off x="2399760" y="492192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686200">
                <a:off x="2334600" y="485532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686200">
                <a:off x="2201040" y="472428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686200">
                <a:off x="2267280" y="478980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686200">
                <a:off x="2089800" y="504072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686200">
                <a:off x="2155680" y="497412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686200">
                <a:off x="2221920" y="490680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0397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2819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3581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4197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35720" y="2399040"/>
            <a:ext cx="5836320" cy="459000"/>
            <a:chOff x="1935720" y="2399040"/>
            <a:chExt cx="5836320" cy="459000"/>
          </a:xfrm>
        </p:grpSpPr>
        <p:grpSp>
          <p:nvGrpSpPr>
            <p:cNvPr id="132" name=""/>
            <p:cNvGrpSpPr/>
            <p:nvPr/>
          </p:nvGrpSpPr>
          <p:grpSpPr>
            <a:xfrm>
              <a:off x="2131920" y="2575080"/>
              <a:ext cx="5640120" cy="107640"/>
              <a:chOff x="2131920" y="2575080"/>
              <a:chExt cx="5640120" cy="1076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1920" y="2605680"/>
                <a:ext cx="5640120" cy="46440"/>
              </a:xfrm>
              <a:prstGeom prst="rect">
                <a:avLst/>
              </a:prstGeom>
              <a:gradFill rotWithShape="0">
                <a:gsLst>
                  <a:gs pos="0">
                    <a:srgbClr val="004646">
                      <a:alpha val="0"/>
                    </a:srgbClr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1920" y="266760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4646">
                      <a:alpha val="0"/>
                    </a:srgbClr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31920" y="257508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4646">
                      <a:alpha val="0"/>
                    </a:srgbClr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35720" y="2399040"/>
              <a:ext cx="464400" cy="459000"/>
              <a:chOff x="1935720" y="2399040"/>
              <a:chExt cx="464400" cy="459000"/>
            </a:xfrm>
          </p:grpSpPr>
          <p:sp>
            <p:nvSpPr>
              <p:cNvPr id="137" name=""/>
              <p:cNvSpPr/>
              <p:nvPr/>
            </p:nvSpPr>
            <p:spPr>
              <a:xfrm rot="2686200">
                <a:off x="2148120" y="246096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686200">
                <a:off x="2214360" y="252648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686200">
                <a:off x="2080800" y="239436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686200">
                <a:off x="1905120" y="271188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686200">
                <a:off x="1971000" y="264600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686200">
                <a:off x="2036880" y="257904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686200">
                <a:off x="2102760" y="251208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686200">
                <a:off x="2247480" y="2559600"/>
                <a:ext cx="32040" cy="33552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686200">
                <a:off x="2182680" y="2493360"/>
                <a:ext cx="31320" cy="33552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686200">
                <a:off x="2049120" y="2362320"/>
                <a:ext cx="31320" cy="33552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686200">
                <a:off x="2115000" y="2427840"/>
                <a:ext cx="32040" cy="33552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686200">
                <a:off x="1937520" y="267840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686200">
                <a:off x="2003400" y="261180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686200">
                <a:off x="2069640" y="254448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1935360" y="3160800"/>
            <a:ext cx="5836680" cy="459360"/>
            <a:chOff x="1935360" y="3160800"/>
            <a:chExt cx="5836680" cy="459360"/>
          </a:xfrm>
        </p:grpSpPr>
        <p:grpSp>
          <p:nvGrpSpPr>
            <p:cNvPr id="152" name=""/>
            <p:cNvGrpSpPr/>
            <p:nvPr/>
          </p:nvGrpSpPr>
          <p:grpSpPr>
            <a:xfrm>
              <a:off x="2131920" y="3336840"/>
              <a:ext cx="5640120" cy="107640"/>
              <a:chOff x="2131920" y="3336840"/>
              <a:chExt cx="5640120" cy="107640"/>
            </a:xfrm>
          </p:grpSpPr>
          <p:sp>
            <p:nvSpPr>
              <p:cNvPr id="153" name=""/>
              <p:cNvSpPr/>
              <p:nvPr/>
            </p:nvSpPr>
            <p:spPr>
              <a:xfrm>
                <a:off x="2131920" y="3367440"/>
                <a:ext cx="5640120" cy="4680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31920" y="342936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31920" y="333684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35360" y="3160800"/>
              <a:ext cx="464760" cy="459360"/>
              <a:chOff x="1935360" y="3160800"/>
              <a:chExt cx="464760" cy="459360"/>
            </a:xfrm>
          </p:grpSpPr>
          <p:sp>
            <p:nvSpPr>
              <p:cNvPr id="157" name=""/>
              <p:cNvSpPr/>
              <p:nvPr/>
            </p:nvSpPr>
            <p:spPr>
              <a:xfrm rot="2686200">
                <a:off x="2148480" y="3222360"/>
                <a:ext cx="32040" cy="33624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686200">
                <a:off x="2214360" y="328824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686200">
                <a:off x="2081160" y="3155760"/>
                <a:ext cx="32040" cy="33624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686200">
                <a:off x="1905120" y="347400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686200">
                <a:off x="1971000" y="340776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686200">
                <a:off x="2036880" y="334080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686200">
                <a:off x="2102760" y="327384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686200">
                <a:off x="2247480" y="332172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686200">
                <a:off x="2182320" y="325512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686200">
                <a:off x="2048760" y="312408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686200">
                <a:off x="2115000" y="318960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686200">
                <a:off x="1937520" y="344052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686200">
                <a:off x="2003400" y="337392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686200">
                <a:off x="2069640" y="330660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1935360" y="4761000"/>
            <a:ext cx="5836680" cy="459360"/>
            <a:chOff x="1935360" y="4761000"/>
            <a:chExt cx="5836680" cy="459360"/>
          </a:xfrm>
        </p:grpSpPr>
        <p:grpSp>
          <p:nvGrpSpPr>
            <p:cNvPr id="172" name=""/>
            <p:cNvGrpSpPr/>
            <p:nvPr/>
          </p:nvGrpSpPr>
          <p:grpSpPr>
            <a:xfrm>
              <a:off x="2131920" y="4937040"/>
              <a:ext cx="5640120" cy="107640"/>
              <a:chOff x="2131920" y="4937040"/>
              <a:chExt cx="5640120" cy="107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131920" y="4967640"/>
                <a:ext cx="5640120" cy="4680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31920" y="502956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31920" y="493704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2f46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935360" y="4761000"/>
              <a:ext cx="464760" cy="459360"/>
              <a:chOff x="1935360" y="4761000"/>
              <a:chExt cx="464760" cy="459360"/>
            </a:xfrm>
          </p:grpSpPr>
          <p:sp>
            <p:nvSpPr>
              <p:cNvPr id="177" name=""/>
              <p:cNvSpPr/>
              <p:nvPr/>
            </p:nvSpPr>
            <p:spPr>
              <a:xfrm rot="2686200">
                <a:off x="2148480" y="4822560"/>
                <a:ext cx="32040" cy="33624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686200">
                <a:off x="2214360" y="488844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686200">
                <a:off x="2081160" y="4755960"/>
                <a:ext cx="32040" cy="33624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686200">
                <a:off x="1905120" y="507420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86200">
                <a:off x="1971000" y="500796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86200">
                <a:off x="2036880" y="494100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2686200">
                <a:off x="2102760" y="487404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686200">
                <a:off x="2247480" y="492192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2686200">
                <a:off x="2182320" y="485532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686200">
                <a:off x="2048760" y="472428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686200">
                <a:off x="2115000" y="478980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2686200">
                <a:off x="1937520" y="504072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686200">
                <a:off x="2003400" y="497412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686200">
                <a:off x="2069640" y="490680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935720" y="3999240"/>
            <a:ext cx="5836320" cy="459000"/>
            <a:chOff x="1935720" y="3999240"/>
            <a:chExt cx="5836320" cy="459000"/>
          </a:xfrm>
        </p:grpSpPr>
        <p:grpSp>
          <p:nvGrpSpPr>
            <p:cNvPr id="192" name=""/>
            <p:cNvGrpSpPr/>
            <p:nvPr/>
          </p:nvGrpSpPr>
          <p:grpSpPr>
            <a:xfrm>
              <a:off x="2131920" y="4175280"/>
              <a:ext cx="5640120" cy="107640"/>
              <a:chOff x="2131920" y="4175280"/>
              <a:chExt cx="5640120" cy="107640"/>
            </a:xfrm>
          </p:grpSpPr>
          <p:sp>
            <p:nvSpPr>
              <p:cNvPr id="193" name=""/>
              <p:cNvSpPr/>
              <p:nvPr/>
            </p:nvSpPr>
            <p:spPr>
              <a:xfrm>
                <a:off x="2131920" y="4205880"/>
                <a:ext cx="5640120" cy="46440"/>
              </a:xfrm>
              <a:prstGeom prst="rect">
                <a:avLst/>
              </a:prstGeom>
              <a:gradFill rotWithShape="0">
                <a:gsLst>
                  <a:gs pos="0">
                    <a:srgbClr val="004646">
                      <a:alpha val="0"/>
                    </a:srgbClr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131920" y="426780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4646">
                      <a:alpha val="0"/>
                    </a:srgbClr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131920" y="4175280"/>
                <a:ext cx="5640120" cy="15120"/>
              </a:xfrm>
              <a:prstGeom prst="rect">
                <a:avLst/>
              </a:prstGeom>
              <a:gradFill rotWithShape="0">
                <a:gsLst>
                  <a:gs pos="0">
                    <a:srgbClr val="004646">
                      <a:alpha val="0"/>
                    </a:srgbClr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1935720" y="3999240"/>
              <a:ext cx="464400" cy="459000"/>
              <a:chOff x="1935720" y="3999240"/>
              <a:chExt cx="464400" cy="459000"/>
            </a:xfrm>
          </p:grpSpPr>
          <p:sp>
            <p:nvSpPr>
              <p:cNvPr id="197" name=""/>
              <p:cNvSpPr/>
              <p:nvPr/>
            </p:nvSpPr>
            <p:spPr>
              <a:xfrm rot="2686200">
                <a:off x="2148120" y="406116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686200">
                <a:off x="2214360" y="412668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686200">
                <a:off x="2080800" y="3994560"/>
                <a:ext cx="32040" cy="335880"/>
              </a:xfrm>
              <a:prstGeom prst="rect">
                <a:avLst/>
              </a:prstGeom>
              <a:gradFill rotWithShape="0">
                <a:gsLst>
                  <a:gs pos="0">
                    <a:srgbClr val="19555c"/>
                  </a:gs>
                  <a:gs pos="50000">
                    <a:srgbClr val="38bac8"/>
                  </a:gs>
                  <a:gs pos="100000">
                    <a:srgbClr val="19555c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686200">
                <a:off x="1905120" y="431208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2686200">
                <a:off x="1971000" y="424620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2686200">
                <a:off x="2036880" y="4179240"/>
                <a:ext cx="335160" cy="3240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686200">
                <a:off x="2102760" y="4112280"/>
                <a:ext cx="334800" cy="3132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686200">
                <a:off x="2247480" y="4159800"/>
                <a:ext cx="32040" cy="33552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686200">
                <a:off x="2182680" y="4093560"/>
                <a:ext cx="31320" cy="33552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686200">
                <a:off x="2049120" y="3962520"/>
                <a:ext cx="31320" cy="33552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686200">
                <a:off x="2115000" y="4028040"/>
                <a:ext cx="32040" cy="335520"/>
              </a:xfrm>
              <a:prstGeom prst="rect">
                <a:avLst/>
              </a:prstGeom>
              <a:gradFill rotWithShape="0">
                <a:gsLst>
                  <a:gs pos="0">
                    <a:srgbClr val="002f46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686200">
                <a:off x="1937520" y="427860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686200">
                <a:off x="2003400" y="421200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686200">
                <a:off x="2069640" y="4144680"/>
                <a:ext cx="335160" cy="32040"/>
              </a:xfrm>
              <a:prstGeom prst="rect">
                <a:avLst/>
              </a:prstGeom>
              <a:gradFill rotWithShape="0">
                <a:gsLst>
                  <a:gs pos="0">
                    <a:srgbClr val="325c16"/>
                  </a:gs>
                  <a:gs pos="50000">
                    <a:srgbClr val="6ec830"/>
                  </a:gs>
                  <a:gs pos="100000">
                    <a:srgbClr val="325c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0:56:23Z</dcterms:created>
  <dc:creator>DugCheun Kang</dc:creator>
  <dc:description/>
  <dc:language>en-US</dc:language>
  <cp:lastModifiedBy>DugCheun Kang</cp:lastModifiedBy>
  <dcterms:modified xsi:type="dcterms:W3CDTF">2004-11-09T01:01:48Z</dcterms:modified>
  <cp:revision>2</cp:revision>
  <dc:subject/>
  <dc:title>Slide 1</dc:title>
</cp:coreProperties>
</file>