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DEE-C47C-4D0D-8A79-98431A15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FCF-7C6B-4508-B08F-2A9520D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F7B-DFFD-40B8-9082-15E12EC5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646-BA22-4E70-980E-5021EED2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487-BD46-4371-BDF0-2E56FCFC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719-7A18-4971-8237-DD2E5A9E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0CB-191F-4DA8-88C2-DAC00B4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516-6951-4F6C-A1C2-D4307A10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2A8-D554-4438-AD10-57D0AA77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0B6-E7E9-4F89-9321-9C62043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0DA-146C-45B0-96CC-C6179B0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924-E8E2-4B67-9EAF-FA54E9F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68CC-6FAD-4FB3-A716-041352B202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09680" y="2133720"/>
            <a:ext cx="4800600" cy="523800"/>
            <a:chOff x="2209680" y="2133720"/>
            <a:chExt cx="4800600" cy="523800"/>
          </a:xfrm>
        </p:grpSpPr>
        <p:grpSp>
          <p:nvGrpSpPr>
            <p:cNvPr id="43" name=""/>
            <p:cNvGrpSpPr/>
            <p:nvPr/>
          </p:nvGrpSpPr>
          <p:grpSpPr>
            <a:xfrm>
              <a:off x="2209680" y="2133720"/>
              <a:ext cx="4800600" cy="523800"/>
              <a:chOff x="2209680" y="2133720"/>
              <a:chExt cx="4800600" cy="5238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2209680" y="2133720"/>
                <a:ext cx="4800600" cy="523800"/>
                <a:chOff x="2209680" y="2133720"/>
                <a:chExt cx="4800600" cy="523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209680" y="21337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335320" y="21337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579ad"/>
                    </a:gs>
                    <a:gs pos="50000">
                      <a:srgbClr val="004890"/>
                    </a:gs>
                    <a:gs pos="100000">
                      <a:srgbClr val="4579a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460240" y="21337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99ff"/>
                    </a:gs>
                    <a:gs pos="50000">
                      <a:srgbClr val="5fbefe"/>
                    </a:gs>
                    <a:gs pos="100000">
                      <a:srgbClr val="0099ff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2306520" y="242460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573960" y="242460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3246120" y="21463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209680" y="2828880"/>
            <a:ext cx="4800600" cy="523800"/>
            <a:chOff x="2209680" y="2828880"/>
            <a:chExt cx="4800600" cy="523800"/>
          </a:xfrm>
        </p:grpSpPr>
        <p:grpSp>
          <p:nvGrpSpPr>
            <p:cNvPr id="52" name=""/>
            <p:cNvGrpSpPr/>
            <p:nvPr/>
          </p:nvGrpSpPr>
          <p:grpSpPr>
            <a:xfrm>
              <a:off x="2209680" y="2828880"/>
              <a:ext cx="4800600" cy="523800"/>
              <a:chOff x="2209680" y="2828880"/>
              <a:chExt cx="4800600" cy="52380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2209680" y="2828880"/>
                <a:ext cx="4800600" cy="523800"/>
                <a:chOff x="2209680" y="2828880"/>
                <a:chExt cx="4800600" cy="52380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209680" y="282888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335320" y="282888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579ad"/>
                    </a:gs>
                    <a:gs pos="50000">
                      <a:srgbClr val="004890"/>
                    </a:gs>
                    <a:gs pos="100000">
                      <a:srgbClr val="4579a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460240" y="282888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99ff"/>
                    </a:gs>
                    <a:gs pos="50000">
                      <a:srgbClr val="5fbefe"/>
                    </a:gs>
                    <a:gs pos="100000">
                      <a:srgbClr val="0099ff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2306520" y="311976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73960" y="311976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246120" y="284148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09680" y="3524400"/>
            <a:ext cx="4800600" cy="523800"/>
            <a:chOff x="2209680" y="3524400"/>
            <a:chExt cx="4800600" cy="523800"/>
          </a:xfrm>
        </p:grpSpPr>
        <p:grpSp>
          <p:nvGrpSpPr>
            <p:cNvPr id="61" name=""/>
            <p:cNvGrpSpPr/>
            <p:nvPr/>
          </p:nvGrpSpPr>
          <p:grpSpPr>
            <a:xfrm>
              <a:off x="2209680" y="3524400"/>
              <a:ext cx="4800600" cy="523800"/>
              <a:chOff x="2209680" y="3524400"/>
              <a:chExt cx="4800600" cy="5238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2209680" y="3524400"/>
                <a:ext cx="4800600" cy="523800"/>
                <a:chOff x="2209680" y="3524400"/>
                <a:chExt cx="4800600" cy="5238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2209680" y="352440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335320" y="352440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579ad"/>
                    </a:gs>
                    <a:gs pos="50000">
                      <a:srgbClr val="004890"/>
                    </a:gs>
                    <a:gs pos="100000">
                      <a:srgbClr val="4579a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460240" y="352440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99ff"/>
                    </a:gs>
                    <a:gs pos="50000">
                      <a:srgbClr val="5fbefe"/>
                    </a:gs>
                    <a:gs pos="100000">
                      <a:srgbClr val="0099ff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306520" y="381528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73960" y="381528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246120" y="353700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209680" y="4200480"/>
            <a:ext cx="4800600" cy="523800"/>
            <a:chOff x="2209680" y="4200480"/>
            <a:chExt cx="4800600" cy="523800"/>
          </a:xfrm>
        </p:grpSpPr>
        <p:grpSp>
          <p:nvGrpSpPr>
            <p:cNvPr id="70" name=""/>
            <p:cNvGrpSpPr/>
            <p:nvPr/>
          </p:nvGrpSpPr>
          <p:grpSpPr>
            <a:xfrm>
              <a:off x="2209680" y="4200480"/>
              <a:ext cx="4800600" cy="523800"/>
              <a:chOff x="2209680" y="4200480"/>
              <a:chExt cx="4800600" cy="52380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2209680" y="4200480"/>
                <a:ext cx="4800600" cy="523800"/>
                <a:chOff x="2209680" y="4200480"/>
                <a:chExt cx="4800600" cy="5238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209680" y="420048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35320" y="420048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579ad"/>
                    </a:gs>
                    <a:gs pos="50000">
                      <a:srgbClr val="004890"/>
                    </a:gs>
                    <a:gs pos="100000">
                      <a:srgbClr val="4579a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460240" y="420048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99ff"/>
                    </a:gs>
                    <a:gs pos="50000">
                      <a:srgbClr val="5fbefe"/>
                    </a:gs>
                    <a:gs pos="100000">
                      <a:srgbClr val="0099ff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2306520" y="449136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73960" y="449136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246120" y="421308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209680" y="4952880"/>
            <a:ext cx="4800600" cy="523800"/>
            <a:chOff x="2209680" y="4952880"/>
            <a:chExt cx="4800600" cy="523800"/>
          </a:xfrm>
        </p:grpSpPr>
        <p:grpSp>
          <p:nvGrpSpPr>
            <p:cNvPr id="79" name=""/>
            <p:cNvGrpSpPr/>
            <p:nvPr/>
          </p:nvGrpSpPr>
          <p:grpSpPr>
            <a:xfrm>
              <a:off x="2209680" y="4952880"/>
              <a:ext cx="4800600" cy="523800"/>
              <a:chOff x="2209680" y="4952880"/>
              <a:chExt cx="4800600" cy="523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2209680" y="4952880"/>
                <a:ext cx="4800600" cy="523800"/>
                <a:chOff x="2209680" y="4952880"/>
                <a:chExt cx="4800600" cy="5238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209680" y="495288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335320" y="495288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579ad"/>
                    </a:gs>
                    <a:gs pos="50000">
                      <a:srgbClr val="004890"/>
                    </a:gs>
                    <a:gs pos="100000">
                      <a:srgbClr val="4579a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460240" y="495288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99ff"/>
                    </a:gs>
                    <a:gs pos="50000">
                      <a:srgbClr val="5fbefe"/>
                    </a:gs>
                    <a:gs pos="100000">
                      <a:srgbClr val="0099ff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2306520" y="524376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73960" y="524376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3246120" y="496548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209680" y="2133720"/>
            <a:ext cx="4800600" cy="523800"/>
            <a:chOff x="2209680" y="2133720"/>
            <a:chExt cx="4800600" cy="523800"/>
          </a:xfrm>
        </p:grpSpPr>
        <p:grpSp>
          <p:nvGrpSpPr>
            <p:cNvPr id="89" name=""/>
            <p:cNvGrpSpPr/>
            <p:nvPr/>
          </p:nvGrpSpPr>
          <p:grpSpPr>
            <a:xfrm>
              <a:off x="2209680" y="2133720"/>
              <a:ext cx="4800600" cy="523800"/>
              <a:chOff x="2209680" y="2133720"/>
              <a:chExt cx="4800600" cy="5238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2209680" y="2133720"/>
                <a:ext cx="4800600" cy="523800"/>
                <a:chOff x="2209680" y="2133720"/>
                <a:chExt cx="4800600" cy="5238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209680" y="21337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335320" y="21337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398a0"/>
                    </a:gs>
                    <a:gs pos="50000">
                      <a:srgbClr val="13737d"/>
                    </a:gs>
                    <a:gs pos="100000">
                      <a:srgbClr val="5398a0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460240" y="21337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0e0de"/>
                    </a:gs>
                    <a:gs pos="100000">
                      <a:srgbClr val="83cfc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2306520" y="242460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73960" y="242460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3246120" y="21463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09680" y="2819520"/>
            <a:ext cx="4800600" cy="523800"/>
            <a:chOff x="2209680" y="2819520"/>
            <a:chExt cx="4800600" cy="523800"/>
          </a:xfrm>
        </p:grpSpPr>
        <p:grpSp>
          <p:nvGrpSpPr>
            <p:cNvPr id="98" name=""/>
            <p:cNvGrpSpPr/>
            <p:nvPr/>
          </p:nvGrpSpPr>
          <p:grpSpPr>
            <a:xfrm>
              <a:off x="2209680" y="2819520"/>
              <a:ext cx="4800600" cy="523800"/>
              <a:chOff x="2209680" y="2819520"/>
              <a:chExt cx="4800600" cy="5238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2209680" y="2819520"/>
                <a:ext cx="4800600" cy="523800"/>
                <a:chOff x="2209680" y="2819520"/>
                <a:chExt cx="4800600" cy="523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209680" y="28195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335320" y="28195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398a0"/>
                    </a:gs>
                    <a:gs pos="50000">
                      <a:srgbClr val="13737d"/>
                    </a:gs>
                    <a:gs pos="100000">
                      <a:srgbClr val="5398a0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460240" y="28195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0e0de"/>
                    </a:gs>
                    <a:gs pos="100000">
                      <a:srgbClr val="83cfc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2306520" y="311040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73960" y="311040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246120" y="28321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09680" y="3505320"/>
            <a:ext cx="4800600" cy="523800"/>
            <a:chOff x="2209680" y="3505320"/>
            <a:chExt cx="4800600" cy="523800"/>
          </a:xfrm>
        </p:grpSpPr>
        <p:grpSp>
          <p:nvGrpSpPr>
            <p:cNvPr id="107" name=""/>
            <p:cNvGrpSpPr/>
            <p:nvPr/>
          </p:nvGrpSpPr>
          <p:grpSpPr>
            <a:xfrm>
              <a:off x="2209680" y="3505320"/>
              <a:ext cx="4800600" cy="523800"/>
              <a:chOff x="2209680" y="3505320"/>
              <a:chExt cx="4800600" cy="5238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209680" y="3505320"/>
                <a:ext cx="4800600" cy="523800"/>
                <a:chOff x="2209680" y="3505320"/>
                <a:chExt cx="4800600" cy="5238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09680" y="35053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335320" y="35053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398a0"/>
                    </a:gs>
                    <a:gs pos="50000">
                      <a:srgbClr val="13737d"/>
                    </a:gs>
                    <a:gs pos="100000">
                      <a:srgbClr val="5398a0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460240" y="35053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0e0de"/>
                    </a:gs>
                    <a:gs pos="100000">
                      <a:srgbClr val="83cfc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2306520" y="379620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73960" y="379620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46120" y="35179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209680" y="4191120"/>
            <a:ext cx="4800600" cy="523800"/>
            <a:chOff x="2209680" y="4191120"/>
            <a:chExt cx="4800600" cy="523800"/>
          </a:xfrm>
        </p:grpSpPr>
        <p:grpSp>
          <p:nvGrpSpPr>
            <p:cNvPr id="116" name=""/>
            <p:cNvGrpSpPr/>
            <p:nvPr/>
          </p:nvGrpSpPr>
          <p:grpSpPr>
            <a:xfrm>
              <a:off x="2209680" y="4191120"/>
              <a:ext cx="4800600" cy="523800"/>
              <a:chOff x="2209680" y="4191120"/>
              <a:chExt cx="4800600" cy="5238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209680" y="4191120"/>
                <a:ext cx="4800600" cy="523800"/>
                <a:chOff x="2209680" y="4191120"/>
                <a:chExt cx="4800600" cy="5238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209680" y="41911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335320" y="41911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398a0"/>
                    </a:gs>
                    <a:gs pos="50000">
                      <a:srgbClr val="13737d"/>
                    </a:gs>
                    <a:gs pos="100000">
                      <a:srgbClr val="5398a0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60240" y="41911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0e0de"/>
                    </a:gs>
                    <a:gs pos="100000">
                      <a:srgbClr val="83cfc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2306520" y="448200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573960" y="448200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246120" y="42037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09680" y="4876920"/>
            <a:ext cx="4800600" cy="523800"/>
            <a:chOff x="2209680" y="4876920"/>
            <a:chExt cx="4800600" cy="523800"/>
          </a:xfrm>
        </p:grpSpPr>
        <p:grpSp>
          <p:nvGrpSpPr>
            <p:cNvPr id="125" name=""/>
            <p:cNvGrpSpPr/>
            <p:nvPr/>
          </p:nvGrpSpPr>
          <p:grpSpPr>
            <a:xfrm>
              <a:off x="2209680" y="4876920"/>
              <a:ext cx="4800600" cy="523800"/>
              <a:chOff x="2209680" y="4876920"/>
              <a:chExt cx="4800600" cy="5238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2209680" y="4876920"/>
                <a:ext cx="4800600" cy="523800"/>
                <a:chOff x="2209680" y="4876920"/>
                <a:chExt cx="4800600" cy="5238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09680" y="48769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6406a"/>
                    </a:gs>
                    <a:gs pos="50000">
                      <a:srgbClr val="002e5c"/>
                    </a:gs>
                    <a:gs pos="100000">
                      <a:srgbClr val="16406a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35320" y="48769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398a0"/>
                    </a:gs>
                    <a:gs pos="50000">
                      <a:srgbClr val="13737d"/>
                    </a:gs>
                    <a:gs pos="100000">
                      <a:srgbClr val="5398a0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460240" y="48769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0e0de"/>
                    </a:gs>
                    <a:gs pos="100000">
                      <a:srgbClr val="83cfcd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2306520" y="5167800"/>
                <a:ext cx="38808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73960" y="5167800"/>
                <a:ext cx="387720" cy="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246120" y="48895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1:57Z</dcterms:modified>
  <cp:revision>92</cp:revision>
  <dc:subject/>
  <dc:title>Contents Design</dc:title>
</cp:coreProperties>
</file>