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814-3059-4536-A7A5-2C3B662F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0E6-AFC8-4BF9-B863-296CF355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B23-16BB-41AE-ABDD-C9E8017F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C9C-7FA7-4204-A477-3C5FD108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E8E-AA26-485B-8C90-4433E9FA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79F-2663-4DCC-8896-29AC3A2B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D9E-57BC-46C3-AD16-D33EA6D8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273-E9BB-4A30-9F9E-73D9D5A5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56A-9704-438F-B777-17F6A570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124-91CF-48C2-8C10-53A62CD8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3DE-EDA4-4E5D-ABEA-363A7CAA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B13-F30E-4C49-97F7-A44B637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C28A-D7D1-442E-A0AB-76429E00D8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122"/>
            </a:gs>
            <a:gs pos="100000">
              <a:srgbClr val="636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2002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47600" y="4185720"/>
            <a:ext cx="4758120" cy="1000440"/>
            <a:chOff x="1947600" y="4185720"/>
            <a:chExt cx="4758120" cy="1000440"/>
          </a:xfrm>
        </p:grpSpPr>
        <p:sp>
          <p:nvSpPr>
            <p:cNvPr id="43" name=""/>
            <p:cNvSpPr/>
            <p:nvPr/>
          </p:nvSpPr>
          <p:spPr>
            <a:xfrm>
              <a:off x="2398680" y="4389480"/>
              <a:ext cx="430704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19520" y="4419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947600" y="4185720"/>
              <a:ext cx="1057680" cy="1000440"/>
              <a:chOff x="1947600" y="4185720"/>
              <a:chExt cx="1057680" cy="1000440"/>
            </a:xfrm>
          </p:grpSpPr>
          <p:sp>
            <p:nvSpPr>
              <p:cNvPr id="46" name=""/>
              <p:cNvSpPr/>
              <p:nvPr/>
            </p:nvSpPr>
            <p:spPr>
              <a:xfrm rot="1758000">
                <a:off x="2080800" y="4366800"/>
                <a:ext cx="814320" cy="6620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758000">
                <a:off x="2057040" y="4343400"/>
                <a:ext cx="817560" cy="66204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54c16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33720" y="4381560"/>
                <a:ext cx="379440" cy="38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"/>
            <p:cNvSpPr/>
            <p:nvPr/>
          </p:nvSpPr>
          <p:spPr>
            <a:xfrm>
              <a:off x="2288160" y="4371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947600" y="1747800"/>
            <a:ext cx="4758120" cy="1000440"/>
            <a:chOff x="1947600" y="1747800"/>
            <a:chExt cx="4758120" cy="1000440"/>
          </a:xfrm>
        </p:grpSpPr>
        <p:sp>
          <p:nvSpPr>
            <p:cNvPr id="51" name=""/>
            <p:cNvSpPr/>
            <p:nvPr/>
          </p:nvSpPr>
          <p:spPr>
            <a:xfrm>
              <a:off x="2397240" y="195120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9520" y="1981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947600" y="1747800"/>
              <a:ext cx="1057680" cy="1000440"/>
              <a:chOff x="1947600" y="1747800"/>
              <a:chExt cx="1057680" cy="1000440"/>
            </a:xfrm>
          </p:grpSpPr>
          <p:sp>
            <p:nvSpPr>
              <p:cNvPr id="54" name=""/>
              <p:cNvSpPr/>
              <p:nvPr/>
            </p:nvSpPr>
            <p:spPr>
              <a:xfrm rot="1758000">
                <a:off x="2079720" y="1928520"/>
                <a:ext cx="815760" cy="662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758000">
                <a:off x="2057400" y="1905120"/>
                <a:ext cx="816120" cy="66204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c38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33720" y="1943280"/>
                <a:ext cx="379440" cy="38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" name=""/>
            <p:cNvSpPr/>
            <p:nvPr/>
          </p:nvSpPr>
          <p:spPr>
            <a:xfrm>
              <a:off x="2287440" y="193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947600" y="2509560"/>
            <a:ext cx="4758120" cy="1000440"/>
            <a:chOff x="1947600" y="2509560"/>
            <a:chExt cx="4758120" cy="1000440"/>
          </a:xfrm>
        </p:grpSpPr>
        <p:sp>
          <p:nvSpPr>
            <p:cNvPr id="59" name=""/>
            <p:cNvSpPr/>
            <p:nvPr/>
          </p:nvSpPr>
          <p:spPr>
            <a:xfrm>
              <a:off x="2397240" y="2712960"/>
              <a:ext cx="4308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19520" y="27432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947600" y="2509560"/>
              <a:ext cx="1057680" cy="1000440"/>
              <a:chOff x="1947600" y="2509560"/>
              <a:chExt cx="1057680" cy="1000440"/>
            </a:xfrm>
          </p:grpSpPr>
          <p:sp>
            <p:nvSpPr>
              <p:cNvPr id="62" name=""/>
              <p:cNvSpPr/>
              <p:nvPr/>
            </p:nvSpPr>
            <p:spPr>
              <a:xfrm rot="1758000">
                <a:off x="2079720" y="2690280"/>
                <a:ext cx="815760" cy="6620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758000">
                <a:off x="2057400" y="2666880"/>
                <a:ext cx="816120" cy="66204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54c16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33720" y="2705040"/>
                <a:ext cx="379440" cy="38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"/>
            <p:cNvSpPr/>
            <p:nvPr/>
          </p:nvSpPr>
          <p:spPr>
            <a:xfrm>
              <a:off x="2287440" y="2695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947600" y="3348000"/>
            <a:ext cx="4758120" cy="1000440"/>
            <a:chOff x="1947600" y="3348000"/>
            <a:chExt cx="4758120" cy="1000440"/>
          </a:xfrm>
        </p:grpSpPr>
        <p:sp>
          <p:nvSpPr>
            <p:cNvPr id="67" name=""/>
            <p:cNvSpPr/>
            <p:nvPr/>
          </p:nvSpPr>
          <p:spPr>
            <a:xfrm>
              <a:off x="2397240" y="355140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19520" y="3581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947600" y="3348000"/>
              <a:ext cx="1057680" cy="1000440"/>
              <a:chOff x="1947600" y="3348000"/>
              <a:chExt cx="1057680" cy="1000440"/>
            </a:xfrm>
          </p:grpSpPr>
          <p:sp>
            <p:nvSpPr>
              <p:cNvPr id="70" name=""/>
              <p:cNvSpPr/>
              <p:nvPr/>
            </p:nvSpPr>
            <p:spPr>
              <a:xfrm rot="1758000">
                <a:off x="2079720" y="3528720"/>
                <a:ext cx="815760" cy="662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758000">
                <a:off x="2057400" y="3505320"/>
                <a:ext cx="816120" cy="66204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c38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133720" y="3543480"/>
                <a:ext cx="379440" cy="38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"/>
            <p:cNvSpPr/>
            <p:nvPr/>
          </p:nvSpPr>
          <p:spPr>
            <a:xfrm>
              <a:off x="2287440" y="353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947600" y="5024160"/>
            <a:ext cx="4758120" cy="1000440"/>
            <a:chOff x="1947600" y="5024160"/>
            <a:chExt cx="4758120" cy="1000440"/>
          </a:xfrm>
        </p:grpSpPr>
        <p:sp>
          <p:nvSpPr>
            <p:cNvPr id="75" name=""/>
            <p:cNvSpPr/>
            <p:nvPr/>
          </p:nvSpPr>
          <p:spPr>
            <a:xfrm>
              <a:off x="2397240" y="5227560"/>
              <a:ext cx="4308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2578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1947600" y="5024160"/>
              <a:ext cx="1057680" cy="1000440"/>
              <a:chOff x="1947600" y="5024160"/>
              <a:chExt cx="1057680" cy="1000440"/>
            </a:xfrm>
          </p:grpSpPr>
          <p:sp>
            <p:nvSpPr>
              <p:cNvPr id="78" name=""/>
              <p:cNvSpPr/>
              <p:nvPr/>
            </p:nvSpPr>
            <p:spPr>
              <a:xfrm rot="1758000">
                <a:off x="2079720" y="5204880"/>
                <a:ext cx="815760" cy="662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758000">
                <a:off x="2057400" y="5181480"/>
                <a:ext cx="816120" cy="66204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c38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33720" y="5219640"/>
                <a:ext cx="379440" cy="38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" name=""/>
            <p:cNvSpPr/>
            <p:nvPr/>
          </p:nvSpPr>
          <p:spPr>
            <a:xfrm>
              <a:off x="2287440" y="5210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122"/>
            </a:gs>
            <a:gs pos="100000">
              <a:srgbClr val="636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47600" y="4185720"/>
            <a:ext cx="4758120" cy="1000440"/>
            <a:chOff x="1947600" y="4185720"/>
            <a:chExt cx="4758120" cy="1000440"/>
          </a:xfrm>
        </p:grpSpPr>
        <p:sp>
          <p:nvSpPr>
            <p:cNvPr id="84" name=""/>
            <p:cNvSpPr/>
            <p:nvPr/>
          </p:nvSpPr>
          <p:spPr>
            <a:xfrm>
              <a:off x="2398680" y="4389480"/>
              <a:ext cx="430704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19520" y="4419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758000">
              <a:off x="2080800" y="4366800"/>
              <a:ext cx="814320" cy="6620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758000">
              <a:off x="2057040" y="4343400"/>
              <a:ext cx="817560" cy="662040"/>
            </a:xfrm>
            <a:prstGeom prst="ellipse">
              <a:avLst/>
            </a:prstGeom>
            <a:gradFill rotWithShape="0">
              <a:gsLst>
                <a:gs pos="0">
                  <a:srgbClr val="74a731"/>
                </a:gs>
                <a:gs pos="100000">
                  <a:srgbClr val="354c16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8160" y="4371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947600" y="1747800"/>
            <a:ext cx="4758120" cy="1000440"/>
            <a:chOff x="1947600" y="1747800"/>
            <a:chExt cx="4758120" cy="1000440"/>
          </a:xfrm>
        </p:grpSpPr>
        <p:sp>
          <p:nvSpPr>
            <p:cNvPr id="90" name=""/>
            <p:cNvSpPr/>
            <p:nvPr/>
          </p:nvSpPr>
          <p:spPr>
            <a:xfrm>
              <a:off x="2397240" y="195120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19520" y="1981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758000">
              <a:off x="2079720" y="1928520"/>
              <a:ext cx="815760" cy="662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58000">
              <a:off x="2057400" y="190512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a67a32"/>
                </a:gs>
                <a:gs pos="100000">
                  <a:srgbClr val="4c3817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7440" y="193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947600" y="2509560"/>
            <a:ext cx="4758120" cy="1000440"/>
            <a:chOff x="1947600" y="2509560"/>
            <a:chExt cx="4758120" cy="1000440"/>
          </a:xfrm>
        </p:grpSpPr>
        <p:sp>
          <p:nvSpPr>
            <p:cNvPr id="96" name=""/>
            <p:cNvSpPr/>
            <p:nvPr/>
          </p:nvSpPr>
          <p:spPr>
            <a:xfrm>
              <a:off x="2397240" y="2712960"/>
              <a:ext cx="4308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19520" y="27432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758000">
              <a:off x="2079720" y="2690280"/>
              <a:ext cx="815760" cy="6620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758000">
              <a:off x="2057400" y="266688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74a731"/>
                </a:gs>
                <a:gs pos="100000">
                  <a:srgbClr val="354c16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7440" y="2695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947600" y="3348000"/>
            <a:ext cx="4758120" cy="1000440"/>
            <a:chOff x="1947600" y="3348000"/>
            <a:chExt cx="4758120" cy="1000440"/>
          </a:xfrm>
        </p:grpSpPr>
        <p:sp>
          <p:nvSpPr>
            <p:cNvPr id="102" name=""/>
            <p:cNvSpPr/>
            <p:nvPr/>
          </p:nvSpPr>
          <p:spPr>
            <a:xfrm>
              <a:off x="2397240" y="355140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3581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758000">
              <a:off x="2079720" y="3528720"/>
              <a:ext cx="815760" cy="662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758000">
              <a:off x="2057400" y="350532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a67a32"/>
                </a:gs>
                <a:gs pos="100000">
                  <a:srgbClr val="4c3817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7440" y="353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947600" y="5024160"/>
            <a:ext cx="4758120" cy="1000440"/>
            <a:chOff x="1947600" y="5024160"/>
            <a:chExt cx="4758120" cy="1000440"/>
          </a:xfrm>
        </p:grpSpPr>
        <p:sp>
          <p:nvSpPr>
            <p:cNvPr id="108" name=""/>
            <p:cNvSpPr/>
            <p:nvPr/>
          </p:nvSpPr>
          <p:spPr>
            <a:xfrm>
              <a:off x="2397240" y="5227560"/>
              <a:ext cx="4308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52578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758000">
              <a:off x="2079720" y="5204880"/>
              <a:ext cx="815760" cy="662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758000">
              <a:off x="2057400" y="518148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a67a32"/>
                </a:gs>
                <a:gs pos="100000">
                  <a:srgbClr val="4c3817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7440" y="5210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 2002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176200" y="1747800"/>
            <a:ext cx="4758120" cy="1000440"/>
            <a:chOff x="2176200" y="1747800"/>
            <a:chExt cx="4758120" cy="1000440"/>
          </a:xfrm>
        </p:grpSpPr>
        <p:sp>
          <p:nvSpPr>
            <p:cNvPr id="115" name=""/>
            <p:cNvSpPr/>
            <p:nvPr/>
          </p:nvSpPr>
          <p:spPr>
            <a:xfrm>
              <a:off x="2625840" y="195120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758000">
              <a:off x="2308320" y="1928520"/>
              <a:ext cx="815760" cy="662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758000">
              <a:off x="2286000" y="190512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a67a32"/>
                </a:gs>
                <a:gs pos="100000">
                  <a:srgbClr val="4c3817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7000" y="1946160"/>
              <a:ext cx="366840" cy="373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1981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7880" y="193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25840" y="195120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1e6fb"/>
                </a:gs>
                <a:gs pos="100000">
                  <a:srgbClr val="ebf7fd"/>
                </a:gs>
              </a:gsLst>
              <a:lin ang="10800000"/>
            </a:gradFill>
            <a:ln w="38160">
              <a:solidFill>
                <a:srgbClr val="4cc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758000">
              <a:off x="2308320" y="1928520"/>
              <a:ext cx="815760" cy="662040"/>
            </a:xfrm>
            <a:prstGeom prst="ellipse">
              <a:avLst/>
            </a:prstGeom>
            <a:solidFill>
              <a:srgbClr val="3a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758000">
              <a:off x="2286000" y="190512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4ccae8"/>
                </a:gs>
                <a:gs pos="100000">
                  <a:srgbClr val="235d6a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8120" y="1981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2362320" y="1947960"/>
              <a:ext cx="37944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516040" y="193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176200" y="2509560"/>
            <a:ext cx="4758120" cy="1000440"/>
            <a:chOff x="2176200" y="2509560"/>
            <a:chExt cx="4758120" cy="1000440"/>
          </a:xfrm>
        </p:grpSpPr>
        <p:sp>
          <p:nvSpPr>
            <p:cNvPr id="128" name=""/>
            <p:cNvSpPr/>
            <p:nvPr/>
          </p:nvSpPr>
          <p:spPr>
            <a:xfrm>
              <a:off x="2625840" y="2712960"/>
              <a:ext cx="4308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758000">
              <a:off x="2308320" y="2690280"/>
              <a:ext cx="815760" cy="6620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758000">
              <a:off x="2286000" y="266688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74a731"/>
                </a:gs>
                <a:gs pos="100000">
                  <a:srgbClr val="354c16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7000" y="2708280"/>
              <a:ext cx="366840" cy="372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27432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77880" y="2695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25840" y="2712960"/>
              <a:ext cx="4308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d8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6d85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758000">
              <a:off x="2308320" y="2690280"/>
              <a:ext cx="815760" cy="662040"/>
            </a:xfrm>
            <a:prstGeom prst="ellipse">
              <a:avLst/>
            </a:prstGeom>
            <a:solidFill>
              <a:srgbClr val="55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758000">
              <a:off x="2286000" y="266688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95a8fb"/>
                </a:gs>
                <a:gs pos="100000">
                  <a:srgbClr val="444d73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8120" y="27432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2362320" y="2705040"/>
              <a:ext cx="3794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516040" y="2695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176200" y="3271680"/>
            <a:ext cx="4758120" cy="1000440"/>
            <a:chOff x="2176200" y="3271680"/>
            <a:chExt cx="4758120" cy="1000440"/>
          </a:xfrm>
        </p:grpSpPr>
        <p:sp>
          <p:nvSpPr>
            <p:cNvPr id="141" name=""/>
            <p:cNvSpPr/>
            <p:nvPr/>
          </p:nvSpPr>
          <p:spPr>
            <a:xfrm>
              <a:off x="2625840" y="347508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758000">
              <a:off x="2308320" y="3452400"/>
              <a:ext cx="815760" cy="662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758000">
              <a:off x="2286000" y="342900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a67a32"/>
                </a:gs>
                <a:gs pos="100000">
                  <a:srgbClr val="4c3817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7000" y="3470400"/>
              <a:ext cx="366840" cy="372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35053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7880" y="3457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25840" y="347508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1e6fb"/>
                </a:gs>
                <a:gs pos="100000">
                  <a:srgbClr val="ebf7fd"/>
                </a:gs>
              </a:gsLst>
              <a:lin ang="10800000"/>
            </a:gradFill>
            <a:ln w="38160">
              <a:solidFill>
                <a:srgbClr val="4cc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758000">
              <a:off x="2308320" y="3452400"/>
              <a:ext cx="815760" cy="662040"/>
            </a:xfrm>
            <a:prstGeom prst="ellipse">
              <a:avLst/>
            </a:prstGeom>
            <a:solidFill>
              <a:srgbClr val="3a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758000">
              <a:off x="2286000" y="342900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4ccae8"/>
                </a:gs>
                <a:gs pos="100000">
                  <a:srgbClr val="235d6a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35053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2362320" y="3462480"/>
              <a:ext cx="37944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16040" y="3457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176200" y="4033800"/>
            <a:ext cx="4758120" cy="1000440"/>
            <a:chOff x="2176200" y="4033800"/>
            <a:chExt cx="4758120" cy="1000440"/>
          </a:xfrm>
        </p:grpSpPr>
        <p:sp>
          <p:nvSpPr>
            <p:cNvPr id="154" name=""/>
            <p:cNvSpPr/>
            <p:nvPr/>
          </p:nvSpPr>
          <p:spPr>
            <a:xfrm>
              <a:off x="2625840" y="423720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758000">
              <a:off x="2308320" y="4214520"/>
              <a:ext cx="815760" cy="6620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758000">
              <a:off x="2286000" y="419112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74a731"/>
                </a:gs>
                <a:gs pos="100000">
                  <a:srgbClr val="354c16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7000" y="4232160"/>
              <a:ext cx="366840" cy="373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48120" y="4267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77880" y="4219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25840" y="423720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d8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6d85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58000">
              <a:off x="2308320" y="4214520"/>
              <a:ext cx="815760" cy="662040"/>
            </a:xfrm>
            <a:prstGeom prst="ellipse">
              <a:avLst/>
            </a:prstGeom>
            <a:solidFill>
              <a:srgbClr val="55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58000">
              <a:off x="2286000" y="419112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95a8fb"/>
                </a:gs>
                <a:gs pos="100000">
                  <a:srgbClr val="444d73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8120" y="4267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2362320" y="4224240"/>
              <a:ext cx="3794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516040" y="4219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176200" y="4795560"/>
            <a:ext cx="4758120" cy="1000440"/>
            <a:chOff x="2176200" y="4795560"/>
            <a:chExt cx="4758120" cy="1000440"/>
          </a:xfrm>
        </p:grpSpPr>
        <p:sp>
          <p:nvSpPr>
            <p:cNvPr id="167" name=""/>
            <p:cNvSpPr/>
            <p:nvPr/>
          </p:nvSpPr>
          <p:spPr>
            <a:xfrm>
              <a:off x="2625840" y="4998960"/>
              <a:ext cx="4308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758000">
              <a:off x="2308320" y="4976280"/>
              <a:ext cx="815760" cy="662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758000">
              <a:off x="2286000" y="495288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a67a32"/>
                </a:gs>
                <a:gs pos="100000">
                  <a:srgbClr val="4c3817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7000" y="4994280"/>
              <a:ext cx="366840" cy="372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8120" y="50292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77880" y="4981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5840" y="4998960"/>
              <a:ext cx="4308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1e6fb"/>
                </a:gs>
                <a:gs pos="100000">
                  <a:srgbClr val="ebf7fd"/>
                </a:gs>
              </a:gsLst>
              <a:lin ang="10800000"/>
            </a:gradFill>
            <a:ln w="38160">
              <a:solidFill>
                <a:srgbClr val="4cc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758000">
              <a:off x="2308320" y="4976280"/>
              <a:ext cx="815760" cy="662040"/>
            </a:xfrm>
            <a:prstGeom prst="ellipse">
              <a:avLst/>
            </a:prstGeom>
            <a:solidFill>
              <a:srgbClr val="3a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758000">
              <a:off x="2286000" y="495288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4ccae8"/>
                </a:gs>
                <a:gs pos="100000">
                  <a:srgbClr val="235d6a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8120" y="50292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5"/>
            <a:stretch/>
          </p:blipFill>
          <p:spPr>
            <a:xfrm>
              <a:off x="2362320" y="4986360"/>
              <a:ext cx="3794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516040" y="4981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28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176200" y="1747800"/>
            <a:ext cx="4758120" cy="1000440"/>
            <a:chOff x="2176200" y="1747800"/>
            <a:chExt cx="4758120" cy="1000440"/>
          </a:xfrm>
        </p:grpSpPr>
        <p:sp>
          <p:nvSpPr>
            <p:cNvPr id="181" name=""/>
            <p:cNvSpPr/>
            <p:nvPr/>
          </p:nvSpPr>
          <p:spPr>
            <a:xfrm>
              <a:off x="2625840" y="195120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758000">
              <a:off x="2308320" y="1928520"/>
              <a:ext cx="815760" cy="662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758000">
              <a:off x="2286000" y="190512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a67a32"/>
                </a:gs>
                <a:gs pos="100000">
                  <a:srgbClr val="4c3817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7000" y="1946160"/>
              <a:ext cx="366840" cy="373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1981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77880" y="193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25840" y="195120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1e6fb"/>
                </a:gs>
                <a:gs pos="100000">
                  <a:srgbClr val="ebf7fd"/>
                </a:gs>
              </a:gsLst>
              <a:lin ang="10800000"/>
            </a:gradFill>
            <a:ln w="38160">
              <a:solidFill>
                <a:srgbClr val="4cc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758000">
              <a:off x="2308320" y="1928520"/>
              <a:ext cx="815760" cy="662040"/>
            </a:xfrm>
            <a:prstGeom prst="ellipse">
              <a:avLst/>
            </a:prstGeom>
            <a:solidFill>
              <a:srgbClr val="3a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758000">
              <a:off x="2286000" y="190512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4ccae8"/>
                </a:gs>
                <a:gs pos="100000">
                  <a:srgbClr val="235d6a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8120" y="1981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16040" y="193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76200" y="2509560"/>
            <a:ext cx="4758120" cy="1000440"/>
            <a:chOff x="2176200" y="2509560"/>
            <a:chExt cx="4758120" cy="1000440"/>
          </a:xfrm>
        </p:grpSpPr>
        <p:sp>
          <p:nvSpPr>
            <p:cNvPr id="193" name=""/>
            <p:cNvSpPr/>
            <p:nvPr/>
          </p:nvSpPr>
          <p:spPr>
            <a:xfrm>
              <a:off x="2625840" y="2712960"/>
              <a:ext cx="4308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758000">
              <a:off x="2308320" y="2690280"/>
              <a:ext cx="815760" cy="6620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758000">
              <a:off x="2286000" y="266688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74a731"/>
                </a:gs>
                <a:gs pos="100000">
                  <a:srgbClr val="354c16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67000" y="2708280"/>
              <a:ext cx="366840" cy="372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8120" y="27432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77880" y="2695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25840" y="2712960"/>
              <a:ext cx="4308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d8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6d85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758000">
              <a:off x="2308320" y="2690280"/>
              <a:ext cx="815760" cy="662040"/>
            </a:xfrm>
            <a:prstGeom prst="ellipse">
              <a:avLst/>
            </a:prstGeom>
            <a:solidFill>
              <a:srgbClr val="55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758000">
              <a:off x="2286000" y="266688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95a8fb"/>
                </a:gs>
                <a:gs pos="100000">
                  <a:srgbClr val="444d73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8120" y="27432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6040" y="2695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176200" y="3271680"/>
            <a:ext cx="4758120" cy="1000440"/>
            <a:chOff x="2176200" y="3271680"/>
            <a:chExt cx="4758120" cy="1000440"/>
          </a:xfrm>
        </p:grpSpPr>
        <p:sp>
          <p:nvSpPr>
            <p:cNvPr id="205" name=""/>
            <p:cNvSpPr/>
            <p:nvPr/>
          </p:nvSpPr>
          <p:spPr>
            <a:xfrm>
              <a:off x="2625840" y="347508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758000">
              <a:off x="2308320" y="3452400"/>
              <a:ext cx="815760" cy="662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758000">
              <a:off x="2286000" y="342900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a67a32"/>
                </a:gs>
                <a:gs pos="100000">
                  <a:srgbClr val="4c3817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67000" y="3470400"/>
              <a:ext cx="366840" cy="372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8120" y="35053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7880" y="3457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25840" y="347508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1e6fb"/>
                </a:gs>
                <a:gs pos="100000">
                  <a:srgbClr val="ebf7fd"/>
                </a:gs>
              </a:gsLst>
              <a:lin ang="10800000"/>
            </a:gradFill>
            <a:ln w="38160">
              <a:solidFill>
                <a:srgbClr val="4cc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758000">
              <a:off x="2308320" y="3452400"/>
              <a:ext cx="815760" cy="662040"/>
            </a:xfrm>
            <a:prstGeom prst="ellipse">
              <a:avLst/>
            </a:prstGeom>
            <a:solidFill>
              <a:srgbClr val="3a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758000">
              <a:off x="2286000" y="342900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4ccae8"/>
                </a:gs>
                <a:gs pos="100000">
                  <a:srgbClr val="235d6a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8120" y="35053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16040" y="3457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176200" y="4033800"/>
            <a:ext cx="4758120" cy="1000440"/>
            <a:chOff x="2176200" y="4033800"/>
            <a:chExt cx="4758120" cy="1000440"/>
          </a:xfrm>
        </p:grpSpPr>
        <p:sp>
          <p:nvSpPr>
            <p:cNvPr id="217" name=""/>
            <p:cNvSpPr/>
            <p:nvPr/>
          </p:nvSpPr>
          <p:spPr>
            <a:xfrm>
              <a:off x="2625840" y="423720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758000">
              <a:off x="2308320" y="4214520"/>
              <a:ext cx="815760" cy="6620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758000">
              <a:off x="2286000" y="419112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74a731"/>
                </a:gs>
                <a:gs pos="100000">
                  <a:srgbClr val="354c16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7000" y="4232160"/>
              <a:ext cx="366840" cy="373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8120" y="4267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77880" y="4219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25840" y="4237200"/>
              <a:ext cx="43084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d8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6d85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758000">
              <a:off x="2308320" y="4214520"/>
              <a:ext cx="815760" cy="662040"/>
            </a:xfrm>
            <a:prstGeom prst="ellipse">
              <a:avLst/>
            </a:prstGeom>
            <a:solidFill>
              <a:srgbClr val="55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758000">
              <a:off x="2286000" y="419112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95a8fb"/>
                </a:gs>
                <a:gs pos="100000">
                  <a:srgbClr val="444d73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4267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16040" y="4219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176200" y="4795560"/>
            <a:ext cx="4758120" cy="1000440"/>
            <a:chOff x="2176200" y="4795560"/>
            <a:chExt cx="4758120" cy="1000440"/>
          </a:xfrm>
        </p:grpSpPr>
        <p:sp>
          <p:nvSpPr>
            <p:cNvPr id="229" name=""/>
            <p:cNvSpPr/>
            <p:nvPr/>
          </p:nvSpPr>
          <p:spPr>
            <a:xfrm>
              <a:off x="2625840" y="4998960"/>
              <a:ext cx="4308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eb7"/>
                </a:gs>
                <a:gs pos="100000">
                  <a:srgbClr val="f8f4d4"/>
                </a:gs>
              </a:gsLst>
              <a:lin ang="1080000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758000">
              <a:off x="2308320" y="4976280"/>
              <a:ext cx="815760" cy="662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758000">
              <a:off x="2286000" y="495288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a67a32"/>
                </a:gs>
                <a:gs pos="100000">
                  <a:srgbClr val="4c3817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7000" y="4994280"/>
              <a:ext cx="366840" cy="372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8120" y="50292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7880" y="4981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5840" y="4998960"/>
              <a:ext cx="4308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1e6fb"/>
                </a:gs>
                <a:gs pos="100000">
                  <a:srgbClr val="ebf7fd"/>
                </a:gs>
              </a:gsLst>
              <a:lin ang="10800000"/>
            </a:gradFill>
            <a:ln w="38160">
              <a:solidFill>
                <a:srgbClr val="4cc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758000">
              <a:off x="2308320" y="4976280"/>
              <a:ext cx="815760" cy="662040"/>
            </a:xfrm>
            <a:prstGeom prst="ellipse">
              <a:avLst/>
            </a:prstGeom>
            <a:solidFill>
              <a:srgbClr val="3a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758000">
              <a:off x="2286000" y="4952880"/>
              <a:ext cx="816120" cy="662040"/>
            </a:xfrm>
            <a:prstGeom prst="ellipse">
              <a:avLst/>
            </a:prstGeom>
            <a:gradFill rotWithShape="0">
              <a:gsLst>
                <a:gs pos="0">
                  <a:srgbClr val="4ccae8"/>
                </a:gs>
                <a:gs pos="100000">
                  <a:srgbClr val="235d6a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50292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16040" y="4981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12:16Z</dcterms:modified>
  <cp:revision>99</cp:revision>
  <dc:subject/>
  <dc:title>Contents Design</dc:title>
</cp:coreProperties>
</file>