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CBB-C115-4DFA-A59D-61957853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93B-FEC8-44A2-AA45-9E560001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D06-1B41-4920-8F1C-51643616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297-5F57-4DB1-9B65-B7A7F7AB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650-D02E-4D30-ACC7-D597AB72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9B7-542B-4149-B4D6-E1E36E5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906-A8DA-44AB-8157-37A16043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190-FCE6-478D-B826-1B908D8A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56D-8B66-44EC-BA9A-7C9279EE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ADB-93E6-4BBA-ADBB-93A2F00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C66-5B28-4716-8C7F-DCB97454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A37-2E75-4484-9600-90D72BE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8F34-A7DC-4151-9120-E1B7845C1CA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4600" y="1981080"/>
            <a:ext cx="3809880" cy="609480"/>
            <a:chOff x="2514600" y="1981080"/>
            <a:chExt cx="3809880" cy="609480"/>
          </a:xfrm>
        </p:grpSpPr>
        <p:grpSp>
          <p:nvGrpSpPr>
            <p:cNvPr id="43" name=""/>
            <p:cNvGrpSpPr/>
            <p:nvPr/>
          </p:nvGrpSpPr>
          <p:grpSpPr>
            <a:xfrm>
              <a:off x="2514600" y="1981080"/>
              <a:ext cx="533160" cy="609480"/>
              <a:chOff x="2514600" y="1981080"/>
              <a:chExt cx="533160" cy="609480"/>
            </a:xfrm>
          </p:grpSpPr>
          <p:sp>
            <p:nvSpPr>
              <p:cNvPr id="44" name=""/>
              <p:cNvSpPr/>
              <p:nvPr/>
            </p:nvSpPr>
            <p:spPr>
              <a:xfrm>
                <a:off x="2677680" y="19810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514600" y="21096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514600" y="22687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674800" y="228456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71640" y="22687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771640" y="21060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690280" y="22060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3353400" y="19810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24382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514600" y="2666880"/>
            <a:ext cx="3809880" cy="609480"/>
            <a:chOff x="2514600" y="2666880"/>
            <a:chExt cx="3809880" cy="609480"/>
          </a:xfrm>
        </p:grpSpPr>
        <p:grpSp>
          <p:nvGrpSpPr>
            <p:cNvPr id="54" name=""/>
            <p:cNvGrpSpPr/>
            <p:nvPr/>
          </p:nvGrpSpPr>
          <p:grpSpPr>
            <a:xfrm>
              <a:off x="2514600" y="2666880"/>
              <a:ext cx="533160" cy="609480"/>
              <a:chOff x="2514600" y="2666880"/>
              <a:chExt cx="533160" cy="6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2677680" y="26668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514600" y="27954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14600" y="29545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74800" y="297036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71640" y="29545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71640" y="27918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90280" y="28918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3353400" y="26668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8120" y="31240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514600" y="3429000"/>
            <a:ext cx="3809880" cy="609480"/>
            <a:chOff x="2514600" y="3429000"/>
            <a:chExt cx="3809880" cy="609480"/>
          </a:xfrm>
        </p:grpSpPr>
        <p:grpSp>
          <p:nvGrpSpPr>
            <p:cNvPr id="65" name=""/>
            <p:cNvGrpSpPr/>
            <p:nvPr/>
          </p:nvGrpSpPr>
          <p:grpSpPr>
            <a:xfrm>
              <a:off x="2514600" y="3429000"/>
              <a:ext cx="533160" cy="609480"/>
              <a:chOff x="2514600" y="3429000"/>
              <a:chExt cx="533160" cy="609480"/>
            </a:xfrm>
          </p:grpSpPr>
          <p:sp>
            <p:nvSpPr>
              <p:cNvPr id="66" name=""/>
              <p:cNvSpPr/>
              <p:nvPr/>
            </p:nvSpPr>
            <p:spPr>
              <a:xfrm>
                <a:off x="2677680" y="342900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514600" y="35575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514600" y="37166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74800" y="373248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771640" y="37166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71640" y="35539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90280" y="365400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353400" y="342900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388620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14600" y="4191120"/>
            <a:ext cx="3809880" cy="609480"/>
            <a:chOff x="2514600" y="4191120"/>
            <a:chExt cx="3809880" cy="609480"/>
          </a:xfrm>
        </p:grpSpPr>
        <p:grpSp>
          <p:nvGrpSpPr>
            <p:cNvPr id="76" name=""/>
            <p:cNvGrpSpPr/>
            <p:nvPr/>
          </p:nvGrpSpPr>
          <p:grpSpPr>
            <a:xfrm>
              <a:off x="2514600" y="4191120"/>
              <a:ext cx="533160" cy="609480"/>
              <a:chOff x="2514600" y="4191120"/>
              <a:chExt cx="533160" cy="609480"/>
            </a:xfrm>
          </p:grpSpPr>
          <p:sp>
            <p:nvSpPr>
              <p:cNvPr id="77" name=""/>
              <p:cNvSpPr/>
              <p:nvPr/>
            </p:nvSpPr>
            <p:spPr>
              <a:xfrm>
                <a:off x="2677680" y="419112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514600" y="43196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14600" y="447876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74800" y="449460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771640" y="447876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771640" y="43160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690280" y="441612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3353400" y="419112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64832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514600" y="4952880"/>
            <a:ext cx="3809880" cy="609480"/>
            <a:chOff x="2514600" y="4952880"/>
            <a:chExt cx="3809880" cy="609480"/>
          </a:xfrm>
        </p:grpSpPr>
        <p:grpSp>
          <p:nvGrpSpPr>
            <p:cNvPr id="87" name=""/>
            <p:cNvGrpSpPr/>
            <p:nvPr/>
          </p:nvGrpSpPr>
          <p:grpSpPr>
            <a:xfrm>
              <a:off x="2514600" y="4952880"/>
              <a:ext cx="533160" cy="609480"/>
              <a:chOff x="2514600" y="4952880"/>
              <a:chExt cx="533160" cy="609480"/>
            </a:xfrm>
          </p:grpSpPr>
          <p:sp>
            <p:nvSpPr>
              <p:cNvPr id="88" name=""/>
              <p:cNvSpPr/>
              <p:nvPr/>
            </p:nvSpPr>
            <p:spPr>
              <a:xfrm>
                <a:off x="2677680" y="49528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14600" y="50814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14600" y="52405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674800" y="525636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71640" y="52405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771640" y="50778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90280" y="51778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353400" y="49528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8120" y="54100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14600" y="1981080"/>
            <a:ext cx="3809880" cy="609480"/>
            <a:chOff x="2514600" y="1981080"/>
            <a:chExt cx="3809880" cy="609480"/>
          </a:xfrm>
        </p:grpSpPr>
        <p:grpSp>
          <p:nvGrpSpPr>
            <p:cNvPr id="99" name=""/>
            <p:cNvGrpSpPr/>
            <p:nvPr/>
          </p:nvGrpSpPr>
          <p:grpSpPr>
            <a:xfrm>
              <a:off x="2514600" y="1981080"/>
              <a:ext cx="533160" cy="609480"/>
              <a:chOff x="2514600" y="1981080"/>
              <a:chExt cx="533160" cy="609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677680" y="19810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14600" y="21096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14600" y="22687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74800" y="228456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71640" y="22687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771640" y="21060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90280" y="22060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353400" y="19810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8120" y="24382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514600" y="2666880"/>
            <a:ext cx="3809880" cy="609480"/>
            <a:chOff x="2514600" y="2666880"/>
            <a:chExt cx="3809880" cy="609480"/>
          </a:xfrm>
        </p:grpSpPr>
        <p:grpSp>
          <p:nvGrpSpPr>
            <p:cNvPr id="110" name=""/>
            <p:cNvGrpSpPr/>
            <p:nvPr/>
          </p:nvGrpSpPr>
          <p:grpSpPr>
            <a:xfrm>
              <a:off x="2514600" y="2666880"/>
              <a:ext cx="533160" cy="609480"/>
              <a:chOff x="2514600" y="2666880"/>
              <a:chExt cx="533160" cy="609480"/>
            </a:xfrm>
          </p:grpSpPr>
          <p:sp>
            <p:nvSpPr>
              <p:cNvPr id="111" name=""/>
              <p:cNvSpPr/>
              <p:nvPr/>
            </p:nvSpPr>
            <p:spPr>
              <a:xfrm>
                <a:off x="2677680" y="26668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14600" y="27954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14600" y="29545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74800" y="297036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71640" y="29545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71640" y="27918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0280" y="28918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353400" y="26668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3124080"/>
              <a:ext cx="327636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514600" y="3429000"/>
            <a:ext cx="3809880" cy="609480"/>
            <a:chOff x="2514600" y="3429000"/>
            <a:chExt cx="3809880" cy="609480"/>
          </a:xfrm>
        </p:grpSpPr>
        <p:grpSp>
          <p:nvGrpSpPr>
            <p:cNvPr id="121" name=""/>
            <p:cNvGrpSpPr/>
            <p:nvPr/>
          </p:nvGrpSpPr>
          <p:grpSpPr>
            <a:xfrm>
              <a:off x="2514600" y="3429000"/>
              <a:ext cx="533160" cy="609480"/>
              <a:chOff x="2514600" y="3429000"/>
              <a:chExt cx="533160" cy="60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2677680" y="342900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35575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14600" y="37166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74800" y="373248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71640" y="37166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71640" y="35539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90280" y="365400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353400" y="342900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88620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14600" y="4952880"/>
            <a:ext cx="3809880" cy="609480"/>
            <a:chOff x="2514600" y="4952880"/>
            <a:chExt cx="3809880" cy="609480"/>
          </a:xfrm>
        </p:grpSpPr>
        <p:grpSp>
          <p:nvGrpSpPr>
            <p:cNvPr id="132" name=""/>
            <p:cNvGrpSpPr/>
            <p:nvPr/>
          </p:nvGrpSpPr>
          <p:grpSpPr>
            <a:xfrm>
              <a:off x="2514600" y="4952880"/>
              <a:ext cx="533160" cy="609480"/>
              <a:chOff x="2514600" y="4952880"/>
              <a:chExt cx="533160" cy="6094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77680" y="49528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14600" y="50814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14600" y="52405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74800" y="525636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71640" y="52405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71640" y="50778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90280" y="51778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fe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353400" y="49528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8120" y="54100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14600" y="4191120"/>
            <a:ext cx="3809880" cy="609480"/>
            <a:chOff x="2514600" y="4191120"/>
            <a:chExt cx="3809880" cy="609480"/>
          </a:xfrm>
        </p:grpSpPr>
        <p:grpSp>
          <p:nvGrpSpPr>
            <p:cNvPr id="143" name=""/>
            <p:cNvGrpSpPr/>
            <p:nvPr/>
          </p:nvGrpSpPr>
          <p:grpSpPr>
            <a:xfrm>
              <a:off x="2514600" y="4191120"/>
              <a:ext cx="533160" cy="609480"/>
              <a:chOff x="2514600" y="4191120"/>
              <a:chExt cx="53316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2677680" y="419112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14600" y="43196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14600" y="447876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74800" y="449460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71640" y="447876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71640" y="43160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90280" y="441612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a6f3"/>
                  </a:gs>
                  <a:gs pos="100000">
                    <a:srgbClr val="aac5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353400" y="419112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4648320"/>
              <a:ext cx="327636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2:05Z</dcterms:modified>
  <cp:revision>92</cp:revision>
  <dc:subject/>
  <dc:title>Contents Design</dc:title>
</cp:coreProperties>
</file>