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199-384B-4976-B3C7-908246F6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0B8-398A-4ADA-827C-2D572AC6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F4A-CF8F-4C57-A73D-CB8A9A0B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602-FEBF-41F4-A074-0BE91A65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D00-6430-4E8E-86E0-E07A6E79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E5A-C121-4386-BD98-F20FF524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797-6B9B-4DDF-BABB-64DBB4F4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367-0530-4743-8600-CCE655F3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D5A-8109-49B2-BC8C-C1FAB12E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877-37EC-49BE-842B-4895027D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F11-C588-48EF-9765-E0C264DB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478-1EC0-47BE-A96A-FAAC824E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10BB-7007-472C-B5FA-9E82A6CADAC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504e"/>
            </a:gs>
            <a:gs pos="100000">
              <a:srgbClr val="05a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04280" y="843480"/>
            <a:ext cx="3135600" cy="2874960"/>
            <a:chOff x="2204280" y="843480"/>
            <a:chExt cx="3135600" cy="2874960"/>
          </a:xfrm>
        </p:grpSpPr>
        <p:sp>
          <p:nvSpPr>
            <p:cNvPr id="43" name=""/>
            <p:cNvSpPr/>
            <p:nvPr/>
          </p:nvSpPr>
          <p:spPr>
            <a:xfrm rot="19107600">
              <a:off x="1936080" y="1987560"/>
              <a:ext cx="3646800" cy="574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9107600">
              <a:off x="1943280" y="1980720"/>
              <a:ext cx="3657600" cy="60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9107600">
              <a:off x="1973880" y="2028240"/>
              <a:ext cx="3577680" cy="52200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9107600">
              <a:off x="1973880" y="2028240"/>
              <a:ext cx="3577680" cy="52200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85800" y="3633840"/>
            <a:ext cx="2514240" cy="2590560"/>
            <a:chOff x="685800" y="3633840"/>
            <a:chExt cx="2514240" cy="2590560"/>
          </a:xfrm>
        </p:grpSpPr>
        <p:sp>
          <p:nvSpPr>
            <p:cNvPr id="48" name=""/>
            <p:cNvSpPr/>
            <p:nvPr/>
          </p:nvSpPr>
          <p:spPr>
            <a:xfrm>
              <a:off x="685800" y="3633840"/>
              <a:ext cx="2514240" cy="2590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3633840"/>
              <a:ext cx="2514240" cy="25905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48880" y="3801240"/>
              <a:ext cx="2187360" cy="225432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51760" y="3801240"/>
              <a:ext cx="2184840" cy="22543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68760" y="3915720"/>
              <a:ext cx="1965600" cy="2025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00440" y="3949200"/>
              <a:ext cx="1904760" cy="196200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23480" y="3960720"/>
              <a:ext cx="1857960" cy="19116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44000" y="3979080"/>
              <a:ext cx="1767240" cy="178740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5880" y="4030200"/>
              <a:ext cx="1572120" cy="145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 rot="19178400">
            <a:off x="2646000" y="220608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845800" y="1684440"/>
            <a:ext cx="3604680" cy="2413080"/>
            <a:chOff x="2845800" y="1684440"/>
            <a:chExt cx="3604680" cy="2413080"/>
          </a:xfrm>
        </p:grpSpPr>
        <p:sp>
          <p:nvSpPr>
            <p:cNvPr id="59" name=""/>
            <p:cNvSpPr/>
            <p:nvPr/>
          </p:nvSpPr>
          <p:spPr>
            <a:xfrm rot="19813200">
              <a:off x="2737440" y="2595240"/>
              <a:ext cx="3798360" cy="574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aaf5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813200">
              <a:off x="2743200" y="2590560"/>
              <a:ext cx="3809880" cy="60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aaf54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813200">
              <a:off x="2773080" y="2635920"/>
              <a:ext cx="3726720" cy="522000"/>
            </a:xfrm>
            <a:prstGeom prst="ellipse">
              <a:avLst/>
            </a:prstGeom>
            <a:gradFill rotWithShape="0">
              <a:gsLst>
                <a:gs pos="0">
                  <a:srgbClr val="865e2d"/>
                </a:gs>
                <a:gs pos="50000">
                  <a:srgbClr val="faaf54"/>
                </a:gs>
                <a:gs pos="100000">
                  <a:srgbClr val="865e2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9813200">
              <a:off x="2773080" y="2635920"/>
              <a:ext cx="3726720" cy="522000"/>
            </a:xfrm>
            <a:prstGeom prst="ellipse">
              <a:avLst/>
            </a:prstGeom>
            <a:gradFill rotWithShape="0">
              <a:gsLst>
                <a:gs pos="0">
                  <a:srgbClr val="faaf54">
                    <a:alpha val="0"/>
                  </a:srgbClr>
                </a:gs>
                <a:gs pos="100000">
                  <a:srgbClr val="9e6e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06880" y="2872800"/>
            <a:ext cx="3949560" cy="1817280"/>
            <a:chOff x="3206880" y="2872800"/>
            <a:chExt cx="3949560" cy="1817280"/>
          </a:xfrm>
        </p:grpSpPr>
        <p:sp>
          <p:nvSpPr>
            <p:cNvPr id="64" name=""/>
            <p:cNvSpPr/>
            <p:nvPr/>
          </p:nvSpPr>
          <p:spPr>
            <a:xfrm rot="20498400">
              <a:off x="3196800" y="3484080"/>
              <a:ext cx="3950640" cy="574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0498400">
              <a:off x="3200400" y="3481560"/>
              <a:ext cx="3962520" cy="599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0498400">
              <a:off x="3230640" y="3524400"/>
              <a:ext cx="3876120" cy="52164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0498400">
              <a:off x="3230640" y="3524400"/>
              <a:ext cx="3876120" cy="52164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331080" y="4188960"/>
            <a:ext cx="4158360" cy="1165680"/>
            <a:chOff x="3331080" y="4188960"/>
            <a:chExt cx="4158360" cy="1165680"/>
          </a:xfrm>
        </p:grpSpPr>
        <p:sp>
          <p:nvSpPr>
            <p:cNvPr id="69" name=""/>
            <p:cNvSpPr/>
            <p:nvPr/>
          </p:nvSpPr>
          <p:spPr>
            <a:xfrm rot="21121200">
              <a:off x="3350880" y="4472640"/>
              <a:ext cx="4102560" cy="574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aaf5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121200">
              <a:off x="3352680" y="4471560"/>
              <a:ext cx="4114800" cy="60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aaf54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1121200">
              <a:off x="3383280" y="4512600"/>
              <a:ext cx="4025160" cy="522000"/>
            </a:xfrm>
            <a:prstGeom prst="ellipse">
              <a:avLst/>
            </a:prstGeom>
            <a:gradFill rotWithShape="0">
              <a:gsLst>
                <a:gs pos="0">
                  <a:srgbClr val="865e2d"/>
                </a:gs>
                <a:gs pos="50000">
                  <a:srgbClr val="faaf54"/>
                </a:gs>
                <a:gs pos="100000">
                  <a:srgbClr val="865e2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1121200">
              <a:off x="3383280" y="4512600"/>
              <a:ext cx="4025160" cy="522000"/>
            </a:xfrm>
            <a:prstGeom prst="ellipse">
              <a:avLst/>
            </a:prstGeom>
            <a:gradFill rotWithShape="0">
              <a:gsLst>
                <a:gs pos="0">
                  <a:srgbClr val="faaf54">
                    <a:alpha val="0"/>
                  </a:srgbClr>
                </a:gs>
                <a:gs pos="100000">
                  <a:srgbClr val="9e6e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276720" y="5486400"/>
            <a:ext cx="4267080" cy="600120"/>
            <a:chOff x="3276720" y="5486400"/>
            <a:chExt cx="4267080" cy="600120"/>
          </a:xfrm>
        </p:grpSpPr>
        <p:sp>
          <p:nvSpPr>
            <p:cNvPr id="74" name=""/>
            <p:cNvSpPr/>
            <p:nvPr/>
          </p:nvSpPr>
          <p:spPr>
            <a:xfrm>
              <a:off x="3276720" y="5486400"/>
              <a:ext cx="4254480" cy="574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486400"/>
              <a:ext cx="4267080" cy="60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08400" y="5525280"/>
              <a:ext cx="4173840" cy="52200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08400" y="5525280"/>
              <a:ext cx="4173840" cy="52200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 rot="19782000">
            <a:off x="3412080" y="285696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0409000">
            <a:off x="4102920" y="363168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123600">
            <a:off x="4412160" y="45943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760" y="55627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4560" y="46483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263400" y="586440"/>
            <a:ext cx="2935800" cy="3083400"/>
            <a:chOff x="3263400" y="586440"/>
            <a:chExt cx="2935800" cy="3083400"/>
          </a:xfrm>
        </p:grpSpPr>
        <p:grpSp>
          <p:nvGrpSpPr>
            <p:cNvPr id="85" name=""/>
            <p:cNvGrpSpPr/>
            <p:nvPr/>
          </p:nvGrpSpPr>
          <p:grpSpPr>
            <a:xfrm>
              <a:off x="3263400" y="586440"/>
              <a:ext cx="2935800" cy="3083400"/>
              <a:chOff x="3263400" y="586440"/>
              <a:chExt cx="2935800" cy="3083400"/>
            </a:xfrm>
          </p:grpSpPr>
          <p:sp>
            <p:nvSpPr>
              <p:cNvPr id="86" name=""/>
              <p:cNvSpPr/>
              <p:nvPr/>
            </p:nvSpPr>
            <p:spPr>
              <a:xfrm rot="18781200">
                <a:off x="2894040" y="1829520"/>
                <a:ext cx="364644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8781200">
                <a:off x="2903400" y="1828080"/>
                <a:ext cx="365760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781200">
                <a:off x="2907000" y="190800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781200">
                <a:off x="2907000" y="190800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rot="18852000">
              <a:off x="3679560" y="1948680"/>
              <a:ext cx="20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689280" y="1685520"/>
            <a:ext cx="3605760" cy="2417760"/>
            <a:chOff x="3689280" y="1685520"/>
            <a:chExt cx="3605760" cy="2417760"/>
          </a:xfrm>
        </p:grpSpPr>
        <p:grpSp>
          <p:nvGrpSpPr>
            <p:cNvPr id="92" name=""/>
            <p:cNvGrpSpPr/>
            <p:nvPr/>
          </p:nvGrpSpPr>
          <p:grpSpPr>
            <a:xfrm>
              <a:off x="3689280" y="1685520"/>
              <a:ext cx="3605760" cy="2417760"/>
              <a:chOff x="3689280" y="1685520"/>
              <a:chExt cx="3605760" cy="2417760"/>
            </a:xfrm>
          </p:grpSpPr>
          <p:sp>
            <p:nvSpPr>
              <p:cNvPr id="93" name=""/>
              <p:cNvSpPr/>
              <p:nvPr/>
            </p:nvSpPr>
            <p:spPr>
              <a:xfrm rot="19813200">
                <a:off x="3580920" y="2590560"/>
                <a:ext cx="3799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9813200">
                <a:off x="3587400" y="2596680"/>
                <a:ext cx="380988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9813200">
                <a:off x="3587760" y="263052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9813200">
                <a:off x="3616200" y="265896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rot="19782000">
              <a:off x="4388760" y="2767680"/>
              <a:ext cx="20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523880" y="3581280"/>
            <a:ext cx="2514600" cy="2590560"/>
            <a:chOff x="1523880" y="3581280"/>
            <a:chExt cx="2514600" cy="2590560"/>
          </a:xfrm>
        </p:grpSpPr>
        <p:grpSp>
          <p:nvGrpSpPr>
            <p:cNvPr id="99" name=""/>
            <p:cNvGrpSpPr/>
            <p:nvPr/>
          </p:nvGrpSpPr>
          <p:grpSpPr>
            <a:xfrm>
              <a:off x="1523880" y="3581280"/>
              <a:ext cx="2514600" cy="2590560"/>
              <a:chOff x="1523880" y="3581280"/>
              <a:chExt cx="2514600" cy="2590560"/>
            </a:xfrm>
          </p:grpSpPr>
          <p:sp>
            <p:nvSpPr>
              <p:cNvPr id="100" name=""/>
              <p:cNvSpPr/>
              <p:nvPr/>
            </p:nvSpPr>
            <p:spPr>
              <a:xfrm>
                <a:off x="1523880" y="358128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23880" y="358128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87320" y="3749400"/>
                <a:ext cx="2187360" cy="22543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676160" y="3733560"/>
                <a:ext cx="2184480" cy="22543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06480" y="3863880"/>
                <a:ext cx="1966680" cy="2025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38160" y="3897000"/>
                <a:ext cx="1904760" cy="196236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61920" y="3908160"/>
                <a:ext cx="1859040" cy="191124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882440" y="3927240"/>
                <a:ext cx="1768680" cy="178740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83960" y="3978000"/>
                <a:ext cx="1573560" cy="1451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125440" y="4601880"/>
              <a:ext cx="138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054320" y="2894040"/>
            <a:ext cx="3641400" cy="1822320"/>
            <a:chOff x="4054320" y="2894040"/>
            <a:chExt cx="3641400" cy="1822320"/>
          </a:xfrm>
        </p:grpSpPr>
        <p:grpSp>
          <p:nvGrpSpPr>
            <p:cNvPr id="111" name=""/>
            <p:cNvGrpSpPr/>
            <p:nvPr/>
          </p:nvGrpSpPr>
          <p:grpSpPr>
            <a:xfrm>
              <a:off x="4054320" y="2894040"/>
              <a:ext cx="3641400" cy="1822320"/>
              <a:chOff x="4054320" y="2894040"/>
              <a:chExt cx="3641400" cy="1822320"/>
            </a:xfrm>
          </p:grpSpPr>
          <p:sp>
            <p:nvSpPr>
              <p:cNvPr id="112" name=""/>
              <p:cNvSpPr/>
              <p:nvPr/>
            </p:nvSpPr>
            <p:spPr>
              <a:xfrm rot="20395200">
                <a:off x="4043520" y="3502440"/>
                <a:ext cx="364644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20395200">
                <a:off x="4046040" y="3506400"/>
                <a:ext cx="365760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20395200">
                <a:off x="4035600" y="356580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0395200">
                <a:off x="4035600" y="356580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rot="20465400">
              <a:off x="4815720" y="3615120"/>
              <a:ext cx="20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099680" y="4023360"/>
            <a:ext cx="3850560" cy="1398240"/>
            <a:chOff x="4099680" y="4023360"/>
            <a:chExt cx="3850560" cy="1398240"/>
          </a:xfrm>
        </p:grpSpPr>
        <p:grpSp>
          <p:nvGrpSpPr>
            <p:cNvPr id="118" name=""/>
            <p:cNvGrpSpPr/>
            <p:nvPr/>
          </p:nvGrpSpPr>
          <p:grpSpPr>
            <a:xfrm>
              <a:off x="4099680" y="4023360"/>
              <a:ext cx="3850560" cy="1398240"/>
              <a:chOff x="4099680" y="4023360"/>
              <a:chExt cx="3850560" cy="1398240"/>
            </a:xfrm>
          </p:grpSpPr>
          <p:sp>
            <p:nvSpPr>
              <p:cNvPr id="119" name=""/>
              <p:cNvSpPr/>
              <p:nvPr/>
            </p:nvSpPr>
            <p:spPr>
              <a:xfrm rot="20869800">
                <a:off x="4119480" y="4417560"/>
                <a:ext cx="3799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0869800">
                <a:off x="4119840" y="4426560"/>
                <a:ext cx="380988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69800">
                <a:off x="4123800" y="444816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0869800">
                <a:off x="4142160" y="448380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rot="20838600">
              <a:off x="4903200" y="4572360"/>
              <a:ext cx="20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952800" y="5464440"/>
            <a:ext cx="3677400" cy="643320"/>
            <a:chOff x="3952800" y="5464440"/>
            <a:chExt cx="3677400" cy="643320"/>
          </a:xfrm>
        </p:grpSpPr>
        <p:grpSp>
          <p:nvGrpSpPr>
            <p:cNvPr id="125" name=""/>
            <p:cNvGrpSpPr/>
            <p:nvPr/>
          </p:nvGrpSpPr>
          <p:grpSpPr>
            <a:xfrm>
              <a:off x="3952800" y="5464440"/>
              <a:ext cx="3677400" cy="643320"/>
              <a:chOff x="3952800" y="5464440"/>
              <a:chExt cx="3677400" cy="643320"/>
            </a:xfrm>
          </p:grpSpPr>
          <p:sp>
            <p:nvSpPr>
              <p:cNvPr id="126" name=""/>
              <p:cNvSpPr/>
              <p:nvPr/>
            </p:nvSpPr>
            <p:spPr>
              <a:xfrm rot="21564600">
                <a:off x="3972600" y="5482800"/>
                <a:ext cx="364644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1564600">
                <a:off x="3969360" y="5488560"/>
                <a:ext cx="365760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1564600">
                <a:off x="3955320" y="552996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21564600">
                <a:off x="3955320" y="552996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 rot="34800">
              <a:off x="4737960" y="5587560"/>
              <a:ext cx="20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2:08Z</dcterms:modified>
  <cp:revision>92</cp:revision>
  <dc:subject/>
  <dc:title>Contents Design</dc:title>
</cp:coreProperties>
</file>