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933-2B4F-4E2C-B54E-C2C080BE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47B-1919-4DD2-B770-27666885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C55-3FB5-495E-A5A0-0B67F51C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600-E610-4580-86BB-D8D6082E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45B-D409-4926-B0AA-01D9E1F6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7C5-65E1-4171-947C-577C55F1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D8A-6DD6-44AC-8D49-C460841A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F96-9140-4D74-BC74-BE23066D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4CB-0A6C-4956-9297-205572D2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1C8-FF65-46E2-A8E0-71D72DC5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270-3C79-4819-BFA9-359048E4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192-A240-4B49-93C6-160F5BFA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E2DD-95EB-41E1-A24C-60AAB60FDBD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33720" y="2209680"/>
            <a:ext cx="4876560" cy="457200"/>
            <a:chOff x="2133720" y="2209680"/>
            <a:chExt cx="4876560" cy="457200"/>
          </a:xfrm>
        </p:grpSpPr>
        <p:sp>
          <p:nvSpPr>
            <p:cNvPr id="43" name=""/>
            <p:cNvSpPr/>
            <p:nvPr/>
          </p:nvSpPr>
          <p:spPr>
            <a:xfrm>
              <a:off x="2666880" y="2209680"/>
              <a:ext cx="4343400" cy="457200"/>
            </a:xfrm>
            <a:prstGeom prst="rect">
              <a:avLst/>
            </a:prstGeom>
            <a:gradFill rotWithShape="0">
              <a:gsLst>
                <a:gs pos="0">
                  <a:srgbClr val="68d8f2"/>
                </a:gs>
                <a:gs pos="100000">
                  <a:srgbClr val="c7eff9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3e81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33720" y="2209680"/>
              <a:ext cx="609480" cy="457200"/>
            </a:xfrm>
            <a:prstGeom prst="rect">
              <a:avLst/>
            </a:prstGeom>
            <a:gradFill rotWithShape="0">
              <a:gsLst>
                <a:gs pos="0">
                  <a:srgbClr val="274d74"/>
                </a:gs>
                <a:gs pos="50000">
                  <a:srgbClr val="4d98e3"/>
                </a:gs>
                <a:gs pos="100000">
                  <a:srgbClr val="274d74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2e5a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2133720" y="2895480"/>
            <a:ext cx="4876560" cy="457200"/>
            <a:chOff x="2133720" y="2895480"/>
            <a:chExt cx="4876560" cy="457200"/>
          </a:xfrm>
        </p:grpSpPr>
        <p:sp>
          <p:nvSpPr>
            <p:cNvPr id="46" name=""/>
            <p:cNvSpPr/>
            <p:nvPr/>
          </p:nvSpPr>
          <p:spPr>
            <a:xfrm>
              <a:off x="2666880" y="2895480"/>
              <a:ext cx="4343400" cy="457200"/>
            </a:xfrm>
            <a:prstGeom prst="rect">
              <a:avLst/>
            </a:prstGeom>
            <a:gradFill rotWithShape="0">
              <a:gsLst>
                <a:gs pos="0">
                  <a:srgbClr val="9eb0fe"/>
                </a:gs>
                <a:gs pos="100000">
                  <a:srgbClr val="dae1fd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5e699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33720" y="2895480"/>
              <a:ext cx="609480" cy="457200"/>
            </a:xfrm>
            <a:prstGeom prst="rect">
              <a:avLst/>
            </a:prstGeom>
            <a:gradFill rotWithShape="0">
              <a:gsLst>
                <a:gs pos="0">
                  <a:srgbClr val="563979"/>
                </a:gs>
                <a:gs pos="50000">
                  <a:srgbClr val="a971ed"/>
                </a:gs>
                <a:gs pos="100000">
                  <a:srgbClr val="563979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65438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133720" y="3581280"/>
            <a:ext cx="4876560" cy="457200"/>
            <a:chOff x="2133720" y="3581280"/>
            <a:chExt cx="4876560" cy="457200"/>
          </a:xfrm>
        </p:grpSpPr>
        <p:sp>
          <p:nvSpPr>
            <p:cNvPr id="49" name=""/>
            <p:cNvSpPr/>
            <p:nvPr/>
          </p:nvSpPr>
          <p:spPr>
            <a:xfrm>
              <a:off x="2666880" y="3581280"/>
              <a:ext cx="4343400" cy="457200"/>
            </a:xfrm>
            <a:prstGeom prst="rect">
              <a:avLst/>
            </a:prstGeom>
            <a:gradFill rotWithShape="0">
              <a:gsLst>
                <a:gs pos="0">
                  <a:srgbClr val="68d8f2"/>
                </a:gs>
                <a:gs pos="100000">
                  <a:srgbClr val="c7eff9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3e81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33720" y="3581280"/>
              <a:ext cx="609480" cy="457200"/>
            </a:xfrm>
            <a:prstGeom prst="rect">
              <a:avLst/>
            </a:prstGeom>
            <a:gradFill rotWithShape="0">
              <a:gsLst>
                <a:gs pos="0">
                  <a:srgbClr val="274d74"/>
                </a:gs>
                <a:gs pos="50000">
                  <a:srgbClr val="4d98e3"/>
                </a:gs>
                <a:gs pos="100000">
                  <a:srgbClr val="274d74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2e5a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133720" y="4267080"/>
            <a:ext cx="4876560" cy="457200"/>
            <a:chOff x="2133720" y="4267080"/>
            <a:chExt cx="4876560" cy="457200"/>
          </a:xfrm>
        </p:grpSpPr>
        <p:sp>
          <p:nvSpPr>
            <p:cNvPr id="52" name=""/>
            <p:cNvSpPr/>
            <p:nvPr/>
          </p:nvSpPr>
          <p:spPr>
            <a:xfrm>
              <a:off x="2666880" y="4267080"/>
              <a:ext cx="4343400" cy="457200"/>
            </a:xfrm>
            <a:prstGeom prst="rect">
              <a:avLst/>
            </a:prstGeom>
            <a:gradFill rotWithShape="0">
              <a:gsLst>
                <a:gs pos="0">
                  <a:srgbClr val="9eb0fe"/>
                </a:gs>
                <a:gs pos="100000">
                  <a:srgbClr val="dae1fd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5e699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720" y="4267080"/>
              <a:ext cx="609480" cy="457200"/>
            </a:xfrm>
            <a:prstGeom prst="rect">
              <a:avLst/>
            </a:prstGeom>
            <a:gradFill rotWithShape="0">
              <a:gsLst>
                <a:gs pos="0">
                  <a:srgbClr val="563979"/>
                </a:gs>
                <a:gs pos="50000">
                  <a:srgbClr val="a971ed"/>
                </a:gs>
                <a:gs pos="100000">
                  <a:srgbClr val="563979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65438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133720" y="4952880"/>
            <a:ext cx="4876560" cy="457200"/>
            <a:chOff x="2133720" y="4952880"/>
            <a:chExt cx="4876560" cy="457200"/>
          </a:xfrm>
        </p:grpSpPr>
        <p:sp>
          <p:nvSpPr>
            <p:cNvPr id="55" name=""/>
            <p:cNvSpPr/>
            <p:nvPr/>
          </p:nvSpPr>
          <p:spPr>
            <a:xfrm>
              <a:off x="2666880" y="4952880"/>
              <a:ext cx="4343400" cy="457200"/>
            </a:xfrm>
            <a:prstGeom prst="rect">
              <a:avLst/>
            </a:prstGeom>
            <a:gradFill rotWithShape="0">
              <a:gsLst>
                <a:gs pos="0">
                  <a:srgbClr val="68d8f2"/>
                </a:gs>
                <a:gs pos="100000">
                  <a:srgbClr val="c7eff9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3e81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3720" y="4952880"/>
              <a:ext cx="609480" cy="457200"/>
            </a:xfrm>
            <a:prstGeom prst="rect">
              <a:avLst/>
            </a:prstGeom>
            <a:gradFill rotWithShape="0">
              <a:gsLst>
                <a:gs pos="0">
                  <a:srgbClr val="274d74"/>
                </a:gs>
                <a:gs pos="50000">
                  <a:srgbClr val="4d98e3"/>
                </a:gs>
                <a:gs pos="100000">
                  <a:srgbClr val="274d74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2e5a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819520" y="223524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2909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3581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4255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4967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2133720"/>
            <a:ext cx="4876920" cy="457200"/>
            <a:chOff x="2209680" y="2133720"/>
            <a:chExt cx="4876920" cy="457200"/>
          </a:xfrm>
        </p:grpSpPr>
        <p:sp>
          <p:nvSpPr>
            <p:cNvPr id="63" name=""/>
            <p:cNvSpPr/>
            <p:nvPr/>
          </p:nvSpPr>
          <p:spPr>
            <a:xfrm>
              <a:off x="2743200" y="2133720"/>
              <a:ext cx="4343400" cy="457200"/>
            </a:xfrm>
            <a:prstGeom prst="rect">
              <a:avLst/>
            </a:prstGeom>
            <a:gradFill rotWithShape="0">
              <a:gsLst>
                <a:gs pos="0">
                  <a:srgbClr val="c9aa5d"/>
                </a:gs>
                <a:gs pos="50000">
                  <a:srgbClr val="eadfc3"/>
                </a:gs>
                <a:gs pos="100000">
                  <a:srgbClr val="c9aa5d"/>
                </a:gs>
              </a:gsLst>
              <a:lin ang="13500000"/>
            </a:gradFill>
            <a:ln w="0">
              <a:noFill/>
            </a:ln>
            <a:effectLst>
              <a:outerShdw dist="63360" dir="5400000" blurRad="0" rotWithShape="0">
                <a:srgbClr val="78653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09680" y="2133720"/>
              <a:ext cx="609480" cy="457200"/>
            </a:xfrm>
            <a:prstGeom prst="rect">
              <a:avLst/>
            </a:prstGeom>
            <a:gradFill rotWithShape="0">
              <a:gsLst>
                <a:gs pos="0">
                  <a:srgbClr val="66562f"/>
                </a:gs>
                <a:gs pos="50000">
                  <a:srgbClr val="c9aa5d"/>
                </a:gs>
                <a:gs pos="100000">
                  <a:srgbClr val="66562f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78653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95480" y="2158920"/>
              <a:ext cx="403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09680" y="2819520"/>
            <a:ext cx="4876920" cy="457200"/>
            <a:chOff x="2209680" y="2819520"/>
            <a:chExt cx="4876920" cy="457200"/>
          </a:xfrm>
        </p:grpSpPr>
        <p:sp>
          <p:nvSpPr>
            <p:cNvPr id="68" name=""/>
            <p:cNvSpPr/>
            <p:nvPr/>
          </p:nvSpPr>
          <p:spPr>
            <a:xfrm>
              <a:off x="2743200" y="2819520"/>
              <a:ext cx="4343400" cy="457200"/>
            </a:xfrm>
            <a:prstGeom prst="rect">
              <a:avLst/>
            </a:prstGeom>
            <a:gradFill rotWithShape="0">
              <a:gsLst>
                <a:gs pos="0">
                  <a:srgbClr val="9595b9"/>
                </a:gs>
                <a:gs pos="50000">
                  <a:srgbClr val="d7d7e4"/>
                </a:gs>
                <a:gs pos="100000">
                  <a:srgbClr val="9595b9"/>
                </a:gs>
              </a:gsLst>
              <a:lin ang="13500000"/>
            </a:gradFill>
            <a:ln w="0">
              <a:noFill/>
            </a:ln>
            <a:effectLst>
              <a:outerShdw dist="63360" dir="5400000" blurRad="0" rotWithShape="0">
                <a:srgbClr val="5959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09680" y="2819520"/>
              <a:ext cx="609480" cy="457200"/>
            </a:xfrm>
            <a:prstGeom prst="rect">
              <a:avLst/>
            </a:prstGeom>
            <a:gradFill rotWithShape="0">
              <a:gsLst>
                <a:gs pos="0">
                  <a:srgbClr val="4c4c5e"/>
                </a:gs>
                <a:gs pos="50000">
                  <a:srgbClr val="9595b9"/>
                </a:gs>
                <a:gs pos="100000">
                  <a:srgbClr val="4c4c5e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5959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95480" y="2844720"/>
              <a:ext cx="403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209680" y="3505320"/>
            <a:ext cx="4876920" cy="457200"/>
            <a:chOff x="2209680" y="3505320"/>
            <a:chExt cx="4876920" cy="457200"/>
          </a:xfrm>
        </p:grpSpPr>
        <p:sp>
          <p:nvSpPr>
            <p:cNvPr id="72" name=""/>
            <p:cNvSpPr/>
            <p:nvPr/>
          </p:nvSpPr>
          <p:spPr>
            <a:xfrm>
              <a:off x="2743200" y="3505320"/>
              <a:ext cx="4343400" cy="457200"/>
            </a:xfrm>
            <a:prstGeom prst="rect">
              <a:avLst/>
            </a:prstGeom>
            <a:gradFill rotWithShape="0">
              <a:gsLst>
                <a:gs pos="0">
                  <a:srgbClr val="c9aa5d"/>
                </a:gs>
                <a:gs pos="50000">
                  <a:srgbClr val="eadfc3"/>
                </a:gs>
                <a:gs pos="100000">
                  <a:srgbClr val="c9aa5d"/>
                </a:gs>
              </a:gsLst>
              <a:lin ang="13500000"/>
            </a:gradFill>
            <a:ln w="0">
              <a:noFill/>
            </a:ln>
            <a:effectLst>
              <a:outerShdw dist="63360" dir="5400000" blurRad="0" rotWithShape="0">
                <a:srgbClr val="78653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09680" y="3505320"/>
              <a:ext cx="609480" cy="457200"/>
            </a:xfrm>
            <a:prstGeom prst="rect">
              <a:avLst/>
            </a:prstGeom>
            <a:gradFill rotWithShape="0">
              <a:gsLst>
                <a:gs pos="0">
                  <a:srgbClr val="66562f"/>
                </a:gs>
                <a:gs pos="50000">
                  <a:srgbClr val="c9aa5d"/>
                </a:gs>
                <a:gs pos="100000">
                  <a:srgbClr val="66562f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78653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5480" y="3530520"/>
              <a:ext cx="403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209680" y="4191120"/>
            <a:ext cx="4876920" cy="457200"/>
            <a:chOff x="2209680" y="4191120"/>
            <a:chExt cx="4876920" cy="457200"/>
          </a:xfrm>
        </p:grpSpPr>
        <p:sp>
          <p:nvSpPr>
            <p:cNvPr id="76" name=""/>
            <p:cNvSpPr/>
            <p:nvPr/>
          </p:nvSpPr>
          <p:spPr>
            <a:xfrm>
              <a:off x="2743200" y="4191120"/>
              <a:ext cx="4343400" cy="457200"/>
            </a:xfrm>
            <a:prstGeom prst="rect">
              <a:avLst/>
            </a:prstGeom>
            <a:gradFill rotWithShape="0">
              <a:gsLst>
                <a:gs pos="0">
                  <a:srgbClr val="9595b9"/>
                </a:gs>
                <a:gs pos="50000">
                  <a:srgbClr val="d7d7e4"/>
                </a:gs>
                <a:gs pos="100000">
                  <a:srgbClr val="9595b9"/>
                </a:gs>
              </a:gsLst>
              <a:lin ang="13500000"/>
            </a:gradFill>
            <a:ln w="0">
              <a:noFill/>
            </a:ln>
            <a:effectLst>
              <a:outerShdw dist="63360" dir="5400000" blurRad="0" rotWithShape="0">
                <a:srgbClr val="5959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9680" y="4191120"/>
              <a:ext cx="609480" cy="457200"/>
            </a:xfrm>
            <a:prstGeom prst="rect">
              <a:avLst/>
            </a:prstGeom>
            <a:gradFill rotWithShape="0">
              <a:gsLst>
                <a:gs pos="0">
                  <a:srgbClr val="4c4c5e"/>
                </a:gs>
                <a:gs pos="50000">
                  <a:srgbClr val="9595b9"/>
                </a:gs>
                <a:gs pos="100000">
                  <a:srgbClr val="4c4c5e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5959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95480" y="4216320"/>
              <a:ext cx="403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209680" y="4876920"/>
            <a:ext cx="4876920" cy="457200"/>
            <a:chOff x="2209680" y="4876920"/>
            <a:chExt cx="4876920" cy="457200"/>
          </a:xfrm>
        </p:grpSpPr>
        <p:sp>
          <p:nvSpPr>
            <p:cNvPr id="80" name=""/>
            <p:cNvSpPr/>
            <p:nvPr/>
          </p:nvSpPr>
          <p:spPr>
            <a:xfrm>
              <a:off x="2743200" y="4876920"/>
              <a:ext cx="4343400" cy="457200"/>
            </a:xfrm>
            <a:prstGeom prst="rect">
              <a:avLst/>
            </a:prstGeom>
            <a:gradFill rotWithShape="0">
              <a:gsLst>
                <a:gs pos="0">
                  <a:srgbClr val="c9aa5d"/>
                </a:gs>
                <a:gs pos="50000">
                  <a:srgbClr val="eadfc3"/>
                </a:gs>
                <a:gs pos="100000">
                  <a:srgbClr val="c9aa5d"/>
                </a:gs>
              </a:gsLst>
              <a:lin ang="13500000"/>
            </a:gradFill>
            <a:ln w="0">
              <a:noFill/>
            </a:ln>
            <a:effectLst>
              <a:outerShdw dist="63360" dir="5400000" blurRad="0" rotWithShape="0">
                <a:srgbClr val="78653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9680" y="4876920"/>
              <a:ext cx="609480" cy="457200"/>
            </a:xfrm>
            <a:prstGeom prst="rect">
              <a:avLst/>
            </a:prstGeom>
            <a:gradFill rotWithShape="0">
              <a:gsLst>
                <a:gs pos="0">
                  <a:srgbClr val="66562f"/>
                </a:gs>
                <a:gs pos="50000">
                  <a:srgbClr val="c9aa5d"/>
                </a:gs>
                <a:gs pos="100000">
                  <a:srgbClr val="66562f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78653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95480" y="4902120"/>
              <a:ext cx="403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2:16Z</dcterms:modified>
  <cp:revision>92</cp:revision>
  <dc:subject/>
  <dc:title>Contents Design</dc:title>
</cp:coreProperties>
</file>