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292-FCD7-4042-B75F-A5E50272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769-5F01-49F1-873B-FD380C0F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6B3-972C-4F8F-9476-861B9EA7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59B-1E8D-42D6-BDB5-A08F16CE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BF2-60F7-450A-AD52-95E271E1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E04-697F-4FF4-8ECA-2C898E13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49F-C8F7-4515-B42F-B770C350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396-95E3-401B-BC0D-545CE181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28D-2D13-4C1D-A2EB-880C2DAD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E72-C9C4-4CD9-8D72-06EE213B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71D-D59D-4521-8B4A-0E4D54D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0C2-859B-44C3-85A0-EF26CB93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8590-5073-400D-AB9C-787B9054C34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5267"/>
            </a:gs>
            <a:gs pos="100000">
              <a:srgbClr val="21b3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2514600" y="20239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1b3e1"/>
                </a:gs>
                <a:gs pos="100000">
                  <a:srgbClr val="cfedf7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133720" y="2666880"/>
            <a:ext cx="4724280" cy="685800"/>
            <a:chOff x="2133720" y="266688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514600" y="2786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e8f3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33720" y="2666880"/>
              <a:ext cx="685800" cy="685800"/>
            </a:xfrm>
            <a:prstGeom prst="diamond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43200" y="2841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9600" y="276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133720" y="3429000"/>
            <a:ext cx="4724280" cy="685800"/>
            <a:chOff x="2133720" y="342900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2514600" y="3548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ee8d2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720" y="3429000"/>
              <a:ext cx="685800" cy="685800"/>
            </a:xfrm>
            <a:prstGeom prst="diamond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43200" y="36036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9600" y="352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33720" y="4191120"/>
            <a:ext cx="4724280" cy="685800"/>
            <a:chOff x="2133720" y="419112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2514600" y="4310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6acd"/>
                </a:gs>
                <a:gs pos="100000">
                  <a:srgbClr val="f8def3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4191120"/>
              <a:ext cx="685800" cy="685800"/>
            </a:xfrm>
            <a:prstGeom prst="diamond">
              <a:avLst/>
            </a:prstGeom>
            <a:gradFill rotWithShape="0">
              <a:gsLst>
                <a:gs pos="0">
                  <a:srgbClr val="e46acd"/>
                </a:gs>
                <a:gs pos="100000">
                  <a:srgbClr val="69305e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3200" y="4365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9600" y="4289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133720" y="4952880"/>
            <a:ext cx="4724280" cy="685800"/>
            <a:chOff x="2133720" y="4952880"/>
            <a:chExt cx="4724280" cy="685800"/>
          </a:xfrm>
        </p:grpSpPr>
        <p:sp>
          <p:nvSpPr>
            <p:cNvPr id="63" name=""/>
            <p:cNvSpPr/>
            <p:nvPr/>
          </p:nvSpPr>
          <p:spPr>
            <a:xfrm>
              <a:off x="2514600" y="50716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d2ddf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33720" y="4952880"/>
              <a:ext cx="685800" cy="685800"/>
            </a:xfrm>
            <a:prstGeom prst="diamond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43200" y="5127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96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133720" y="4800600"/>
            <a:ext cx="4724280" cy="685800"/>
            <a:chOff x="2133720" y="4800600"/>
            <a:chExt cx="4724280" cy="685800"/>
          </a:xfrm>
        </p:grpSpPr>
        <p:sp>
          <p:nvSpPr>
            <p:cNvPr id="69" name=""/>
            <p:cNvSpPr/>
            <p:nvPr/>
          </p:nvSpPr>
          <p:spPr>
            <a:xfrm>
              <a:off x="2514600" y="4919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e90da"/>
                </a:gs>
                <a:gs pos="100000">
                  <a:srgbClr val="f0e6f6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33720" y="4800600"/>
              <a:ext cx="685800" cy="685800"/>
            </a:xfrm>
            <a:prstGeom prst="diamond">
              <a:avLst/>
            </a:prstGeom>
            <a:gradFill rotWithShape="0">
              <a:gsLst>
                <a:gs pos="0">
                  <a:srgbClr val="be90da"/>
                </a:gs>
                <a:gs pos="100000">
                  <a:srgbClr val="574264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49752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9600" y="489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133720" y="1752480"/>
            <a:ext cx="4724280" cy="685800"/>
            <a:chOff x="2133720" y="1752480"/>
            <a:chExt cx="4724280" cy="685800"/>
          </a:xfrm>
        </p:grpSpPr>
        <p:sp>
          <p:nvSpPr>
            <p:cNvPr id="74" name=""/>
            <p:cNvSpPr/>
            <p:nvPr/>
          </p:nvSpPr>
          <p:spPr>
            <a:xfrm>
              <a:off x="2514600" y="1871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00"/>
                </a:gs>
                <a:gs pos="100000">
                  <a:srgbClr val="f3f3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33720" y="1752480"/>
              <a:ext cx="685800" cy="685800"/>
            </a:xfrm>
            <a:prstGeom prst="diamond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1927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89600" y="185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133720" y="2514600"/>
            <a:ext cx="4724280" cy="685800"/>
            <a:chOff x="2133720" y="2514600"/>
            <a:chExt cx="4724280" cy="685800"/>
          </a:xfrm>
        </p:grpSpPr>
        <p:sp>
          <p:nvSpPr>
            <p:cNvPr id="79" name=""/>
            <p:cNvSpPr/>
            <p:nvPr/>
          </p:nvSpPr>
          <p:spPr>
            <a:xfrm>
              <a:off x="2514600" y="26337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ee8d2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3720" y="2514600"/>
              <a:ext cx="685800" cy="685800"/>
            </a:xfrm>
            <a:prstGeom prst="diamond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3200" y="26892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89600" y="261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133720" y="3276720"/>
            <a:ext cx="4724280" cy="685800"/>
            <a:chOff x="2133720" y="3276720"/>
            <a:chExt cx="4724280" cy="685800"/>
          </a:xfrm>
        </p:grpSpPr>
        <p:sp>
          <p:nvSpPr>
            <p:cNvPr id="84" name=""/>
            <p:cNvSpPr/>
            <p:nvPr/>
          </p:nvSpPr>
          <p:spPr>
            <a:xfrm>
              <a:off x="2514600" y="3395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0c4de"/>
                </a:gs>
                <a:gs pos="100000">
                  <a:srgbClr val="dff1f7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3276720"/>
              <a:ext cx="685800" cy="685800"/>
            </a:xfrm>
            <a:prstGeom prst="diamond">
              <a:avLst/>
            </a:prstGeom>
            <a:gradFill rotWithShape="0">
              <a:gsLst>
                <a:gs pos="0">
                  <a:srgbClr val="70c4de"/>
                </a:gs>
                <a:gs pos="100000">
                  <a:srgbClr val="335a66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3200" y="3451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9600" y="337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133720" y="4038480"/>
            <a:ext cx="4724280" cy="685800"/>
            <a:chOff x="2133720" y="4038480"/>
            <a:chExt cx="4724280" cy="685800"/>
          </a:xfrm>
        </p:grpSpPr>
        <p:sp>
          <p:nvSpPr>
            <p:cNvPr id="89" name=""/>
            <p:cNvSpPr/>
            <p:nvPr/>
          </p:nvSpPr>
          <p:spPr>
            <a:xfrm>
              <a:off x="2514600" y="415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ff"/>
                </a:gs>
                <a:gs pos="100000">
                  <a:srgbClr val="ddddf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4038480"/>
              <a:ext cx="685800" cy="685800"/>
            </a:xfrm>
            <a:prstGeom prst="diamond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4213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9600" y="4136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2:21Z</dcterms:modified>
  <cp:revision>92</cp:revision>
  <dc:subject/>
  <dc:title>Contents Design</dc:title>
</cp:coreProperties>
</file>