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B662-8B06-442D-B58C-F381A218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5C0-2AE0-47C0-8C82-659B2C98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A196-AC60-45DF-82FC-267EE843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384-3C48-4C76-85D2-56BB3ADB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DBF-444F-400A-A834-89CC5B2C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787-61C2-4860-AEDA-65D6F4C3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A28-5BA0-478E-9FCD-8C622903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830-EF43-4B59-965F-BC1D403D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A08-A550-4FA8-933A-5946756B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79A-605F-40E3-BA27-A0B4D467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073-FC50-40ED-8B62-EAED939F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A06-B996-4625-8DB9-33FAE7BF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9EDC-3585-447E-B48E-9B112E1457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07880" y="2133720"/>
            <a:ext cx="4897800" cy="520560"/>
            <a:chOff x="2207880" y="2133720"/>
            <a:chExt cx="4897800" cy="520560"/>
          </a:xfrm>
        </p:grpSpPr>
        <p:sp>
          <p:nvSpPr>
            <p:cNvPr id="43" name=""/>
            <p:cNvSpPr/>
            <p:nvPr/>
          </p:nvSpPr>
          <p:spPr>
            <a:xfrm>
              <a:off x="2610000" y="2238480"/>
              <a:ext cx="4495680" cy="3045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99831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2207880" y="2162160"/>
              <a:ext cx="478080" cy="456840"/>
              <a:chOff x="2207880" y="2162160"/>
              <a:chExt cx="478080" cy="456840"/>
            </a:xfrm>
          </p:grpSpPr>
          <p:sp>
            <p:nvSpPr>
              <p:cNvPr id="45" name=""/>
              <p:cNvSpPr/>
              <p:nvPr/>
            </p:nvSpPr>
            <p:spPr>
              <a:xfrm rot="20400">
                <a:off x="2207880" y="2201040"/>
                <a:ext cx="13032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20400">
                <a:off x="2209320" y="2535480"/>
                <a:ext cx="1288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20400">
                <a:off x="2387160" y="2369160"/>
                <a:ext cx="1260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20400">
                <a:off x="2378160" y="2201040"/>
                <a:ext cx="1738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20400">
                <a:off x="2386440" y="2534760"/>
                <a:ext cx="1270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200000">
                <a:off x="2211840" y="2287440"/>
                <a:ext cx="11772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6200000">
                <a:off x="2207880" y="245088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6200000">
                <a:off x="2559600" y="2287080"/>
                <a:ext cx="11844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6200000">
                <a:off x="2556000" y="245088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0400">
                <a:off x="2209320" y="2369160"/>
                <a:ext cx="1288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6200000">
                <a:off x="2297520" y="2203200"/>
                <a:ext cx="125280" cy="432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6200000">
                <a:off x="2298960" y="2533320"/>
                <a:ext cx="125280" cy="4608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6200000">
                <a:off x="2297520" y="2367720"/>
                <a:ext cx="125280" cy="432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6200000">
                <a:off x="2471760" y="220356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471760" y="253188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0400">
                <a:off x="2553480" y="2368440"/>
                <a:ext cx="132120" cy="414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6200000">
                <a:off x="2471760" y="236736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0400">
                <a:off x="2467080" y="2452680"/>
                <a:ext cx="1296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00">
                <a:off x="2299320" y="2451960"/>
                <a:ext cx="1260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400">
                <a:off x="2562480" y="2534760"/>
                <a:ext cx="1224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400">
                <a:off x="2563200" y="2199960"/>
                <a:ext cx="121320" cy="414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2300040" y="2285280"/>
                <a:ext cx="297000" cy="42840"/>
                <a:chOff x="2300040" y="2285280"/>
                <a:chExt cx="297000" cy="42840"/>
              </a:xfrm>
            </p:grpSpPr>
            <p:sp>
              <p:nvSpPr>
                <p:cNvPr id="67" name=""/>
                <p:cNvSpPr/>
                <p:nvPr/>
              </p:nvSpPr>
              <p:spPr>
                <a:xfrm rot="20400">
                  <a:off x="2469240" y="2286000"/>
                  <a:ext cx="12744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544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20400">
                  <a:off x="2300040" y="2285640"/>
                  <a:ext cx="1270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544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2425680" y="2250000"/>
                <a:ext cx="43560" cy="284040"/>
                <a:chOff x="2425680" y="2250000"/>
                <a:chExt cx="43560" cy="284040"/>
              </a:xfrm>
            </p:grpSpPr>
            <p:sp>
              <p:nvSpPr>
                <p:cNvPr id="70" name=""/>
                <p:cNvSpPr/>
                <p:nvPr/>
              </p:nvSpPr>
              <p:spPr>
                <a:xfrm rot="16200000">
                  <a:off x="2386440" y="2288880"/>
                  <a:ext cx="1216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16200000">
                  <a:off x="2386440" y="2451240"/>
                  <a:ext cx="1216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2373120" y="2331720"/>
                <a:ext cx="138600" cy="120240"/>
              </a:xfrm>
              <a:custGeom>
                <a:avLst/>
                <a:gdLst/>
                <a:ahLst/>
                <a:rect l="l" t="t" r="r" b="b"/>
                <a:pathLst>
                  <a:path w="153" h="138">
                    <a:moveTo>
                      <a:pt x="12" y="2"/>
                    </a:moveTo>
                    <a:lnTo>
                      <a:pt x="63" y="68"/>
                    </a:lnTo>
                    <a:lnTo>
                      <a:pt x="12" y="138"/>
                    </a:lnTo>
                    <a:lnTo>
                      <a:pt x="53" y="136"/>
                    </a:lnTo>
                    <a:lnTo>
                      <a:pt x="84" y="96"/>
                    </a:lnTo>
                    <a:lnTo>
                      <a:pt x="109" y="137"/>
                    </a:lnTo>
                    <a:lnTo>
                      <a:pt x="151" y="138"/>
                    </a:lnTo>
                    <a:lnTo>
                      <a:pt x="105" y="68"/>
                    </a:lnTo>
                    <a:lnTo>
                      <a:pt x="153" y="3"/>
                    </a:lnTo>
                    <a:lnTo>
                      <a:pt x="112" y="2"/>
                    </a:lnTo>
                    <a:lnTo>
                      <a:pt x="84" y="45"/>
                    </a:lnTo>
                    <a:lnTo>
                      <a:pt x="49" y="0"/>
                    </a:lnTo>
                    <a:lnTo>
                      <a:pt x="0" y="2"/>
                    </a:lnTo>
                  </a:path>
                </a:pathLst>
              </a:custGeom>
              <a:gradFill rotWithShape="0">
                <a:gsLst>
                  <a:gs pos="0">
                    <a:srgbClr val="dd9d5c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685960" y="213372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209320" y="2809800"/>
            <a:ext cx="4897800" cy="520560"/>
            <a:chOff x="2209320" y="2809800"/>
            <a:chExt cx="4897800" cy="520560"/>
          </a:xfrm>
        </p:grpSpPr>
        <p:sp>
          <p:nvSpPr>
            <p:cNvPr id="75" name=""/>
            <p:cNvSpPr/>
            <p:nvPr/>
          </p:nvSpPr>
          <p:spPr>
            <a:xfrm>
              <a:off x="2611440" y="2914560"/>
              <a:ext cx="4495680" cy="3049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99831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209320" y="2838600"/>
              <a:ext cx="478080" cy="456840"/>
              <a:chOff x="2209320" y="2838600"/>
              <a:chExt cx="478080" cy="456840"/>
            </a:xfrm>
          </p:grpSpPr>
          <p:sp>
            <p:nvSpPr>
              <p:cNvPr id="77" name=""/>
              <p:cNvSpPr/>
              <p:nvPr/>
            </p:nvSpPr>
            <p:spPr>
              <a:xfrm rot="20400">
                <a:off x="2209320" y="2877480"/>
                <a:ext cx="1306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0400">
                <a:off x="2210760" y="3211920"/>
                <a:ext cx="1288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20400">
                <a:off x="2388960" y="3045600"/>
                <a:ext cx="1260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0400">
                <a:off x="2379960" y="2877480"/>
                <a:ext cx="1738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0400">
                <a:off x="2387880" y="3211200"/>
                <a:ext cx="1270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6200000">
                <a:off x="2213280" y="2963880"/>
                <a:ext cx="11772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6200000">
                <a:off x="2209320" y="312732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6200000">
                <a:off x="2561400" y="2963520"/>
                <a:ext cx="11844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6200000">
                <a:off x="2557800" y="312732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20400">
                <a:off x="2210760" y="3045600"/>
                <a:ext cx="1288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6200000">
                <a:off x="2299320" y="2879640"/>
                <a:ext cx="125280" cy="432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6200000">
                <a:off x="2300760" y="3209760"/>
                <a:ext cx="125280" cy="4608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6200000">
                <a:off x="2299320" y="3044160"/>
                <a:ext cx="125280" cy="432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6200000">
                <a:off x="2473200" y="288000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6200000">
                <a:off x="2473200" y="320832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20400">
                <a:off x="2554920" y="3044880"/>
                <a:ext cx="132120" cy="414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6200000">
                <a:off x="2473200" y="304380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20400">
                <a:off x="2468880" y="3129120"/>
                <a:ext cx="1296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20400">
                <a:off x="2300760" y="3128400"/>
                <a:ext cx="1260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0400">
                <a:off x="2563920" y="3211200"/>
                <a:ext cx="1224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0400">
                <a:off x="2565000" y="2876400"/>
                <a:ext cx="121320" cy="414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2301480" y="2961720"/>
                <a:ext cx="297000" cy="42840"/>
                <a:chOff x="2301480" y="2961720"/>
                <a:chExt cx="297000" cy="42840"/>
              </a:xfrm>
            </p:grpSpPr>
            <p:sp>
              <p:nvSpPr>
                <p:cNvPr id="99" name=""/>
                <p:cNvSpPr/>
                <p:nvPr/>
              </p:nvSpPr>
              <p:spPr>
                <a:xfrm rot="20400">
                  <a:off x="2470680" y="2962440"/>
                  <a:ext cx="12744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544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rot="20400">
                  <a:off x="2301480" y="2962080"/>
                  <a:ext cx="1270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544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427480" y="2926440"/>
                <a:ext cx="43560" cy="284040"/>
                <a:chOff x="2427480" y="2926440"/>
                <a:chExt cx="43560" cy="284040"/>
              </a:xfrm>
            </p:grpSpPr>
            <p:sp>
              <p:nvSpPr>
                <p:cNvPr id="102" name=""/>
                <p:cNvSpPr/>
                <p:nvPr/>
              </p:nvSpPr>
              <p:spPr>
                <a:xfrm rot="16200000">
                  <a:off x="2388240" y="2965320"/>
                  <a:ext cx="1216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rot="16200000">
                  <a:off x="2388240" y="3127680"/>
                  <a:ext cx="1216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2374560" y="3008160"/>
                <a:ext cx="138960" cy="120240"/>
              </a:xfrm>
              <a:custGeom>
                <a:avLst/>
                <a:gdLst/>
                <a:ahLst/>
                <a:rect l="l" t="t" r="r" b="b"/>
                <a:pathLst>
                  <a:path w="153" h="138">
                    <a:moveTo>
                      <a:pt x="12" y="2"/>
                    </a:moveTo>
                    <a:lnTo>
                      <a:pt x="63" y="68"/>
                    </a:lnTo>
                    <a:lnTo>
                      <a:pt x="12" y="138"/>
                    </a:lnTo>
                    <a:lnTo>
                      <a:pt x="53" y="136"/>
                    </a:lnTo>
                    <a:lnTo>
                      <a:pt x="84" y="96"/>
                    </a:lnTo>
                    <a:lnTo>
                      <a:pt x="109" y="137"/>
                    </a:lnTo>
                    <a:lnTo>
                      <a:pt x="151" y="138"/>
                    </a:lnTo>
                    <a:lnTo>
                      <a:pt x="105" y="68"/>
                    </a:lnTo>
                    <a:lnTo>
                      <a:pt x="153" y="3"/>
                    </a:lnTo>
                    <a:lnTo>
                      <a:pt x="112" y="2"/>
                    </a:lnTo>
                    <a:lnTo>
                      <a:pt x="84" y="45"/>
                    </a:lnTo>
                    <a:lnTo>
                      <a:pt x="49" y="0"/>
                    </a:lnTo>
                    <a:lnTo>
                      <a:pt x="0" y="2"/>
                    </a:lnTo>
                  </a:path>
                </a:pathLst>
              </a:custGeom>
              <a:gradFill rotWithShape="0">
                <a:gsLst>
                  <a:gs pos="0">
                    <a:srgbClr val="dd9d5c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687760" y="2809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09320" y="3495600"/>
            <a:ext cx="4897800" cy="520560"/>
            <a:chOff x="2209320" y="3495600"/>
            <a:chExt cx="4897800" cy="520560"/>
          </a:xfrm>
        </p:grpSpPr>
        <p:sp>
          <p:nvSpPr>
            <p:cNvPr id="107" name=""/>
            <p:cNvSpPr/>
            <p:nvPr/>
          </p:nvSpPr>
          <p:spPr>
            <a:xfrm>
              <a:off x="2611440" y="3600360"/>
              <a:ext cx="4495680" cy="3049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99831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209320" y="3524400"/>
              <a:ext cx="478080" cy="456840"/>
              <a:chOff x="2209320" y="3524400"/>
              <a:chExt cx="478080" cy="456840"/>
            </a:xfrm>
          </p:grpSpPr>
          <p:sp>
            <p:nvSpPr>
              <p:cNvPr id="109" name=""/>
              <p:cNvSpPr/>
              <p:nvPr/>
            </p:nvSpPr>
            <p:spPr>
              <a:xfrm rot="20400">
                <a:off x="2209320" y="3563280"/>
                <a:ext cx="1306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400">
                <a:off x="2210760" y="3897720"/>
                <a:ext cx="1288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400">
                <a:off x="2388960" y="3731400"/>
                <a:ext cx="1260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20400">
                <a:off x="2379960" y="3563280"/>
                <a:ext cx="1738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20400">
                <a:off x="2387880" y="3897000"/>
                <a:ext cx="1270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6200000">
                <a:off x="2213280" y="3649680"/>
                <a:ext cx="11772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200000">
                <a:off x="2209320" y="381312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6200000">
                <a:off x="2561400" y="3649320"/>
                <a:ext cx="11844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6200000">
                <a:off x="2557800" y="381312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20400">
                <a:off x="2210760" y="3731400"/>
                <a:ext cx="1288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6200000">
                <a:off x="2299320" y="3565440"/>
                <a:ext cx="125280" cy="432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2300760" y="3895560"/>
                <a:ext cx="125280" cy="4608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2299320" y="3729960"/>
                <a:ext cx="125280" cy="432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6200000">
                <a:off x="2473200" y="356580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2473200" y="389412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0400">
                <a:off x="2554920" y="3730680"/>
                <a:ext cx="132120" cy="414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2473200" y="372960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400">
                <a:off x="2468880" y="3814920"/>
                <a:ext cx="1296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0400">
                <a:off x="2300760" y="3814200"/>
                <a:ext cx="1260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0400">
                <a:off x="2563920" y="3897000"/>
                <a:ext cx="1224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20400">
                <a:off x="2565000" y="3562200"/>
                <a:ext cx="121320" cy="414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301480" y="3647520"/>
                <a:ext cx="297000" cy="42840"/>
                <a:chOff x="2301480" y="3647520"/>
                <a:chExt cx="297000" cy="42840"/>
              </a:xfrm>
            </p:grpSpPr>
            <p:sp>
              <p:nvSpPr>
                <p:cNvPr id="131" name=""/>
                <p:cNvSpPr/>
                <p:nvPr/>
              </p:nvSpPr>
              <p:spPr>
                <a:xfrm rot="20400">
                  <a:off x="2470680" y="3648240"/>
                  <a:ext cx="12744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544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20400">
                  <a:off x="2301480" y="3647880"/>
                  <a:ext cx="1270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544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2427480" y="3612240"/>
                <a:ext cx="43560" cy="284040"/>
                <a:chOff x="2427480" y="3612240"/>
                <a:chExt cx="43560" cy="284040"/>
              </a:xfrm>
            </p:grpSpPr>
            <p:sp>
              <p:nvSpPr>
                <p:cNvPr id="134" name=""/>
                <p:cNvSpPr/>
                <p:nvPr/>
              </p:nvSpPr>
              <p:spPr>
                <a:xfrm rot="16200000">
                  <a:off x="2388240" y="3651120"/>
                  <a:ext cx="1216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6200000">
                  <a:off x="2388240" y="3813480"/>
                  <a:ext cx="1216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2374560" y="3693960"/>
                <a:ext cx="138960" cy="120240"/>
              </a:xfrm>
              <a:custGeom>
                <a:avLst/>
                <a:gdLst/>
                <a:ahLst/>
                <a:rect l="l" t="t" r="r" b="b"/>
                <a:pathLst>
                  <a:path w="153" h="138">
                    <a:moveTo>
                      <a:pt x="12" y="2"/>
                    </a:moveTo>
                    <a:lnTo>
                      <a:pt x="63" y="68"/>
                    </a:lnTo>
                    <a:lnTo>
                      <a:pt x="12" y="138"/>
                    </a:lnTo>
                    <a:lnTo>
                      <a:pt x="53" y="136"/>
                    </a:lnTo>
                    <a:lnTo>
                      <a:pt x="84" y="96"/>
                    </a:lnTo>
                    <a:lnTo>
                      <a:pt x="109" y="137"/>
                    </a:lnTo>
                    <a:lnTo>
                      <a:pt x="151" y="138"/>
                    </a:lnTo>
                    <a:lnTo>
                      <a:pt x="105" y="68"/>
                    </a:lnTo>
                    <a:lnTo>
                      <a:pt x="153" y="3"/>
                    </a:lnTo>
                    <a:lnTo>
                      <a:pt x="112" y="2"/>
                    </a:lnTo>
                    <a:lnTo>
                      <a:pt x="84" y="45"/>
                    </a:lnTo>
                    <a:lnTo>
                      <a:pt x="49" y="0"/>
                    </a:lnTo>
                    <a:lnTo>
                      <a:pt x="0" y="2"/>
                    </a:lnTo>
                  </a:path>
                </a:pathLst>
              </a:custGeom>
              <a:gradFill rotWithShape="0">
                <a:gsLst>
                  <a:gs pos="0">
                    <a:srgbClr val="dd9d5c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687760" y="34956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209320" y="4181400"/>
            <a:ext cx="4897800" cy="520560"/>
            <a:chOff x="2209320" y="4181400"/>
            <a:chExt cx="4897800" cy="520560"/>
          </a:xfrm>
        </p:grpSpPr>
        <p:sp>
          <p:nvSpPr>
            <p:cNvPr id="139" name=""/>
            <p:cNvSpPr/>
            <p:nvPr/>
          </p:nvSpPr>
          <p:spPr>
            <a:xfrm>
              <a:off x="2611440" y="4286160"/>
              <a:ext cx="4495680" cy="3049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99831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209320" y="4210200"/>
              <a:ext cx="478080" cy="456840"/>
              <a:chOff x="2209320" y="4210200"/>
              <a:chExt cx="478080" cy="456840"/>
            </a:xfrm>
          </p:grpSpPr>
          <p:sp>
            <p:nvSpPr>
              <p:cNvPr id="141" name=""/>
              <p:cNvSpPr/>
              <p:nvPr/>
            </p:nvSpPr>
            <p:spPr>
              <a:xfrm rot="20400">
                <a:off x="2209320" y="4249080"/>
                <a:ext cx="1306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400">
                <a:off x="2210760" y="4583520"/>
                <a:ext cx="1288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400">
                <a:off x="2388960" y="4417200"/>
                <a:ext cx="1260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400">
                <a:off x="2379960" y="4249080"/>
                <a:ext cx="1738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0400">
                <a:off x="2387880" y="4582800"/>
                <a:ext cx="1270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200000">
                <a:off x="2213280" y="4335480"/>
                <a:ext cx="11772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6200000">
                <a:off x="2209320" y="449892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6200000">
                <a:off x="2561400" y="4335120"/>
                <a:ext cx="11844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6200000">
                <a:off x="2557800" y="449892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400">
                <a:off x="2210760" y="4417200"/>
                <a:ext cx="1288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200000">
                <a:off x="2299320" y="4251240"/>
                <a:ext cx="125280" cy="432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6200000">
                <a:off x="2300760" y="4581360"/>
                <a:ext cx="125280" cy="4608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6200000">
                <a:off x="2299320" y="4415760"/>
                <a:ext cx="125280" cy="432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6200000">
                <a:off x="2473200" y="425160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6200000">
                <a:off x="2473200" y="457992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0400">
                <a:off x="2554920" y="4416480"/>
                <a:ext cx="132120" cy="414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6200000">
                <a:off x="2473200" y="441540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400">
                <a:off x="2468880" y="4500720"/>
                <a:ext cx="1296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400">
                <a:off x="2300760" y="4500000"/>
                <a:ext cx="1260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400">
                <a:off x="2563920" y="4582800"/>
                <a:ext cx="1224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400">
                <a:off x="2565000" y="4248000"/>
                <a:ext cx="121320" cy="414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301480" y="4333320"/>
                <a:ext cx="297000" cy="42840"/>
                <a:chOff x="2301480" y="4333320"/>
                <a:chExt cx="297000" cy="42840"/>
              </a:xfrm>
            </p:grpSpPr>
            <p:sp>
              <p:nvSpPr>
                <p:cNvPr id="163" name=""/>
                <p:cNvSpPr/>
                <p:nvPr/>
              </p:nvSpPr>
              <p:spPr>
                <a:xfrm rot="20400">
                  <a:off x="2470680" y="4334040"/>
                  <a:ext cx="12744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544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20400">
                  <a:off x="2301480" y="4333680"/>
                  <a:ext cx="1270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544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427480" y="4298040"/>
                <a:ext cx="43560" cy="284040"/>
                <a:chOff x="2427480" y="4298040"/>
                <a:chExt cx="43560" cy="284040"/>
              </a:xfrm>
            </p:grpSpPr>
            <p:sp>
              <p:nvSpPr>
                <p:cNvPr id="166" name=""/>
                <p:cNvSpPr/>
                <p:nvPr/>
              </p:nvSpPr>
              <p:spPr>
                <a:xfrm rot="16200000">
                  <a:off x="2388240" y="4336920"/>
                  <a:ext cx="1216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16200000">
                  <a:off x="2388240" y="4499280"/>
                  <a:ext cx="1216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2374560" y="4379760"/>
                <a:ext cx="138960" cy="120240"/>
              </a:xfrm>
              <a:custGeom>
                <a:avLst/>
                <a:gdLst/>
                <a:ahLst/>
                <a:rect l="l" t="t" r="r" b="b"/>
                <a:pathLst>
                  <a:path w="153" h="138">
                    <a:moveTo>
                      <a:pt x="12" y="2"/>
                    </a:moveTo>
                    <a:lnTo>
                      <a:pt x="63" y="68"/>
                    </a:lnTo>
                    <a:lnTo>
                      <a:pt x="12" y="138"/>
                    </a:lnTo>
                    <a:lnTo>
                      <a:pt x="53" y="136"/>
                    </a:lnTo>
                    <a:lnTo>
                      <a:pt x="84" y="96"/>
                    </a:lnTo>
                    <a:lnTo>
                      <a:pt x="109" y="137"/>
                    </a:lnTo>
                    <a:lnTo>
                      <a:pt x="151" y="138"/>
                    </a:lnTo>
                    <a:lnTo>
                      <a:pt x="105" y="68"/>
                    </a:lnTo>
                    <a:lnTo>
                      <a:pt x="153" y="3"/>
                    </a:lnTo>
                    <a:lnTo>
                      <a:pt x="112" y="2"/>
                    </a:lnTo>
                    <a:lnTo>
                      <a:pt x="84" y="45"/>
                    </a:lnTo>
                    <a:lnTo>
                      <a:pt x="49" y="0"/>
                    </a:lnTo>
                    <a:lnTo>
                      <a:pt x="0" y="2"/>
                    </a:lnTo>
                  </a:path>
                </a:pathLst>
              </a:custGeom>
              <a:gradFill rotWithShape="0">
                <a:gsLst>
                  <a:gs pos="0">
                    <a:srgbClr val="dd9d5c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687760" y="41814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209320" y="4867200"/>
            <a:ext cx="4897800" cy="520560"/>
            <a:chOff x="2209320" y="4867200"/>
            <a:chExt cx="4897800" cy="520560"/>
          </a:xfrm>
        </p:grpSpPr>
        <p:sp>
          <p:nvSpPr>
            <p:cNvPr id="171" name=""/>
            <p:cNvSpPr/>
            <p:nvPr/>
          </p:nvSpPr>
          <p:spPr>
            <a:xfrm>
              <a:off x="2611440" y="4971960"/>
              <a:ext cx="4495680" cy="3049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99831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209320" y="4896000"/>
              <a:ext cx="478080" cy="456840"/>
              <a:chOff x="2209320" y="4896000"/>
              <a:chExt cx="478080" cy="456840"/>
            </a:xfrm>
          </p:grpSpPr>
          <p:sp>
            <p:nvSpPr>
              <p:cNvPr id="173" name=""/>
              <p:cNvSpPr/>
              <p:nvPr/>
            </p:nvSpPr>
            <p:spPr>
              <a:xfrm rot="20400">
                <a:off x="2209320" y="4934880"/>
                <a:ext cx="1306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400">
                <a:off x="2210760" y="5269320"/>
                <a:ext cx="1288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20400">
                <a:off x="2388960" y="5103000"/>
                <a:ext cx="1260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20400">
                <a:off x="2379960" y="4934880"/>
                <a:ext cx="1738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0400">
                <a:off x="2387880" y="5268600"/>
                <a:ext cx="1270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6200000">
                <a:off x="2213280" y="5021280"/>
                <a:ext cx="11772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200000">
                <a:off x="2209320" y="518472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200000">
                <a:off x="2561400" y="5020920"/>
                <a:ext cx="11844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200000">
                <a:off x="2557800" y="518472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0400">
                <a:off x="2210760" y="5103000"/>
                <a:ext cx="12888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200000">
                <a:off x="2299320" y="4937040"/>
                <a:ext cx="125280" cy="432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00000">
                <a:off x="2300760" y="5267160"/>
                <a:ext cx="125280" cy="4608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200000">
                <a:off x="2299320" y="5101560"/>
                <a:ext cx="125280" cy="432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200000">
                <a:off x="2473200" y="493740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200000">
                <a:off x="2473200" y="526572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20400">
                <a:off x="2554920" y="5102280"/>
                <a:ext cx="132120" cy="414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6200000">
                <a:off x="2473200" y="510120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0400">
                <a:off x="2468880" y="5186520"/>
                <a:ext cx="1296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0400">
                <a:off x="2300760" y="5185800"/>
                <a:ext cx="1260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20400">
                <a:off x="2563920" y="5268600"/>
                <a:ext cx="122400" cy="417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20400">
                <a:off x="2565000" y="4933800"/>
                <a:ext cx="121320" cy="414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dd9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2301480" y="5019120"/>
                <a:ext cx="297000" cy="42840"/>
                <a:chOff x="2301480" y="5019120"/>
                <a:chExt cx="297000" cy="42840"/>
              </a:xfrm>
            </p:grpSpPr>
            <p:sp>
              <p:nvSpPr>
                <p:cNvPr id="195" name=""/>
                <p:cNvSpPr/>
                <p:nvPr/>
              </p:nvSpPr>
              <p:spPr>
                <a:xfrm rot="20400">
                  <a:off x="2470680" y="5019840"/>
                  <a:ext cx="12744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544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20400">
                  <a:off x="2301480" y="5019480"/>
                  <a:ext cx="1270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544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427480" y="4983840"/>
                <a:ext cx="43560" cy="284040"/>
                <a:chOff x="2427480" y="4983840"/>
                <a:chExt cx="43560" cy="284040"/>
              </a:xfrm>
            </p:grpSpPr>
            <p:sp>
              <p:nvSpPr>
                <p:cNvPr id="198" name=""/>
                <p:cNvSpPr/>
                <p:nvPr/>
              </p:nvSpPr>
              <p:spPr>
                <a:xfrm rot="16200000">
                  <a:off x="2388240" y="5022720"/>
                  <a:ext cx="1216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16200000">
                  <a:off x="2388240" y="5185080"/>
                  <a:ext cx="1216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d9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2374560" y="5065560"/>
                <a:ext cx="138960" cy="120240"/>
              </a:xfrm>
              <a:custGeom>
                <a:avLst/>
                <a:gdLst/>
                <a:ahLst/>
                <a:rect l="l" t="t" r="r" b="b"/>
                <a:pathLst>
                  <a:path w="153" h="138">
                    <a:moveTo>
                      <a:pt x="12" y="2"/>
                    </a:moveTo>
                    <a:lnTo>
                      <a:pt x="63" y="68"/>
                    </a:lnTo>
                    <a:lnTo>
                      <a:pt x="12" y="138"/>
                    </a:lnTo>
                    <a:lnTo>
                      <a:pt x="53" y="136"/>
                    </a:lnTo>
                    <a:lnTo>
                      <a:pt x="84" y="96"/>
                    </a:lnTo>
                    <a:lnTo>
                      <a:pt x="109" y="137"/>
                    </a:lnTo>
                    <a:lnTo>
                      <a:pt x="151" y="138"/>
                    </a:lnTo>
                    <a:lnTo>
                      <a:pt x="105" y="68"/>
                    </a:lnTo>
                    <a:lnTo>
                      <a:pt x="153" y="3"/>
                    </a:lnTo>
                    <a:lnTo>
                      <a:pt x="112" y="2"/>
                    </a:lnTo>
                    <a:lnTo>
                      <a:pt x="84" y="45"/>
                    </a:lnTo>
                    <a:lnTo>
                      <a:pt x="49" y="0"/>
                    </a:lnTo>
                    <a:lnTo>
                      <a:pt x="0" y="2"/>
                    </a:lnTo>
                  </a:path>
                </a:pathLst>
              </a:custGeom>
              <a:gradFill rotWithShape="0">
                <a:gsLst>
                  <a:gs pos="0">
                    <a:srgbClr val="dd9d5c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687760" y="48672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09320" y="1981080"/>
            <a:ext cx="4897800" cy="520560"/>
            <a:chOff x="2209320" y="1981080"/>
            <a:chExt cx="4897800" cy="520560"/>
          </a:xfrm>
        </p:grpSpPr>
        <p:sp>
          <p:nvSpPr>
            <p:cNvPr id="204" name=""/>
            <p:cNvSpPr/>
            <p:nvPr/>
          </p:nvSpPr>
          <p:spPr>
            <a:xfrm>
              <a:off x="2611440" y="2085840"/>
              <a:ext cx="4495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c9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2209320" y="1981080"/>
              <a:ext cx="4136040" cy="520560"/>
              <a:chOff x="2209320" y="1981080"/>
              <a:chExt cx="4136040" cy="52056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2209320" y="2009520"/>
                <a:ext cx="478080" cy="456840"/>
                <a:chOff x="2209320" y="2009520"/>
                <a:chExt cx="478080" cy="456840"/>
              </a:xfrm>
            </p:grpSpPr>
            <p:sp>
              <p:nvSpPr>
                <p:cNvPr id="207" name=""/>
                <p:cNvSpPr/>
                <p:nvPr/>
              </p:nvSpPr>
              <p:spPr>
                <a:xfrm rot="20400">
                  <a:off x="2209320" y="2048400"/>
                  <a:ext cx="1306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20400">
                  <a:off x="2210760" y="2382840"/>
                  <a:ext cx="1288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20400">
                  <a:off x="2388960" y="2216520"/>
                  <a:ext cx="12600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20400">
                  <a:off x="2379960" y="2048400"/>
                  <a:ext cx="1738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20400">
                  <a:off x="2387880" y="2382120"/>
                  <a:ext cx="1270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6200000">
                  <a:off x="2213280" y="2134800"/>
                  <a:ext cx="11772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6200000">
                  <a:off x="2209320" y="2298240"/>
                  <a:ext cx="1252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6200000">
                  <a:off x="2561400" y="2134440"/>
                  <a:ext cx="11844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6200000">
                  <a:off x="2557800" y="2298240"/>
                  <a:ext cx="1252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20400">
                  <a:off x="2210760" y="2216520"/>
                  <a:ext cx="1288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6200000">
                  <a:off x="2299320" y="2050560"/>
                  <a:ext cx="125280" cy="4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16200000">
                  <a:off x="2300760" y="2380680"/>
                  <a:ext cx="125280" cy="4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6200000">
                  <a:off x="2299320" y="2215080"/>
                  <a:ext cx="125280" cy="4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6200000">
                  <a:off x="2473200" y="2050920"/>
                  <a:ext cx="1252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6200000">
                  <a:off x="2473200" y="2379240"/>
                  <a:ext cx="1252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20400">
                  <a:off x="2554920" y="2215800"/>
                  <a:ext cx="132120" cy="4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16200000">
                  <a:off x="2473200" y="2214720"/>
                  <a:ext cx="1252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20400">
                  <a:off x="2468880" y="2300040"/>
                  <a:ext cx="12960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20400">
                  <a:off x="2300760" y="2299320"/>
                  <a:ext cx="12600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20400">
                  <a:off x="2563920" y="2382120"/>
                  <a:ext cx="12240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20400">
                  <a:off x="2565000" y="2047320"/>
                  <a:ext cx="121320" cy="4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2301480" y="2132640"/>
                  <a:ext cx="297000" cy="42840"/>
                  <a:chOff x="2301480" y="2132640"/>
                  <a:chExt cx="297000" cy="4284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20400">
                    <a:off x="2470680" y="2133360"/>
                    <a:ext cx="127440" cy="41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5c9ddd"/>
                      </a:gs>
                    </a:gsLst>
                    <a:lin ang="5442000"/>
                  </a:gradFill>
                  <a:ln w="0">
                    <a:noFill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20400">
                    <a:off x="2301480" y="2133000"/>
                    <a:ext cx="127080" cy="41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5c9ddd"/>
                      </a:gs>
                    </a:gsLst>
                    <a:lin ang="5442000"/>
                  </a:gradFill>
                  <a:ln w="0">
                    <a:noFill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2427480" y="2097360"/>
                  <a:ext cx="43560" cy="284040"/>
                  <a:chOff x="2427480" y="2097360"/>
                  <a:chExt cx="43560" cy="28404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rot="16200000">
                    <a:off x="2388240" y="2136240"/>
                    <a:ext cx="121680" cy="43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5c9ddd"/>
                      </a:gs>
                    </a:gsLst>
                    <a:lin ang="10800000"/>
                  </a:gradFill>
                  <a:ln w="0">
                    <a:noFill/>
                  </a:ln>
                  <a:effectLst>
                    <a:outerShdw dist="12600" dir="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16200000">
                    <a:off x="2388240" y="2298600"/>
                    <a:ext cx="121680" cy="43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5c9ddd"/>
                      </a:gs>
                    </a:gsLst>
                    <a:lin ang="10800000"/>
                  </a:gradFill>
                  <a:ln w="0">
                    <a:noFill/>
                  </a:ln>
                  <a:effectLst>
                    <a:outerShdw dist="12600" dir="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>
                  <a:off x="2374560" y="2179080"/>
                  <a:ext cx="138960" cy="120240"/>
                </a:xfrm>
                <a:custGeom>
                  <a:avLst/>
                  <a:gdLst/>
                  <a:ahLst/>
                  <a:rect l="l" t="t" r="r" b="b"/>
                  <a:pathLst>
                    <a:path w="153" h="138">
                      <a:moveTo>
                        <a:pt x="12" y="2"/>
                      </a:moveTo>
                      <a:lnTo>
                        <a:pt x="63" y="68"/>
                      </a:lnTo>
                      <a:lnTo>
                        <a:pt x="12" y="138"/>
                      </a:lnTo>
                      <a:lnTo>
                        <a:pt x="53" y="136"/>
                      </a:lnTo>
                      <a:lnTo>
                        <a:pt x="84" y="96"/>
                      </a:lnTo>
                      <a:lnTo>
                        <a:pt x="109" y="137"/>
                      </a:lnTo>
                      <a:lnTo>
                        <a:pt x="151" y="138"/>
                      </a:lnTo>
                      <a:lnTo>
                        <a:pt x="105" y="68"/>
                      </a:lnTo>
                      <a:lnTo>
                        <a:pt x="153" y="3"/>
                      </a:lnTo>
                      <a:lnTo>
                        <a:pt x="112" y="2"/>
                      </a:lnTo>
                      <a:lnTo>
                        <a:pt x="84" y="45"/>
                      </a:lnTo>
                      <a:lnTo>
                        <a:pt x="4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2687760" y="1981080"/>
                <a:ext cx="3657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lick to add 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2209320" y="2666880"/>
            <a:ext cx="4897800" cy="520560"/>
            <a:chOff x="2209320" y="2666880"/>
            <a:chExt cx="4897800" cy="520560"/>
          </a:xfrm>
        </p:grpSpPr>
        <p:sp>
          <p:nvSpPr>
            <p:cNvPr id="237" name=""/>
            <p:cNvSpPr/>
            <p:nvPr/>
          </p:nvSpPr>
          <p:spPr>
            <a:xfrm>
              <a:off x="2611440" y="2771640"/>
              <a:ext cx="4495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0ecb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209320" y="2695680"/>
              <a:ext cx="478080" cy="456840"/>
              <a:chOff x="2209320" y="2695680"/>
              <a:chExt cx="478080" cy="456840"/>
            </a:xfrm>
          </p:grpSpPr>
          <p:sp>
            <p:nvSpPr>
              <p:cNvPr id="239" name=""/>
              <p:cNvSpPr/>
              <p:nvPr/>
            </p:nvSpPr>
            <p:spPr>
              <a:xfrm rot="20400">
                <a:off x="2209320" y="2734560"/>
                <a:ext cx="13068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20400">
                <a:off x="2210760" y="3069000"/>
                <a:ext cx="12888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20400">
                <a:off x="2388960" y="2902680"/>
                <a:ext cx="12600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20400">
                <a:off x="2379960" y="2734560"/>
                <a:ext cx="17388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0400">
                <a:off x="2387880" y="3068280"/>
                <a:ext cx="12708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200000">
                <a:off x="2213280" y="2820960"/>
                <a:ext cx="117720" cy="435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6200000">
                <a:off x="2209320" y="298440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200000">
                <a:off x="2561400" y="2820600"/>
                <a:ext cx="118440" cy="435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6200000">
                <a:off x="2557800" y="298440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0400">
                <a:off x="2210760" y="2902680"/>
                <a:ext cx="12888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6200000">
                <a:off x="2299320" y="2736720"/>
                <a:ext cx="125280" cy="4320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6200000">
                <a:off x="2300760" y="3066840"/>
                <a:ext cx="125280" cy="4608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6200000">
                <a:off x="2299320" y="2901240"/>
                <a:ext cx="125280" cy="4320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200000">
                <a:off x="2473200" y="273708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200000">
                <a:off x="2473200" y="306540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400">
                <a:off x="2554920" y="2901960"/>
                <a:ext cx="132120" cy="4140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6200000">
                <a:off x="2473200" y="290088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400">
                <a:off x="2468880" y="2986200"/>
                <a:ext cx="12960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400">
                <a:off x="2300760" y="2985480"/>
                <a:ext cx="12600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400">
                <a:off x="2563920" y="3068280"/>
                <a:ext cx="12240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400">
                <a:off x="2565000" y="2733480"/>
                <a:ext cx="121320" cy="4140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2301480" y="2818800"/>
                <a:ext cx="297000" cy="42840"/>
                <a:chOff x="2301480" y="2818800"/>
                <a:chExt cx="297000" cy="42840"/>
              </a:xfrm>
            </p:grpSpPr>
            <p:sp>
              <p:nvSpPr>
                <p:cNvPr id="261" name=""/>
                <p:cNvSpPr/>
                <p:nvPr/>
              </p:nvSpPr>
              <p:spPr>
                <a:xfrm rot="20400">
                  <a:off x="2470680" y="2819520"/>
                  <a:ext cx="12744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5cbdbd"/>
                    </a:gs>
                  </a:gsLst>
                  <a:lin ang="544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20400">
                  <a:off x="2301480" y="2819160"/>
                  <a:ext cx="1270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5cbdbd"/>
                    </a:gs>
                  </a:gsLst>
                  <a:lin ang="544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427480" y="2783520"/>
                <a:ext cx="43560" cy="284040"/>
                <a:chOff x="2427480" y="2783520"/>
                <a:chExt cx="43560" cy="284040"/>
              </a:xfrm>
            </p:grpSpPr>
            <p:sp>
              <p:nvSpPr>
                <p:cNvPr id="264" name=""/>
                <p:cNvSpPr/>
                <p:nvPr/>
              </p:nvSpPr>
              <p:spPr>
                <a:xfrm rot="16200000">
                  <a:off x="2388240" y="2822400"/>
                  <a:ext cx="1216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5cbdb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16200000">
                  <a:off x="2388240" y="2984760"/>
                  <a:ext cx="1216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5cbdb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2374560" y="2865240"/>
                <a:ext cx="138960" cy="120240"/>
              </a:xfrm>
              <a:custGeom>
                <a:avLst/>
                <a:gdLst/>
                <a:ahLst/>
                <a:rect l="l" t="t" r="r" b="b"/>
                <a:pathLst>
                  <a:path w="153" h="138">
                    <a:moveTo>
                      <a:pt x="12" y="2"/>
                    </a:moveTo>
                    <a:lnTo>
                      <a:pt x="63" y="68"/>
                    </a:lnTo>
                    <a:lnTo>
                      <a:pt x="12" y="138"/>
                    </a:lnTo>
                    <a:lnTo>
                      <a:pt x="53" y="136"/>
                    </a:lnTo>
                    <a:lnTo>
                      <a:pt x="84" y="96"/>
                    </a:lnTo>
                    <a:lnTo>
                      <a:pt x="109" y="137"/>
                    </a:lnTo>
                    <a:lnTo>
                      <a:pt x="151" y="138"/>
                    </a:lnTo>
                    <a:lnTo>
                      <a:pt x="105" y="68"/>
                    </a:lnTo>
                    <a:lnTo>
                      <a:pt x="153" y="3"/>
                    </a:lnTo>
                    <a:lnTo>
                      <a:pt x="112" y="2"/>
                    </a:lnTo>
                    <a:lnTo>
                      <a:pt x="84" y="45"/>
                    </a:lnTo>
                    <a:lnTo>
                      <a:pt x="4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687760" y="26668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209320" y="3367080"/>
            <a:ext cx="4897800" cy="520560"/>
            <a:chOff x="2209320" y="3367080"/>
            <a:chExt cx="4897800" cy="520560"/>
          </a:xfrm>
        </p:grpSpPr>
        <p:sp>
          <p:nvSpPr>
            <p:cNvPr id="269" name=""/>
            <p:cNvSpPr/>
            <p:nvPr/>
          </p:nvSpPr>
          <p:spPr>
            <a:xfrm>
              <a:off x="2611440" y="3471840"/>
              <a:ext cx="4495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c9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2209320" y="3367080"/>
              <a:ext cx="4136040" cy="520560"/>
              <a:chOff x="2209320" y="3367080"/>
              <a:chExt cx="4136040" cy="52056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2209320" y="3395520"/>
                <a:ext cx="478080" cy="456840"/>
                <a:chOff x="2209320" y="3395520"/>
                <a:chExt cx="478080" cy="456840"/>
              </a:xfrm>
            </p:grpSpPr>
            <p:sp>
              <p:nvSpPr>
                <p:cNvPr id="272" name=""/>
                <p:cNvSpPr/>
                <p:nvPr/>
              </p:nvSpPr>
              <p:spPr>
                <a:xfrm rot="20400">
                  <a:off x="2209320" y="3434400"/>
                  <a:ext cx="1306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20400">
                  <a:off x="2210760" y="3768840"/>
                  <a:ext cx="1288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20400">
                  <a:off x="2388960" y="3602520"/>
                  <a:ext cx="12600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20400">
                  <a:off x="2379960" y="3434400"/>
                  <a:ext cx="1738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20400">
                  <a:off x="2387880" y="3768120"/>
                  <a:ext cx="1270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6200000">
                  <a:off x="2213280" y="3520800"/>
                  <a:ext cx="11772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6200000">
                  <a:off x="2209320" y="3684240"/>
                  <a:ext cx="1252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16200000">
                  <a:off x="2561400" y="3520440"/>
                  <a:ext cx="11844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16200000">
                  <a:off x="2557800" y="3684240"/>
                  <a:ext cx="1252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20400">
                  <a:off x="2210760" y="3602520"/>
                  <a:ext cx="1288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6200000">
                  <a:off x="2299320" y="3436560"/>
                  <a:ext cx="125280" cy="4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6200000">
                  <a:off x="2300760" y="3766680"/>
                  <a:ext cx="125280" cy="4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6200000">
                  <a:off x="2299320" y="3601080"/>
                  <a:ext cx="125280" cy="4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6200000">
                  <a:off x="2473200" y="3436920"/>
                  <a:ext cx="1252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6200000">
                  <a:off x="2473200" y="3765240"/>
                  <a:ext cx="1252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0400">
                  <a:off x="2554920" y="3601800"/>
                  <a:ext cx="132120" cy="4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16200000">
                  <a:off x="2473200" y="3600720"/>
                  <a:ext cx="1252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20400">
                  <a:off x="2468880" y="3686040"/>
                  <a:ext cx="12960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20400">
                  <a:off x="2300760" y="3685320"/>
                  <a:ext cx="12600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rot="20400">
                  <a:off x="2563920" y="3768120"/>
                  <a:ext cx="12240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20400">
                  <a:off x="2565000" y="3433320"/>
                  <a:ext cx="121320" cy="4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2301480" y="3518640"/>
                  <a:ext cx="297000" cy="42840"/>
                  <a:chOff x="2301480" y="3518640"/>
                  <a:chExt cx="297000" cy="4284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20400">
                    <a:off x="2470680" y="3519360"/>
                    <a:ext cx="127440" cy="41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5c9ddd"/>
                      </a:gs>
                    </a:gsLst>
                    <a:lin ang="5442000"/>
                  </a:gradFill>
                  <a:ln w="0">
                    <a:noFill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20400">
                    <a:off x="2301480" y="3519000"/>
                    <a:ext cx="127080" cy="41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5c9ddd"/>
                      </a:gs>
                    </a:gsLst>
                    <a:lin ang="5442000"/>
                  </a:gradFill>
                  <a:ln w="0">
                    <a:noFill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2427480" y="3483360"/>
                  <a:ext cx="43560" cy="284040"/>
                  <a:chOff x="2427480" y="3483360"/>
                  <a:chExt cx="43560" cy="28404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6200000">
                    <a:off x="2388240" y="3522240"/>
                    <a:ext cx="121680" cy="43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5c9ddd"/>
                      </a:gs>
                    </a:gsLst>
                    <a:lin ang="10800000"/>
                  </a:gradFill>
                  <a:ln w="0">
                    <a:noFill/>
                  </a:ln>
                  <a:effectLst>
                    <a:outerShdw dist="12600" dir="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6200000">
                    <a:off x="2388240" y="3684600"/>
                    <a:ext cx="121680" cy="43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5c9ddd"/>
                      </a:gs>
                    </a:gsLst>
                    <a:lin ang="10800000"/>
                  </a:gradFill>
                  <a:ln w="0">
                    <a:noFill/>
                  </a:ln>
                  <a:effectLst>
                    <a:outerShdw dist="12600" dir="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2374560" y="3565080"/>
                  <a:ext cx="138960" cy="120240"/>
                </a:xfrm>
                <a:custGeom>
                  <a:avLst/>
                  <a:gdLst/>
                  <a:ahLst/>
                  <a:rect l="l" t="t" r="r" b="b"/>
                  <a:pathLst>
                    <a:path w="153" h="138">
                      <a:moveTo>
                        <a:pt x="12" y="2"/>
                      </a:moveTo>
                      <a:lnTo>
                        <a:pt x="63" y="68"/>
                      </a:lnTo>
                      <a:lnTo>
                        <a:pt x="12" y="138"/>
                      </a:lnTo>
                      <a:lnTo>
                        <a:pt x="53" y="136"/>
                      </a:lnTo>
                      <a:lnTo>
                        <a:pt x="84" y="96"/>
                      </a:lnTo>
                      <a:lnTo>
                        <a:pt x="109" y="137"/>
                      </a:lnTo>
                      <a:lnTo>
                        <a:pt x="151" y="138"/>
                      </a:lnTo>
                      <a:lnTo>
                        <a:pt x="105" y="68"/>
                      </a:lnTo>
                      <a:lnTo>
                        <a:pt x="153" y="3"/>
                      </a:lnTo>
                      <a:lnTo>
                        <a:pt x="112" y="2"/>
                      </a:lnTo>
                      <a:lnTo>
                        <a:pt x="84" y="45"/>
                      </a:lnTo>
                      <a:lnTo>
                        <a:pt x="4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687760" y="3367080"/>
                <a:ext cx="3657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lick to add 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2209320" y="4724280"/>
            <a:ext cx="4897800" cy="520560"/>
            <a:chOff x="2209320" y="4724280"/>
            <a:chExt cx="4897800" cy="520560"/>
          </a:xfrm>
        </p:grpSpPr>
        <p:sp>
          <p:nvSpPr>
            <p:cNvPr id="302" name=""/>
            <p:cNvSpPr/>
            <p:nvPr/>
          </p:nvSpPr>
          <p:spPr>
            <a:xfrm>
              <a:off x="2611440" y="4829040"/>
              <a:ext cx="4495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c9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2209320" y="4724280"/>
              <a:ext cx="4136040" cy="520560"/>
              <a:chOff x="2209320" y="4724280"/>
              <a:chExt cx="4136040" cy="52056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2209320" y="4752720"/>
                <a:ext cx="478080" cy="456840"/>
                <a:chOff x="2209320" y="4752720"/>
                <a:chExt cx="478080" cy="456840"/>
              </a:xfrm>
            </p:grpSpPr>
            <p:sp>
              <p:nvSpPr>
                <p:cNvPr id="305" name=""/>
                <p:cNvSpPr/>
                <p:nvPr/>
              </p:nvSpPr>
              <p:spPr>
                <a:xfrm rot="20400">
                  <a:off x="2209320" y="4791600"/>
                  <a:ext cx="1306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20400">
                  <a:off x="2210760" y="5126040"/>
                  <a:ext cx="1288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20400">
                  <a:off x="2388960" y="4959720"/>
                  <a:ext cx="12600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20400">
                  <a:off x="2379960" y="4791600"/>
                  <a:ext cx="1738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20400">
                  <a:off x="2387880" y="5125320"/>
                  <a:ext cx="1270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6200000">
                  <a:off x="2213280" y="4878000"/>
                  <a:ext cx="11772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16200000">
                  <a:off x="2209320" y="5041440"/>
                  <a:ext cx="1252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16200000">
                  <a:off x="2561400" y="4877640"/>
                  <a:ext cx="11844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200000">
                  <a:off x="2557800" y="5041440"/>
                  <a:ext cx="1252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20400">
                  <a:off x="2210760" y="4959720"/>
                  <a:ext cx="1288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200000">
                  <a:off x="2299320" y="4793760"/>
                  <a:ext cx="125280" cy="4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200000">
                  <a:off x="2300760" y="5123880"/>
                  <a:ext cx="125280" cy="4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200000">
                  <a:off x="2299320" y="4958280"/>
                  <a:ext cx="125280" cy="4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16200000">
                  <a:off x="2473200" y="4794120"/>
                  <a:ext cx="1252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rot="16200000">
                  <a:off x="2473200" y="5122440"/>
                  <a:ext cx="1252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20400">
                  <a:off x="2554920" y="4959000"/>
                  <a:ext cx="132120" cy="4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16200000">
                  <a:off x="2473200" y="4957920"/>
                  <a:ext cx="1252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20400">
                  <a:off x="2468880" y="5043240"/>
                  <a:ext cx="12960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20400">
                  <a:off x="2300760" y="5042520"/>
                  <a:ext cx="12600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20400">
                  <a:off x="2563920" y="5125320"/>
                  <a:ext cx="12240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20400">
                  <a:off x="2565000" y="4790520"/>
                  <a:ext cx="121320" cy="4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5c9ddd"/>
                    </a:gs>
                  </a:gsLst>
                  <a:lin ang="538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6" name=""/>
                <p:cNvGrpSpPr/>
                <p:nvPr/>
              </p:nvGrpSpPr>
              <p:grpSpPr>
                <a:xfrm>
                  <a:off x="2301480" y="4875840"/>
                  <a:ext cx="297000" cy="42840"/>
                  <a:chOff x="2301480" y="4875840"/>
                  <a:chExt cx="297000" cy="428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rot="20400">
                    <a:off x="2470680" y="4876560"/>
                    <a:ext cx="127440" cy="41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5c9ddd"/>
                      </a:gs>
                    </a:gsLst>
                    <a:lin ang="5442000"/>
                  </a:gradFill>
                  <a:ln w="0">
                    <a:noFill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20400">
                    <a:off x="2301480" y="4876200"/>
                    <a:ext cx="127080" cy="41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5c9ddd"/>
                      </a:gs>
                    </a:gsLst>
                    <a:lin ang="5442000"/>
                  </a:gradFill>
                  <a:ln w="0">
                    <a:noFill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2427480" y="4840560"/>
                  <a:ext cx="43560" cy="284040"/>
                  <a:chOff x="2427480" y="4840560"/>
                  <a:chExt cx="43560" cy="28404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rot="16200000">
                    <a:off x="2388240" y="4879440"/>
                    <a:ext cx="121680" cy="43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5c9ddd"/>
                      </a:gs>
                    </a:gsLst>
                    <a:lin ang="10800000"/>
                  </a:gradFill>
                  <a:ln w="0">
                    <a:noFill/>
                  </a:ln>
                  <a:effectLst>
                    <a:outerShdw dist="12600" dir="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rot="16200000">
                    <a:off x="2388240" y="5041800"/>
                    <a:ext cx="121680" cy="43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5c9ddd"/>
                      </a:gs>
                    </a:gsLst>
                    <a:lin ang="10800000"/>
                  </a:gradFill>
                  <a:ln w="0">
                    <a:noFill/>
                  </a:ln>
                  <a:effectLst>
                    <a:outerShdw dist="12600" dir="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2" name=""/>
                <p:cNvSpPr/>
                <p:nvPr/>
              </p:nvSpPr>
              <p:spPr>
                <a:xfrm>
                  <a:off x="2374560" y="4922280"/>
                  <a:ext cx="138960" cy="120240"/>
                </a:xfrm>
                <a:custGeom>
                  <a:avLst/>
                  <a:gdLst/>
                  <a:ahLst/>
                  <a:rect l="l" t="t" r="r" b="b"/>
                  <a:pathLst>
                    <a:path w="153" h="138">
                      <a:moveTo>
                        <a:pt x="12" y="2"/>
                      </a:moveTo>
                      <a:lnTo>
                        <a:pt x="63" y="68"/>
                      </a:lnTo>
                      <a:lnTo>
                        <a:pt x="12" y="138"/>
                      </a:lnTo>
                      <a:lnTo>
                        <a:pt x="53" y="136"/>
                      </a:lnTo>
                      <a:lnTo>
                        <a:pt x="84" y="96"/>
                      </a:lnTo>
                      <a:lnTo>
                        <a:pt x="109" y="137"/>
                      </a:lnTo>
                      <a:lnTo>
                        <a:pt x="151" y="138"/>
                      </a:lnTo>
                      <a:lnTo>
                        <a:pt x="105" y="68"/>
                      </a:lnTo>
                      <a:lnTo>
                        <a:pt x="153" y="3"/>
                      </a:lnTo>
                      <a:lnTo>
                        <a:pt x="112" y="2"/>
                      </a:lnTo>
                      <a:lnTo>
                        <a:pt x="84" y="45"/>
                      </a:lnTo>
                      <a:lnTo>
                        <a:pt x="4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"/>
              <p:cNvSpPr/>
              <p:nvPr/>
            </p:nvSpPr>
            <p:spPr>
              <a:xfrm>
                <a:off x="2687760" y="4724280"/>
                <a:ext cx="3657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lick to add 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2209320" y="4038480"/>
            <a:ext cx="4897800" cy="520560"/>
            <a:chOff x="2209320" y="4038480"/>
            <a:chExt cx="4897800" cy="520560"/>
          </a:xfrm>
        </p:grpSpPr>
        <p:sp>
          <p:nvSpPr>
            <p:cNvPr id="335" name=""/>
            <p:cNvSpPr/>
            <p:nvPr/>
          </p:nvSpPr>
          <p:spPr>
            <a:xfrm>
              <a:off x="2611440" y="4143240"/>
              <a:ext cx="4495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0ecb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2209320" y="4067280"/>
              <a:ext cx="478080" cy="456840"/>
              <a:chOff x="2209320" y="4067280"/>
              <a:chExt cx="478080" cy="456840"/>
            </a:xfrm>
          </p:grpSpPr>
          <p:sp>
            <p:nvSpPr>
              <p:cNvPr id="337" name=""/>
              <p:cNvSpPr/>
              <p:nvPr/>
            </p:nvSpPr>
            <p:spPr>
              <a:xfrm rot="20400">
                <a:off x="2209320" y="4106160"/>
                <a:ext cx="13068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400">
                <a:off x="2210760" y="4440600"/>
                <a:ext cx="12888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0400">
                <a:off x="2388960" y="4274280"/>
                <a:ext cx="12600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400">
                <a:off x="2379960" y="4106160"/>
                <a:ext cx="17388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400">
                <a:off x="2387880" y="4439880"/>
                <a:ext cx="12708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6200000">
                <a:off x="2213280" y="4192560"/>
                <a:ext cx="117720" cy="435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6200000">
                <a:off x="2209320" y="435600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6200000">
                <a:off x="2561400" y="4192200"/>
                <a:ext cx="118440" cy="435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6200000">
                <a:off x="2557800" y="435600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400">
                <a:off x="2210760" y="4274280"/>
                <a:ext cx="12888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6200000">
                <a:off x="2299320" y="4108320"/>
                <a:ext cx="125280" cy="4320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6200000">
                <a:off x="2300760" y="4438440"/>
                <a:ext cx="125280" cy="4608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6200000">
                <a:off x="2299320" y="4272840"/>
                <a:ext cx="125280" cy="4320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6200000">
                <a:off x="2473200" y="410868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6200000">
                <a:off x="2473200" y="443700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400">
                <a:off x="2554920" y="4273560"/>
                <a:ext cx="132120" cy="4140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6200000">
                <a:off x="2473200" y="4272480"/>
                <a:ext cx="125280" cy="435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400">
                <a:off x="2468880" y="4357800"/>
                <a:ext cx="12960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400">
                <a:off x="2300760" y="4357080"/>
                <a:ext cx="12600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400">
                <a:off x="2563920" y="4439880"/>
                <a:ext cx="122400" cy="417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400">
                <a:off x="2565000" y="4105080"/>
                <a:ext cx="121320" cy="4140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cbdbd"/>
                  </a:gs>
                </a:gsLst>
                <a:lin ang="5382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2301480" y="4190400"/>
                <a:ext cx="297000" cy="42840"/>
                <a:chOff x="2301480" y="4190400"/>
                <a:chExt cx="297000" cy="42840"/>
              </a:xfrm>
            </p:grpSpPr>
            <p:sp>
              <p:nvSpPr>
                <p:cNvPr id="359" name=""/>
                <p:cNvSpPr/>
                <p:nvPr/>
              </p:nvSpPr>
              <p:spPr>
                <a:xfrm rot="20400">
                  <a:off x="2470680" y="4191120"/>
                  <a:ext cx="12744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5cbdbd"/>
                    </a:gs>
                  </a:gsLst>
                  <a:lin ang="544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20400">
                  <a:off x="2301480" y="4190760"/>
                  <a:ext cx="12708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5cbdbd"/>
                    </a:gs>
                  </a:gsLst>
                  <a:lin ang="5442000"/>
                </a:gradFill>
                <a:ln w="0">
                  <a:noFill/>
                </a:ln>
                <a:effectLst>
                  <a:outerShdw dist="12600" dir="54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427480" y="4155120"/>
                <a:ext cx="43560" cy="284040"/>
                <a:chOff x="2427480" y="4155120"/>
                <a:chExt cx="43560" cy="284040"/>
              </a:xfrm>
            </p:grpSpPr>
            <p:sp>
              <p:nvSpPr>
                <p:cNvPr id="362" name=""/>
                <p:cNvSpPr/>
                <p:nvPr/>
              </p:nvSpPr>
              <p:spPr>
                <a:xfrm rot="16200000">
                  <a:off x="2388240" y="4194000"/>
                  <a:ext cx="1216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5cbdb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16200000">
                  <a:off x="2388240" y="4356360"/>
                  <a:ext cx="12168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5cbdbd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" name=""/>
              <p:cNvSpPr/>
              <p:nvPr/>
            </p:nvSpPr>
            <p:spPr>
              <a:xfrm>
                <a:off x="2374560" y="4236840"/>
                <a:ext cx="138960" cy="120240"/>
              </a:xfrm>
              <a:custGeom>
                <a:avLst/>
                <a:gdLst/>
                <a:ahLst/>
                <a:rect l="l" t="t" r="r" b="b"/>
                <a:pathLst>
                  <a:path w="153" h="138">
                    <a:moveTo>
                      <a:pt x="12" y="2"/>
                    </a:moveTo>
                    <a:lnTo>
                      <a:pt x="63" y="68"/>
                    </a:lnTo>
                    <a:lnTo>
                      <a:pt x="12" y="138"/>
                    </a:lnTo>
                    <a:lnTo>
                      <a:pt x="53" y="136"/>
                    </a:lnTo>
                    <a:lnTo>
                      <a:pt x="84" y="96"/>
                    </a:lnTo>
                    <a:lnTo>
                      <a:pt x="109" y="137"/>
                    </a:lnTo>
                    <a:lnTo>
                      <a:pt x="151" y="138"/>
                    </a:lnTo>
                    <a:lnTo>
                      <a:pt x="105" y="68"/>
                    </a:lnTo>
                    <a:lnTo>
                      <a:pt x="153" y="3"/>
                    </a:lnTo>
                    <a:lnTo>
                      <a:pt x="112" y="2"/>
                    </a:lnTo>
                    <a:lnTo>
                      <a:pt x="84" y="45"/>
                    </a:lnTo>
                    <a:lnTo>
                      <a:pt x="4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687760" y="40384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19T01:34:01Z</dcterms:modified>
  <cp:revision>94</cp:revision>
  <dc:subject/>
  <dc:title>Contents Design</dc:title>
</cp:coreProperties>
</file>