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2F2-EE9F-4366-86D4-BAAAA38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089-A7B0-483F-AB1F-B40E5CA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AB2-2875-4494-BB60-0B055649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5C0-BDEC-43FE-AB11-C6512531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716-E022-46C4-AE4A-C118DF8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C3E-FECB-4A0C-B62A-5A6E3AE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099-0677-44D2-92CE-C2D2F7BB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C7D-450B-4B20-A3FC-88C21B89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2D5-6C71-4F35-B962-5E0F5E8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A55-4164-4D88-9C4C-93A32A1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32C-FD5D-47FB-A874-91C6DFDA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E28-54C2-43AA-B4A6-CAA1E84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1AD-1D17-42A1-AEA5-ADF3AE7497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53" name=""/>
            <p:cNvSpPr/>
            <p:nvPr/>
          </p:nvSpPr>
          <p:spPr>
            <a:xfrm>
              <a:off x="2897280" y="167796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480" y="257940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00520" y="32605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7280" y="39463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97280" y="463068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0520" y="532764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60" name=""/>
            <p:cNvSpPr/>
            <p:nvPr/>
          </p:nvSpPr>
          <p:spPr>
            <a:xfrm>
              <a:off x="5895720" y="1676520"/>
              <a:ext cx="117720" cy="3812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98960" y="32594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5720" y="39452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95720" y="462924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98960" y="532620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003b76">
                  <a:alpha val="0"/>
                </a:srgbClr>
              </a:gs>
              <a:gs pos="50000">
                <a:srgbClr val="001b36">
                  <a:alpha val="58039"/>
                </a:srgbClr>
              </a:gs>
              <a:gs pos="100000">
                <a:srgbClr val="003b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203976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ee8c8"/>
              </a:gs>
              <a:gs pos="100000">
                <a:srgbClr val="ff99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209556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72556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99"/>
              </a:gs>
              <a:gs pos="50000">
                <a:srgbClr val="fec1d5"/>
              </a:gs>
              <a:gs pos="100000">
                <a:srgbClr val="ff669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78136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341136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ee8c8"/>
              </a:gs>
              <a:gs pos="100000">
                <a:srgbClr val="ff99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46716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09716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99"/>
              </a:gs>
              <a:gs pos="50000">
                <a:srgbClr val="fec1d5"/>
              </a:gs>
              <a:gs pos="100000">
                <a:srgbClr val="ff669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15296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80060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ee8c8"/>
              </a:gs>
              <a:gs pos="100000">
                <a:srgbClr val="ff99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3876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895480" y="1601640"/>
            <a:ext cx="122400" cy="4030560"/>
            <a:chOff x="2895480" y="1601640"/>
            <a:chExt cx="122400" cy="4030560"/>
          </a:xfrm>
        </p:grpSpPr>
        <p:sp>
          <p:nvSpPr>
            <p:cNvPr id="78" name=""/>
            <p:cNvSpPr/>
            <p:nvPr/>
          </p:nvSpPr>
          <p:spPr>
            <a:xfrm>
              <a:off x="2897280" y="160164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5480" y="250308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00520" y="318420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7280" y="387000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7280" y="455436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0520" y="525132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894280" y="1600200"/>
            <a:ext cx="125280" cy="4030560"/>
            <a:chOff x="5894280" y="1600200"/>
            <a:chExt cx="125280" cy="4030560"/>
          </a:xfrm>
        </p:grpSpPr>
        <p:sp>
          <p:nvSpPr>
            <p:cNvPr id="85" name=""/>
            <p:cNvSpPr/>
            <p:nvPr/>
          </p:nvSpPr>
          <p:spPr>
            <a:xfrm>
              <a:off x="5895720" y="1600200"/>
              <a:ext cx="117720" cy="3812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94280" y="250200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8960" y="31831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95720" y="38689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95720" y="455292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98960" y="524988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286000" y="5621400"/>
            <a:ext cx="4495680" cy="152280"/>
          </a:xfrm>
          <a:prstGeom prst="rect">
            <a:avLst/>
          </a:prstGeom>
          <a:gradFill rotWithShape="0">
            <a:gsLst>
              <a:gs pos="0">
                <a:srgbClr val="b2b2b2">
                  <a:alpha val="0"/>
                </a:srgbClr>
              </a:gs>
              <a:gs pos="50000">
                <a:srgbClr val="cdcdcd">
                  <a:alpha val="58039"/>
                </a:srgbClr>
              </a:gs>
              <a:gs pos="100000">
                <a:srgbClr val="b2b2b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27Z</dcterms:modified>
  <cp:revision>92</cp:revision>
  <dc:subject/>
  <dc:title>Contents Design</dc:title>
</cp:coreProperties>
</file>