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FDB-7ADF-489D-96D1-30CEAAC6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DC3-D8C1-4CEA-BACF-F9C464F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3AE-CF33-4575-8074-1238C673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901-CD57-4696-B125-0FF7411F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FE1-C434-4E46-BE8A-E72EF40C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D96-ED44-42AD-B507-4D5B0CE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6E2-D017-46DA-8FC3-026D2CBC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8C7-2B97-48C6-A72B-25E87A63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30D-8532-4FDA-A03E-E223CFA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01A-72D3-48B5-A353-3A2081F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476-FDFD-4E41-B3BA-4811E19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517-B394-4004-8FA6-2FDFFDB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1126-75EB-4DFE-B02F-70D0C0EA1F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-246528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8aa1c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rot="5400000">
            <a:off x="-2018160" y="2062080"/>
            <a:ext cx="4032360" cy="39308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003399">
                  <a:alpha val="0"/>
                </a:srgbClr>
              </a:gs>
              <a:gs pos="100000">
                <a:srgbClr val="92a7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52513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442440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6115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76084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89120" y="197316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2062080"/>
            <a:ext cx="380880" cy="381240"/>
            <a:chOff x="1371600" y="2062080"/>
            <a:chExt cx="380880" cy="381240"/>
          </a:xfrm>
        </p:grpSpPr>
        <p:sp>
          <p:nvSpPr>
            <p:cNvPr id="50" name=""/>
            <p:cNvSpPr/>
            <p:nvPr/>
          </p:nvSpPr>
          <p:spPr>
            <a:xfrm>
              <a:off x="137160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9320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1300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1300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3244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3244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2849400"/>
            <a:ext cx="380880" cy="381240"/>
            <a:chOff x="1905120" y="2849400"/>
            <a:chExt cx="380880" cy="381240"/>
          </a:xfrm>
        </p:grpSpPr>
        <p:sp>
          <p:nvSpPr>
            <p:cNvPr id="57" name=""/>
            <p:cNvSpPr/>
            <p:nvPr/>
          </p:nvSpPr>
          <p:spPr>
            <a:xfrm>
              <a:off x="190512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672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4652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4652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596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6596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64" name="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25720" y="4525920"/>
            <a:ext cx="380880" cy="380880"/>
            <a:chOff x="2025720" y="4525920"/>
            <a:chExt cx="380880" cy="380880"/>
          </a:xfrm>
        </p:grpSpPr>
        <p:sp>
          <p:nvSpPr>
            <p:cNvPr id="71" name=""/>
            <p:cNvSpPr/>
            <p:nvPr/>
          </p:nvSpPr>
          <p:spPr>
            <a:xfrm>
              <a:off x="202572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732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6712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712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8656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8656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606680" y="5300640"/>
            <a:ext cx="355320" cy="380880"/>
            <a:chOff x="1606680" y="5300640"/>
            <a:chExt cx="355320" cy="380880"/>
          </a:xfrm>
        </p:grpSpPr>
        <p:sp>
          <p:nvSpPr>
            <p:cNvPr id="78" name=""/>
            <p:cNvSpPr/>
            <p:nvPr/>
          </p:nvSpPr>
          <p:spPr>
            <a:xfrm>
              <a:off x="1606680" y="5300640"/>
              <a:ext cx="35532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26840" y="5321880"/>
              <a:ext cx="31464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45200" y="5342040"/>
              <a:ext cx="27756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45200" y="5342040"/>
              <a:ext cx="27756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63560" y="5361480"/>
              <a:ext cx="241200" cy="25884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63560" y="5361480"/>
              <a:ext cx="24120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5400000">
            <a:off x="-242244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b0bad8"/>
              </a:gs>
              <a:gs pos="100000">
                <a:srgbClr val="dad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5400000">
            <a:off x="-2016360" y="2062800"/>
            <a:ext cx="403236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b8ccfe"/>
              </a:gs>
              <a:gs pos="100000">
                <a:srgbClr val="e2ea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52513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7e7f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442440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f5c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6115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7e7f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74320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f5c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5440" y="197316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7e7f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47920" y="2062080"/>
            <a:ext cx="380880" cy="381240"/>
            <a:chOff x="1447920" y="2062080"/>
            <a:chExt cx="380880" cy="381240"/>
          </a:xfrm>
        </p:grpSpPr>
        <p:sp>
          <p:nvSpPr>
            <p:cNvPr id="92" name=""/>
            <p:cNvSpPr/>
            <p:nvPr/>
          </p:nvSpPr>
          <p:spPr>
            <a:xfrm>
              <a:off x="144792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6952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99" name="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106" name="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057400" y="4525920"/>
            <a:ext cx="380880" cy="380880"/>
            <a:chOff x="2057400" y="4525920"/>
            <a:chExt cx="380880" cy="380880"/>
          </a:xfrm>
        </p:grpSpPr>
        <p:sp>
          <p:nvSpPr>
            <p:cNvPr id="113" name=""/>
            <p:cNvSpPr/>
            <p:nvPr/>
          </p:nvSpPr>
          <p:spPr>
            <a:xfrm>
              <a:off x="205740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900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9880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880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1824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82640" y="5300640"/>
            <a:ext cx="355680" cy="380880"/>
            <a:chOff x="1682640" y="5300640"/>
            <a:chExt cx="355680" cy="380880"/>
          </a:xfrm>
        </p:grpSpPr>
        <p:sp>
          <p:nvSpPr>
            <p:cNvPr id="120" name=""/>
            <p:cNvSpPr/>
            <p:nvPr/>
          </p:nvSpPr>
          <p:spPr>
            <a:xfrm>
              <a:off x="16826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28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11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11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95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395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31Z</dcterms:modified>
  <cp:revision>94</cp:revision>
  <dc:subject/>
  <dc:title>Contents Design</dc:title>
</cp:coreProperties>
</file>