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5B-2349-4707-AD9E-70D52100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897-9D7B-41D5-B2E4-CDC143DB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B14-327E-4458-B8A8-DE7DD4F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6A3-B453-4FF3-AE27-EB596D0F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22E-8194-4EAE-B715-31C6633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1A3-41F0-48C8-A2F0-DB153D6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5CC-71AF-4D10-B48B-ECD4CA3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EFB-96CC-4BFD-AA45-B800F56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B9C-E138-4B4E-B44B-18F0A7B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36D-0B19-44EC-8790-1FD42C4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186-6F2B-48A5-A77E-CF7E53F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DA7-8A5B-4D7E-AD2D-FBB311B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833-B190-40FA-830C-072C12E5DB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b2b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8880" y="2057400"/>
            <a:ext cx="5081400" cy="568440"/>
            <a:chOff x="1928880" y="2057400"/>
            <a:chExt cx="5081400" cy="568440"/>
          </a:xfrm>
        </p:grpSpPr>
        <p:sp>
          <p:nvSpPr>
            <p:cNvPr id="43" name=""/>
            <p:cNvSpPr/>
            <p:nvPr/>
          </p:nvSpPr>
          <p:spPr>
            <a:xfrm>
              <a:off x="2209680" y="25113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928880" y="2367360"/>
              <a:ext cx="258480" cy="258480"/>
              <a:chOff x="1928880" y="2367360"/>
              <a:chExt cx="258480" cy="258480"/>
            </a:xfrm>
          </p:grpSpPr>
          <p:sp>
            <p:nvSpPr>
              <p:cNvPr id="45" name=""/>
              <p:cNvSpPr/>
              <p:nvPr/>
            </p:nvSpPr>
            <p:spPr>
              <a:xfrm rot="2700000">
                <a:off x="1966680" y="24051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8900000">
                <a:off x="1966680" y="2405160"/>
                <a:ext cx="182880" cy="182520"/>
              </a:xfrm>
              <a:prstGeom prst="rtTriangl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3017160" y="20574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928520" y="2819520"/>
            <a:ext cx="5081760" cy="568080"/>
            <a:chOff x="1928520" y="2819520"/>
            <a:chExt cx="5081760" cy="568080"/>
          </a:xfrm>
        </p:grpSpPr>
        <p:sp>
          <p:nvSpPr>
            <p:cNvPr id="49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928520" y="3129120"/>
              <a:ext cx="258480" cy="258480"/>
              <a:chOff x="1928520" y="3129120"/>
              <a:chExt cx="258480" cy="258480"/>
            </a:xfrm>
          </p:grpSpPr>
          <p:sp>
            <p:nvSpPr>
              <p:cNvPr id="51" name=""/>
              <p:cNvSpPr/>
              <p:nvPr/>
            </p:nvSpPr>
            <p:spPr>
              <a:xfrm rot="2700000">
                <a:off x="1966320" y="3166920"/>
                <a:ext cx="18288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18900000">
                <a:off x="1966320" y="3166920"/>
                <a:ext cx="182880" cy="182520"/>
              </a:xfrm>
              <a:prstGeom prst="rtTriangl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28880" y="3581280"/>
            <a:ext cx="5081400" cy="568440"/>
            <a:chOff x="1928880" y="3581280"/>
            <a:chExt cx="5081400" cy="568440"/>
          </a:xfrm>
        </p:grpSpPr>
        <p:sp>
          <p:nvSpPr>
            <p:cNvPr id="55" name=""/>
            <p:cNvSpPr/>
            <p:nvPr/>
          </p:nvSpPr>
          <p:spPr>
            <a:xfrm>
              <a:off x="2209680" y="40356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928880" y="3891240"/>
              <a:ext cx="258480" cy="258480"/>
              <a:chOff x="1928880" y="3891240"/>
              <a:chExt cx="258480" cy="258480"/>
            </a:xfrm>
          </p:grpSpPr>
          <p:sp>
            <p:nvSpPr>
              <p:cNvPr id="57" name=""/>
              <p:cNvSpPr/>
              <p:nvPr/>
            </p:nvSpPr>
            <p:spPr>
              <a:xfrm rot="2700000">
                <a:off x="1966680" y="392904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18900000">
                <a:off x="1966680" y="3929040"/>
                <a:ext cx="182880" cy="182520"/>
              </a:xfrm>
              <a:prstGeom prst="rtTriangl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017160" y="35812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28880" y="4343400"/>
            <a:ext cx="5081400" cy="568440"/>
            <a:chOff x="1928880" y="4343400"/>
            <a:chExt cx="5081400" cy="568440"/>
          </a:xfrm>
        </p:grpSpPr>
        <p:sp>
          <p:nvSpPr>
            <p:cNvPr id="61" name=""/>
            <p:cNvSpPr/>
            <p:nvPr/>
          </p:nvSpPr>
          <p:spPr>
            <a:xfrm>
              <a:off x="2209680" y="47973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928880" y="4653360"/>
              <a:ext cx="258480" cy="258480"/>
              <a:chOff x="1928880" y="4653360"/>
              <a:chExt cx="258480" cy="258480"/>
            </a:xfrm>
          </p:grpSpPr>
          <p:sp>
            <p:nvSpPr>
              <p:cNvPr id="63" name=""/>
              <p:cNvSpPr/>
              <p:nvPr/>
            </p:nvSpPr>
            <p:spPr>
              <a:xfrm rot="2700000">
                <a:off x="1966680" y="46911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18900000">
                <a:off x="1966680" y="4691160"/>
                <a:ext cx="182880" cy="182520"/>
              </a:xfrm>
              <a:prstGeom prst="rtTriangl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17160" y="43434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942920" y="5108400"/>
            <a:ext cx="5081760" cy="568440"/>
            <a:chOff x="1942920" y="5108400"/>
            <a:chExt cx="5081760" cy="568440"/>
          </a:xfrm>
        </p:grpSpPr>
        <p:sp>
          <p:nvSpPr>
            <p:cNvPr id="67" name=""/>
            <p:cNvSpPr/>
            <p:nvPr/>
          </p:nvSpPr>
          <p:spPr>
            <a:xfrm>
              <a:off x="2224080" y="55623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942920" y="5418360"/>
              <a:ext cx="258480" cy="258480"/>
              <a:chOff x="1942920" y="5418360"/>
              <a:chExt cx="258480" cy="258480"/>
            </a:xfrm>
          </p:grpSpPr>
          <p:sp>
            <p:nvSpPr>
              <p:cNvPr id="69" name=""/>
              <p:cNvSpPr/>
              <p:nvPr/>
            </p:nvSpPr>
            <p:spPr>
              <a:xfrm rot="2700000">
                <a:off x="1980720" y="54561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8900000">
                <a:off x="1980720" y="5456160"/>
                <a:ext cx="182880" cy="182520"/>
              </a:xfrm>
              <a:prstGeom prst="rtTriangl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031200" y="51084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74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78" name="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80" name="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84" name="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86" name="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90" name="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92" name="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44Z</dcterms:modified>
  <cp:revision>92</cp:revision>
  <dc:subject/>
  <dc:title>Contents Design</dc:title>
</cp:coreProperties>
</file>