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BAC-013B-4546-8812-2A6D4202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D67-2E7E-4DA5-8C8D-AC0AD0B6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4F4-FDD3-4761-B523-79341175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0B2-EDB8-4B9B-AB0F-F68E66FC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A1C-9572-409F-AE0D-54B155DE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5EC-B96A-4E1C-87B5-1AE428B4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D10-CE52-4516-BB86-F24B2D3B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1DF-D0B9-48A6-AD8D-012C512E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6FC-BEC5-4D93-98F8-00470394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E65-D787-4E4B-9B53-74F186F2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FA1-7598-4DDA-81D5-CEA45055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135-FED3-44A5-970C-9751EB3D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630A-1E73-47B3-BC97-24BBCA42C6F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a58"/>
            </a:gs>
            <a:gs pos="100000">
              <a:srgbClr val="11222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666880" y="1981080"/>
            <a:ext cx="4496040" cy="701640"/>
            <a:chOff x="2666880" y="1981080"/>
            <a:chExt cx="4496040" cy="701640"/>
          </a:xfrm>
        </p:grpSpPr>
        <p:sp>
          <p:nvSpPr>
            <p:cNvPr id="43" name=""/>
            <p:cNvSpPr/>
            <p:nvPr/>
          </p:nvSpPr>
          <p:spPr>
            <a:xfrm>
              <a:off x="2666880" y="1981080"/>
              <a:ext cx="449604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264a58"/>
                </a:gs>
                <a:gs pos="100000">
                  <a:srgbClr val="58c5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73840" y="2114640"/>
              <a:ext cx="283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2666880" y="2819520"/>
            <a:ext cx="4496040" cy="701640"/>
            <a:chOff x="2666880" y="2819520"/>
            <a:chExt cx="4496040" cy="701640"/>
          </a:xfrm>
        </p:grpSpPr>
        <p:sp>
          <p:nvSpPr>
            <p:cNvPr id="46" name=""/>
            <p:cNvSpPr/>
            <p:nvPr/>
          </p:nvSpPr>
          <p:spPr>
            <a:xfrm>
              <a:off x="2666880" y="2819520"/>
              <a:ext cx="449604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264a58"/>
                </a:gs>
                <a:gs pos="100000">
                  <a:srgbClr val="58c5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73840" y="2952720"/>
              <a:ext cx="283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666880" y="3657600"/>
            <a:ext cx="4496040" cy="701640"/>
            <a:chOff x="2666880" y="3657600"/>
            <a:chExt cx="4496040" cy="701640"/>
          </a:xfrm>
        </p:grpSpPr>
        <p:sp>
          <p:nvSpPr>
            <p:cNvPr id="49" name=""/>
            <p:cNvSpPr/>
            <p:nvPr/>
          </p:nvSpPr>
          <p:spPr>
            <a:xfrm>
              <a:off x="2666880" y="3657600"/>
              <a:ext cx="449604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264a58"/>
                </a:gs>
                <a:gs pos="100000">
                  <a:srgbClr val="58c5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73840" y="3790800"/>
              <a:ext cx="283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666880" y="4572000"/>
            <a:ext cx="4496040" cy="701640"/>
            <a:chOff x="2666880" y="4572000"/>
            <a:chExt cx="4496040" cy="701640"/>
          </a:xfrm>
        </p:grpSpPr>
        <p:sp>
          <p:nvSpPr>
            <p:cNvPr id="52" name=""/>
            <p:cNvSpPr/>
            <p:nvPr/>
          </p:nvSpPr>
          <p:spPr>
            <a:xfrm>
              <a:off x="2666880" y="4572000"/>
              <a:ext cx="449604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264a58"/>
                </a:gs>
                <a:gs pos="100000">
                  <a:srgbClr val="58c5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73840" y="4705200"/>
              <a:ext cx="283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28800" y="1981080"/>
            <a:ext cx="5867280" cy="701640"/>
            <a:chOff x="1828800" y="1981080"/>
            <a:chExt cx="5867280" cy="701640"/>
          </a:xfrm>
        </p:grpSpPr>
        <p:sp>
          <p:nvSpPr>
            <p:cNvPr id="56" name=""/>
            <p:cNvSpPr/>
            <p:nvPr/>
          </p:nvSpPr>
          <p:spPr>
            <a:xfrm>
              <a:off x="1828800" y="1981080"/>
              <a:ext cx="586728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6b56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6640" y="2114640"/>
              <a:ext cx="283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828800" y="2819520"/>
            <a:ext cx="5867280" cy="701640"/>
            <a:chOff x="1828800" y="2819520"/>
            <a:chExt cx="5867280" cy="701640"/>
          </a:xfrm>
        </p:grpSpPr>
        <p:sp>
          <p:nvSpPr>
            <p:cNvPr id="59" name=""/>
            <p:cNvSpPr/>
            <p:nvPr/>
          </p:nvSpPr>
          <p:spPr>
            <a:xfrm>
              <a:off x="1828800" y="2819520"/>
              <a:ext cx="586728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8b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16640" y="2952720"/>
              <a:ext cx="283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28800" y="3657600"/>
            <a:ext cx="5867280" cy="701640"/>
            <a:chOff x="1828800" y="3657600"/>
            <a:chExt cx="5867280" cy="701640"/>
          </a:xfrm>
        </p:grpSpPr>
        <p:sp>
          <p:nvSpPr>
            <p:cNvPr id="62" name=""/>
            <p:cNvSpPr/>
            <p:nvPr/>
          </p:nvSpPr>
          <p:spPr>
            <a:xfrm>
              <a:off x="1828800" y="3657600"/>
              <a:ext cx="586728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faf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16640" y="3790800"/>
              <a:ext cx="283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828800" y="4572000"/>
            <a:ext cx="5867280" cy="701640"/>
            <a:chOff x="1828800" y="4572000"/>
            <a:chExt cx="5867280" cy="701640"/>
          </a:xfrm>
        </p:grpSpPr>
        <p:sp>
          <p:nvSpPr>
            <p:cNvPr id="65" name=""/>
            <p:cNvSpPr/>
            <p:nvPr/>
          </p:nvSpPr>
          <p:spPr>
            <a:xfrm>
              <a:off x="1828800" y="4572000"/>
              <a:ext cx="586728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c5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16640" y="4705200"/>
              <a:ext cx="283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2:50Z</dcterms:modified>
  <cp:revision>93</cp:revision>
  <dc:subject/>
  <dc:title>Contents Design</dc:title>
</cp:coreProperties>
</file>