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D4B-F095-4E16-B031-CFEFD660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A2D-A792-4F85-8C00-A56ABE63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780-3A5C-45E5-A01A-B6F1139E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5D4-2178-49A3-838E-73EE83B8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9DD-B127-4B90-A0F7-4C3DF4EE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627-F5A0-4C07-B4FC-87FBEF47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270-4509-4649-A88A-003E4EDB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7EC-3EC9-4926-9BF8-0DF00BCC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4E0E-4E8F-47B9-9471-EDA5B26A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E25-E7A0-42D7-9315-A4E1BA7C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548-3BD9-4B5E-BDAF-623A076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AD7-0A8F-4C26-BB3C-27D58E13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45D0-A804-4D27-8250-7295F92D04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81080" y="2143080"/>
            <a:ext cx="4857840" cy="552600"/>
            <a:chOff x="1981080" y="2143080"/>
            <a:chExt cx="4857840" cy="552600"/>
          </a:xfrm>
        </p:grpSpPr>
        <p:sp>
          <p:nvSpPr>
            <p:cNvPr id="43" name=""/>
            <p:cNvSpPr/>
            <p:nvPr/>
          </p:nvSpPr>
          <p:spPr>
            <a:xfrm>
              <a:off x="1981080" y="2143080"/>
              <a:ext cx="4857840" cy="55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2268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68560" y="2190600"/>
              <a:ext cx="47131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e52b0"/>
                </a:gs>
                <a:gs pos="100000">
                  <a:srgbClr val="51b9f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2190600"/>
              <a:ext cx="4191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2000160" y="2847960"/>
            <a:ext cx="4857840" cy="552600"/>
            <a:chOff x="2000160" y="2847960"/>
            <a:chExt cx="4857840" cy="552600"/>
          </a:xfrm>
        </p:grpSpPr>
        <p:sp>
          <p:nvSpPr>
            <p:cNvPr id="47" name=""/>
            <p:cNvSpPr/>
            <p:nvPr/>
          </p:nvSpPr>
          <p:spPr>
            <a:xfrm>
              <a:off x="2000160" y="2847960"/>
              <a:ext cx="4857840" cy="55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2268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87640" y="2895480"/>
              <a:ext cx="47131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e52b0"/>
                </a:gs>
                <a:gs pos="100000">
                  <a:srgbClr val="51b9f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8760" y="2895480"/>
              <a:ext cx="4191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981080" y="3562200"/>
            <a:ext cx="4857840" cy="552600"/>
            <a:chOff x="1981080" y="3562200"/>
            <a:chExt cx="4857840" cy="552600"/>
          </a:xfrm>
        </p:grpSpPr>
        <p:sp>
          <p:nvSpPr>
            <p:cNvPr id="51" name=""/>
            <p:cNvSpPr/>
            <p:nvPr/>
          </p:nvSpPr>
          <p:spPr>
            <a:xfrm>
              <a:off x="1981080" y="3562200"/>
              <a:ext cx="4857840" cy="55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2268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68560" y="3610080"/>
              <a:ext cx="47131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e52b0"/>
                </a:gs>
                <a:gs pos="100000">
                  <a:srgbClr val="51b9f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9680" y="3610080"/>
              <a:ext cx="4191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981080" y="4324320"/>
            <a:ext cx="4857840" cy="552600"/>
            <a:chOff x="1981080" y="4324320"/>
            <a:chExt cx="4857840" cy="552600"/>
          </a:xfrm>
        </p:grpSpPr>
        <p:sp>
          <p:nvSpPr>
            <p:cNvPr id="55" name=""/>
            <p:cNvSpPr/>
            <p:nvPr/>
          </p:nvSpPr>
          <p:spPr>
            <a:xfrm>
              <a:off x="1981080" y="4324320"/>
              <a:ext cx="4857840" cy="55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2268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68560" y="4371840"/>
              <a:ext cx="47131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e52b0"/>
                </a:gs>
                <a:gs pos="100000">
                  <a:srgbClr val="51b9f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09680" y="4371840"/>
              <a:ext cx="4191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981080" y="5086440"/>
            <a:ext cx="4857840" cy="552240"/>
            <a:chOff x="1981080" y="5086440"/>
            <a:chExt cx="4857840" cy="552240"/>
          </a:xfrm>
        </p:grpSpPr>
        <p:sp>
          <p:nvSpPr>
            <p:cNvPr id="59" name=""/>
            <p:cNvSpPr/>
            <p:nvPr/>
          </p:nvSpPr>
          <p:spPr>
            <a:xfrm>
              <a:off x="1981080" y="5086440"/>
              <a:ext cx="485784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2268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68560" y="5133960"/>
              <a:ext cx="47131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e52b0"/>
                </a:gs>
                <a:gs pos="100000">
                  <a:srgbClr val="51b9f3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5133960"/>
              <a:ext cx="4191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3b7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133720" y="1828800"/>
            <a:ext cx="4857480" cy="552600"/>
            <a:chOff x="2133720" y="1828800"/>
            <a:chExt cx="4857480" cy="552600"/>
          </a:xfrm>
        </p:grpSpPr>
        <p:sp>
          <p:nvSpPr>
            <p:cNvPr id="64" name=""/>
            <p:cNvSpPr/>
            <p:nvPr/>
          </p:nvSpPr>
          <p:spPr>
            <a:xfrm>
              <a:off x="2133720" y="1828800"/>
              <a:ext cx="4857480" cy="55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6bfcb"/>
                </a:gs>
                <a:gs pos="100000">
                  <a:srgbClr val="a79d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09680" y="1886040"/>
              <a:ext cx="47149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79daf"/>
                </a:gs>
                <a:gs pos="100000">
                  <a:srgbClr val="cec8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62320" y="1886040"/>
              <a:ext cx="4190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152800" y="2514600"/>
            <a:ext cx="4857480" cy="552600"/>
            <a:chOff x="2152800" y="2514600"/>
            <a:chExt cx="4857480" cy="552600"/>
          </a:xfrm>
        </p:grpSpPr>
        <p:sp>
          <p:nvSpPr>
            <p:cNvPr id="68" name=""/>
            <p:cNvSpPr/>
            <p:nvPr/>
          </p:nvSpPr>
          <p:spPr>
            <a:xfrm>
              <a:off x="2152800" y="2514600"/>
              <a:ext cx="4857480" cy="55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d0e7"/>
                </a:gs>
                <a:gs pos="100000">
                  <a:srgbClr val="92a1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28760" y="2571840"/>
              <a:ext cx="47149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2a1d0"/>
                </a:gs>
                <a:gs pos="100000">
                  <a:srgbClr val="b5bf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81400" y="2571840"/>
              <a:ext cx="4190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152800" y="3276720"/>
            <a:ext cx="4857480" cy="552240"/>
            <a:chOff x="2152800" y="3276720"/>
            <a:chExt cx="4857480" cy="552240"/>
          </a:xfrm>
        </p:grpSpPr>
        <p:sp>
          <p:nvSpPr>
            <p:cNvPr id="72" name=""/>
            <p:cNvSpPr/>
            <p:nvPr/>
          </p:nvSpPr>
          <p:spPr>
            <a:xfrm>
              <a:off x="2152800" y="3276720"/>
              <a:ext cx="485748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6bfcb"/>
                </a:gs>
                <a:gs pos="100000">
                  <a:srgbClr val="a79d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28760" y="3333600"/>
              <a:ext cx="47149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79daf"/>
                </a:gs>
                <a:gs pos="100000">
                  <a:srgbClr val="cec8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81400" y="3333600"/>
              <a:ext cx="4190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133720" y="3962520"/>
            <a:ext cx="4857480" cy="552240"/>
            <a:chOff x="2133720" y="3962520"/>
            <a:chExt cx="4857480" cy="552240"/>
          </a:xfrm>
        </p:grpSpPr>
        <p:sp>
          <p:nvSpPr>
            <p:cNvPr id="76" name=""/>
            <p:cNvSpPr/>
            <p:nvPr/>
          </p:nvSpPr>
          <p:spPr>
            <a:xfrm>
              <a:off x="2133720" y="3962520"/>
              <a:ext cx="485748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d0e7"/>
                </a:gs>
                <a:gs pos="100000">
                  <a:srgbClr val="92a1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019400"/>
              <a:ext cx="47149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2a1d0"/>
                </a:gs>
                <a:gs pos="100000">
                  <a:srgbClr val="b5bf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62320" y="4019400"/>
              <a:ext cx="4190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133720" y="4724280"/>
            <a:ext cx="4857480" cy="552600"/>
            <a:chOff x="2133720" y="4724280"/>
            <a:chExt cx="4857480" cy="552600"/>
          </a:xfrm>
        </p:grpSpPr>
        <p:sp>
          <p:nvSpPr>
            <p:cNvPr id="80" name=""/>
            <p:cNvSpPr/>
            <p:nvPr/>
          </p:nvSpPr>
          <p:spPr>
            <a:xfrm>
              <a:off x="2133720" y="4724280"/>
              <a:ext cx="4857480" cy="55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6bfcb"/>
                </a:gs>
                <a:gs pos="100000">
                  <a:srgbClr val="a79da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4781520"/>
              <a:ext cx="47149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79daf"/>
                </a:gs>
                <a:gs pos="100000">
                  <a:srgbClr val="cec8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4781520"/>
              <a:ext cx="4190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Sung Ha, Park</dc:creator>
  <dc:description/>
  <dc:language>en-US</dc:language>
  <cp:lastModifiedBy>DugCheun Kang</cp:lastModifiedBy>
  <dcterms:modified xsi:type="dcterms:W3CDTF">2004-11-09T01:03:07Z</dcterms:modified>
  <cp:revision>92</cp:revision>
  <dc:subject/>
  <dc:title>Contents Design</dc:title>
</cp:coreProperties>
</file>