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7E9-55F1-4DA6-836B-EA0A3E5D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47C-B0D5-4BA8-9E82-C5990258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86D-4304-4E11-B161-277DAF5B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077-7DE8-47C3-B640-A4251588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2AD-0FBB-4C80-8BF7-E6C7910E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6F9-9BFE-40C4-B950-57174C8F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DE9-406B-4135-91B0-BFF4D3A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F9C-D337-494C-821F-8F7EB255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F90-7E6C-43BA-9F2D-3B7DB4B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316-A5AF-479B-993A-74448E3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013-00D5-41A4-A543-44000CE8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0DC-F746-46E1-8A35-430B46B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D9CF-7702-48E8-B115-42BB84BA8C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0012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2209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297480" y="2438280"/>
            <a:ext cx="331920" cy="304920"/>
            <a:chOff x="6297480" y="2438280"/>
            <a:chExt cx="331920" cy="304920"/>
          </a:xfrm>
        </p:grpSpPr>
        <p:sp>
          <p:nvSpPr>
            <p:cNvPr id="44" name=""/>
            <p:cNvSpPr/>
            <p:nvPr/>
          </p:nvSpPr>
          <p:spPr>
            <a:xfrm>
              <a:off x="6297480" y="2438280"/>
              <a:ext cx="33192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16200" y="2455200"/>
              <a:ext cx="29412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33480" y="24714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33480" y="24714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50760" y="24868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760" y="24868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09680" y="2895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297480" y="3124080"/>
            <a:ext cx="331920" cy="304920"/>
            <a:chOff x="6297480" y="3124080"/>
            <a:chExt cx="331920" cy="304920"/>
          </a:xfrm>
        </p:grpSpPr>
        <p:sp>
          <p:nvSpPr>
            <p:cNvPr id="52" name=""/>
            <p:cNvSpPr/>
            <p:nvPr/>
          </p:nvSpPr>
          <p:spPr>
            <a:xfrm>
              <a:off x="6297480" y="3124080"/>
              <a:ext cx="33192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16200" y="3141000"/>
              <a:ext cx="29412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33480" y="31572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33480" y="31572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760" y="31726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760" y="31726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09680" y="3581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297480" y="3809880"/>
            <a:ext cx="331920" cy="304920"/>
            <a:chOff x="6297480" y="3809880"/>
            <a:chExt cx="331920" cy="304920"/>
          </a:xfrm>
        </p:grpSpPr>
        <p:sp>
          <p:nvSpPr>
            <p:cNvPr id="60" name=""/>
            <p:cNvSpPr/>
            <p:nvPr/>
          </p:nvSpPr>
          <p:spPr>
            <a:xfrm>
              <a:off x="6297480" y="3809880"/>
              <a:ext cx="33192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6200" y="3826800"/>
              <a:ext cx="29412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33480" y="38430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33480" y="38430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50760" y="38584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50760" y="38584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209680" y="4267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97480" y="4495680"/>
            <a:ext cx="331920" cy="304920"/>
            <a:chOff x="6297480" y="4495680"/>
            <a:chExt cx="331920" cy="304920"/>
          </a:xfrm>
        </p:grpSpPr>
        <p:sp>
          <p:nvSpPr>
            <p:cNvPr id="68" name=""/>
            <p:cNvSpPr/>
            <p:nvPr/>
          </p:nvSpPr>
          <p:spPr>
            <a:xfrm>
              <a:off x="6297480" y="4495680"/>
              <a:ext cx="33192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16200" y="4512600"/>
              <a:ext cx="29412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3480" y="45288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3480" y="45288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50760" y="45442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0760" y="45442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209680" y="4952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297480" y="5181480"/>
            <a:ext cx="331920" cy="304920"/>
            <a:chOff x="6297480" y="5181480"/>
            <a:chExt cx="331920" cy="304920"/>
          </a:xfrm>
        </p:grpSpPr>
        <p:sp>
          <p:nvSpPr>
            <p:cNvPr id="76" name=""/>
            <p:cNvSpPr/>
            <p:nvPr/>
          </p:nvSpPr>
          <p:spPr>
            <a:xfrm>
              <a:off x="6297480" y="5181480"/>
              <a:ext cx="33192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6200" y="5198400"/>
              <a:ext cx="29412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33480" y="52146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33480" y="5214600"/>
              <a:ext cx="259560" cy="2386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50760" y="52300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50760" y="5230080"/>
              <a:ext cx="225360" cy="20736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209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296040" y="2438280"/>
            <a:ext cx="333360" cy="304920"/>
            <a:chOff x="6296040" y="2438280"/>
            <a:chExt cx="333360" cy="304920"/>
          </a:xfrm>
        </p:grpSpPr>
        <p:sp>
          <p:nvSpPr>
            <p:cNvPr id="84" name=""/>
            <p:cNvSpPr/>
            <p:nvPr/>
          </p:nvSpPr>
          <p:spPr>
            <a:xfrm>
              <a:off x="6296040" y="2438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14760" y="2455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32400" y="2471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32400" y="2471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49320" y="2486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49320" y="2486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09680" y="2895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296040" y="3124080"/>
            <a:ext cx="333360" cy="304920"/>
            <a:chOff x="6296040" y="3124080"/>
            <a:chExt cx="333360" cy="304920"/>
          </a:xfrm>
        </p:grpSpPr>
        <p:sp>
          <p:nvSpPr>
            <p:cNvPr id="92" name=""/>
            <p:cNvSpPr/>
            <p:nvPr/>
          </p:nvSpPr>
          <p:spPr>
            <a:xfrm>
              <a:off x="6296040" y="3124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14760" y="3141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32400" y="3157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32400" y="3157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49320" y="3172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49320" y="3172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209680" y="3581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96040" y="3809880"/>
            <a:ext cx="333360" cy="304920"/>
            <a:chOff x="6296040" y="3809880"/>
            <a:chExt cx="333360" cy="304920"/>
          </a:xfrm>
        </p:grpSpPr>
        <p:sp>
          <p:nvSpPr>
            <p:cNvPr id="100" name=""/>
            <p:cNvSpPr/>
            <p:nvPr/>
          </p:nvSpPr>
          <p:spPr>
            <a:xfrm>
              <a:off x="6296040" y="3809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14760" y="3826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32400" y="3843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2400" y="3843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49320" y="3858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9320" y="3858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09680" y="4267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296040" y="4495680"/>
            <a:ext cx="333360" cy="304920"/>
            <a:chOff x="6296040" y="4495680"/>
            <a:chExt cx="333360" cy="304920"/>
          </a:xfrm>
        </p:grpSpPr>
        <p:sp>
          <p:nvSpPr>
            <p:cNvPr id="108" name=""/>
            <p:cNvSpPr/>
            <p:nvPr/>
          </p:nvSpPr>
          <p:spPr>
            <a:xfrm>
              <a:off x="6296040" y="4495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14760" y="4512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32400" y="4528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32400" y="4528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49320" y="4544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9320" y="4544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209680" y="4952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296040" y="5181480"/>
            <a:ext cx="333360" cy="304920"/>
            <a:chOff x="6296040" y="5181480"/>
            <a:chExt cx="333360" cy="304920"/>
          </a:xfrm>
        </p:grpSpPr>
        <p:sp>
          <p:nvSpPr>
            <p:cNvPr id="116" name=""/>
            <p:cNvSpPr/>
            <p:nvPr/>
          </p:nvSpPr>
          <p:spPr>
            <a:xfrm>
              <a:off x="6296040" y="5181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14760" y="5198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2400" y="5214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32400" y="5214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9320" y="5230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49320" y="5230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10Z</dcterms:modified>
  <cp:revision>92</cp:revision>
  <dc:subject/>
  <dc:title>Contents Design</dc:title>
</cp:coreProperties>
</file>