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DE8-7D90-4C28-945F-3A26DAA0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1A7-F87C-440A-908D-92FF6118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8156-1BCA-4C72-B202-240CEA0D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13F-F937-4BB8-8492-74E1B3C7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ED7-6FA2-430B-ABA4-5648FF33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CAE-F6C5-4362-B65D-3E78F83E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7F1-9932-4362-8BB8-27FD3B2F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E0F8-9C40-4D15-91A8-E5A5B35B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45F-0C02-4B7F-962A-F2362518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2AD-E939-4EBE-9C64-D0DA7CF3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C4F-E4A6-4167-8D5B-3E88F170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C06-2571-436D-B2B5-67C14EB1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691A-E922-4A6C-AFF7-7FF5C29BD92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551"/>
            </a:gs>
            <a:gs pos="100000">
              <a:srgbClr val="1e52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05120" y="4348080"/>
            <a:ext cx="5333760" cy="528840"/>
            <a:chOff x="1905120" y="4348080"/>
            <a:chExt cx="5333760" cy="528840"/>
          </a:xfrm>
        </p:grpSpPr>
        <p:sp>
          <p:nvSpPr>
            <p:cNvPr id="43" name=""/>
            <p:cNvSpPr/>
            <p:nvPr/>
          </p:nvSpPr>
          <p:spPr>
            <a:xfrm>
              <a:off x="1905120" y="4361040"/>
              <a:ext cx="5333760" cy="512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d4f2"/>
                </a:gs>
                <a:gs pos="100000">
                  <a:srgbClr val="b1e3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51200" y="473724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e2f5"/>
                </a:gs>
                <a:gs pos="100000">
                  <a:srgbClr val="d4ef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51200" y="437184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3eff9"/>
                </a:gs>
                <a:gs pos="100000">
                  <a:srgbClr val="80d4f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19520" y="44211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2286000" y="4348080"/>
              <a:ext cx="533520" cy="528840"/>
              <a:chOff x="2286000" y="4348080"/>
              <a:chExt cx="533520" cy="528840"/>
            </a:xfrm>
          </p:grpSpPr>
          <p:sp>
            <p:nvSpPr>
              <p:cNvPr id="48" name=""/>
              <p:cNvSpPr/>
              <p:nvPr/>
            </p:nvSpPr>
            <p:spPr>
              <a:xfrm>
                <a:off x="2286000" y="4348080"/>
                <a:ext cx="533520" cy="528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291400" y="4352040"/>
                <a:ext cx="515880" cy="512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297880" y="4354920"/>
                <a:ext cx="504000" cy="499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303280" y="4359960"/>
                <a:ext cx="479160" cy="4662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331360" y="4372560"/>
                <a:ext cx="425880" cy="379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2362320" y="4361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919160" y="5076720"/>
            <a:ext cx="5334120" cy="528840"/>
            <a:chOff x="1919160" y="5076720"/>
            <a:chExt cx="5334120" cy="528840"/>
          </a:xfrm>
        </p:grpSpPr>
        <p:sp>
          <p:nvSpPr>
            <p:cNvPr id="55" name=""/>
            <p:cNvSpPr/>
            <p:nvPr/>
          </p:nvSpPr>
          <p:spPr>
            <a:xfrm>
              <a:off x="1919160" y="5076720"/>
              <a:ext cx="5334120" cy="51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67e1"/>
                </a:gs>
                <a:gs pos="100000">
                  <a:srgbClr val="d4c6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65240" y="545292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c0f2"/>
                </a:gs>
                <a:gs pos="100000">
                  <a:srgbClr val="e2d9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65240" y="508788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b9f0"/>
                </a:gs>
                <a:gs pos="100000">
                  <a:srgbClr val="a080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33560" y="51372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2300400" y="5076720"/>
              <a:ext cx="533160" cy="528840"/>
              <a:chOff x="2300400" y="5076720"/>
              <a:chExt cx="533160" cy="528840"/>
            </a:xfrm>
          </p:grpSpPr>
          <p:sp>
            <p:nvSpPr>
              <p:cNvPr id="60" name=""/>
              <p:cNvSpPr/>
              <p:nvPr/>
            </p:nvSpPr>
            <p:spPr>
              <a:xfrm>
                <a:off x="2300400" y="5076720"/>
                <a:ext cx="533160" cy="528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305800" y="5080680"/>
                <a:ext cx="515520" cy="512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312280" y="5083560"/>
                <a:ext cx="503640" cy="499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17680" y="5088600"/>
                <a:ext cx="478800" cy="4662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345760" y="5101200"/>
                <a:ext cx="425520" cy="379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376360" y="5089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905120" y="2857680"/>
            <a:ext cx="5333760" cy="528480"/>
            <a:chOff x="1905120" y="2857680"/>
            <a:chExt cx="5333760" cy="528480"/>
          </a:xfrm>
        </p:grpSpPr>
        <p:grpSp>
          <p:nvGrpSpPr>
            <p:cNvPr id="67" name=""/>
            <p:cNvGrpSpPr/>
            <p:nvPr/>
          </p:nvGrpSpPr>
          <p:grpSpPr>
            <a:xfrm>
              <a:off x="2286000" y="2857680"/>
              <a:ext cx="533520" cy="528480"/>
              <a:chOff x="2286000" y="2857680"/>
              <a:chExt cx="533520" cy="528480"/>
            </a:xfrm>
          </p:grpSpPr>
          <p:sp>
            <p:nvSpPr>
              <p:cNvPr id="68" name=""/>
              <p:cNvSpPr/>
              <p:nvPr/>
            </p:nvSpPr>
            <p:spPr>
              <a:xfrm>
                <a:off x="2286000" y="2857680"/>
                <a:ext cx="533520" cy="52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91400" y="2861640"/>
                <a:ext cx="515880" cy="511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297880" y="2864520"/>
                <a:ext cx="504000" cy="49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303280" y="2869560"/>
                <a:ext cx="479160" cy="4658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31360" y="2882160"/>
                <a:ext cx="425880" cy="378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362320" y="2870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05120" y="2870280"/>
              <a:ext cx="5333760" cy="512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35e23"/>
                </a:gs>
                <a:gs pos="100000">
                  <a:srgbClr val="f0b0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51200" y="324648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0ab8c"/>
                </a:gs>
                <a:gs pos="100000">
                  <a:srgbClr val="f5d0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51200" y="288144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d1bf"/>
                </a:gs>
                <a:gs pos="100000">
                  <a:srgbClr val="f179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9520" y="29304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2286000" y="2857680"/>
              <a:ext cx="533520" cy="528480"/>
              <a:chOff x="2286000" y="2857680"/>
              <a:chExt cx="533520" cy="528480"/>
            </a:xfrm>
          </p:grpSpPr>
          <p:sp>
            <p:nvSpPr>
              <p:cNvPr id="79" name=""/>
              <p:cNvSpPr/>
              <p:nvPr/>
            </p:nvSpPr>
            <p:spPr>
              <a:xfrm>
                <a:off x="2286000" y="2857680"/>
                <a:ext cx="533520" cy="52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291400" y="2861640"/>
                <a:ext cx="515880" cy="511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97880" y="2864520"/>
                <a:ext cx="504000" cy="49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03280" y="2869560"/>
                <a:ext cx="479160" cy="4658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331360" y="2882160"/>
                <a:ext cx="425880" cy="378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362320" y="2870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905120" y="2133720"/>
            <a:ext cx="5333760" cy="528480"/>
            <a:chOff x="1905120" y="2133720"/>
            <a:chExt cx="5333760" cy="528480"/>
          </a:xfrm>
        </p:grpSpPr>
        <p:sp>
          <p:nvSpPr>
            <p:cNvPr id="86" name=""/>
            <p:cNvSpPr/>
            <p:nvPr/>
          </p:nvSpPr>
          <p:spPr>
            <a:xfrm>
              <a:off x="1905120" y="2146320"/>
              <a:ext cx="5333760" cy="512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de78"/>
                </a:gs>
                <a:gs pos="100000">
                  <a:srgbClr val="f8f1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51200" y="252252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6b4"/>
                </a:gs>
                <a:gs pos="100000">
                  <a:srgbClr val="fcfb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51200" y="215748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9dc"/>
                </a:gs>
                <a:gs pos="100000">
                  <a:srgbClr val="eded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9520" y="22068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286000" y="2133720"/>
              <a:ext cx="533520" cy="528480"/>
              <a:chOff x="2286000" y="2133720"/>
              <a:chExt cx="533520" cy="528480"/>
            </a:xfrm>
          </p:grpSpPr>
          <p:sp>
            <p:nvSpPr>
              <p:cNvPr id="91" name=""/>
              <p:cNvSpPr/>
              <p:nvPr/>
            </p:nvSpPr>
            <p:spPr>
              <a:xfrm>
                <a:off x="2286000" y="2133720"/>
                <a:ext cx="533520" cy="52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291400" y="2137680"/>
                <a:ext cx="515880" cy="511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297880" y="2140560"/>
                <a:ext cx="504000" cy="49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303280" y="2145600"/>
                <a:ext cx="479160" cy="4658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331360" y="2158200"/>
                <a:ext cx="425880" cy="378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362320" y="2146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286000" y="2133720"/>
              <a:ext cx="533520" cy="528480"/>
              <a:chOff x="2286000" y="2133720"/>
              <a:chExt cx="533520" cy="528480"/>
            </a:xfrm>
          </p:grpSpPr>
          <p:sp>
            <p:nvSpPr>
              <p:cNvPr id="98" name=""/>
              <p:cNvSpPr/>
              <p:nvPr/>
            </p:nvSpPr>
            <p:spPr>
              <a:xfrm>
                <a:off x="2286000" y="2133720"/>
                <a:ext cx="533520" cy="52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91400" y="2137680"/>
                <a:ext cx="515880" cy="511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97880" y="2140560"/>
                <a:ext cx="504000" cy="49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03280" y="2145600"/>
                <a:ext cx="479160" cy="4658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331360" y="2158200"/>
                <a:ext cx="425880" cy="378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362320" y="2146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919160" y="3619440"/>
            <a:ext cx="5334120" cy="528840"/>
            <a:chOff x="1919160" y="3619440"/>
            <a:chExt cx="5334120" cy="528840"/>
          </a:xfrm>
        </p:grpSpPr>
        <p:sp>
          <p:nvSpPr>
            <p:cNvPr id="105" name=""/>
            <p:cNvSpPr/>
            <p:nvPr/>
          </p:nvSpPr>
          <p:spPr>
            <a:xfrm>
              <a:off x="1919160" y="3619440"/>
              <a:ext cx="5334120" cy="51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8be67"/>
                </a:gs>
                <a:gs pos="100000">
                  <a:srgbClr val="bbe6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5240" y="399564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fe9aa"/>
                </a:gs>
                <a:gs pos="100000">
                  <a:srgbClr val="d5f4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65240" y="363060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2ecd0"/>
                </a:gs>
                <a:gs pos="100000">
                  <a:srgbClr val="4dc9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3560" y="367992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2300400" y="3619440"/>
              <a:ext cx="533160" cy="528840"/>
              <a:chOff x="2300400" y="3619440"/>
              <a:chExt cx="533160" cy="528840"/>
            </a:xfrm>
          </p:grpSpPr>
          <p:sp>
            <p:nvSpPr>
              <p:cNvPr id="110" name=""/>
              <p:cNvSpPr/>
              <p:nvPr/>
            </p:nvSpPr>
            <p:spPr>
              <a:xfrm>
                <a:off x="2300400" y="3619440"/>
                <a:ext cx="533160" cy="528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05800" y="3623400"/>
                <a:ext cx="515520" cy="512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312280" y="3626280"/>
                <a:ext cx="503640" cy="499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317680" y="3631320"/>
                <a:ext cx="478800" cy="4662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45760" y="3643920"/>
                <a:ext cx="425520" cy="379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376360" y="3632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19160" y="2666880"/>
            <a:ext cx="5334120" cy="528840"/>
            <a:chOff x="1919160" y="2666880"/>
            <a:chExt cx="5334120" cy="528840"/>
          </a:xfrm>
        </p:grpSpPr>
        <p:sp>
          <p:nvSpPr>
            <p:cNvPr id="118" name=""/>
            <p:cNvSpPr/>
            <p:nvPr/>
          </p:nvSpPr>
          <p:spPr>
            <a:xfrm>
              <a:off x="1919160" y="2666880"/>
              <a:ext cx="5334120" cy="51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8be67"/>
                </a:gs>
                <a:gs pos="100000">
                  <a:srgbClr val="bbe6c6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5240" y="304308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fe9aa"/>
                </a:gs>
                <a:gs pos="100000">
                  <a:srgbClr val="d5f4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5240" y="267804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2ecd0"/>
                </a:gs>
                <a:gs pos="100000">
                  <a:srgbClr val="4dc9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33560" y="27273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300400" y="2666880"/>
              <a:ext cx="533160" cy="528840"/>
              <a:chOff x="2300400" y="2666880"/>
              <a:chExt cx="533160" cy="528840"/>
            </a:xfrm>
          </p:grpSpPr>
          <p:sp>
            <p:nvSpPr>
              <p:cNvPr id="123" name=""/>
              <p:cNvSpPr/>
              <p:nvPr/>
            </p:nvSpPr>
            <p:spPr>
              <a:xfrm>
                <a:off x="2300400" y="2666880"/>
                <a:ext cx="533160" cy="528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305800" y="2670840"/>
                <a:ext cx="515520" cy="512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312280" y="2673720"/>
                <a:ext cx="503640" cy="499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317680" y="2678760"/>
                <a:ext cx="478800" cy="4662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45760" y="2691360"/>
                <a:ext cx="425520" cy="379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376360" y="26798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905120" y="3395520"/>
            <a:ext cx="5333760" cy="528840"/>
            <a:chOff x="1905120" y="3395520"/>
            <a:chExt cx="5333760" cy="528840"/>
          </a:xfrm>
        </p:grpSpPr>
        <p:sp>
          <p:nvSpPr>
            <p:cNvPr id="130" name=""/>
            <p:cNvSpPr/>
            <p:nvPr/>
          </p:nvSpPr>
          <p:spPr>
            <a:xfrm>
              <a:off x="1905120" y="3408480"/>
              <a:ext cx="5333760" cy="512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d4f2"/>
                </a:gs>
                <a:gs pos="100000">
                  <a:srgbClr val="b1e3f6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51200" y="378468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e2f5"/>
                </a:gs>
                <a:gs pos="100000">
                  <a:srgbClr val="d4ef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200" y="341964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3eff9"/>
                </a:gs>
                <a:gs pos="100000">
                  <a:srgbClr val="80d4f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19520" y="34686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286000" y="3395520"/>
              <a:ext cx="533520" cy="528840"/>
              <a:chOff x="2286000" y="3395520"/>
              <a:chExt cx="533520" cy="528840"/>
            </a:xfrm>
          </p:grpSpPr>
          <p:sp>
            <p:nvSpPr>
              <p:cNvPr id="135" name=""/>
              <p:cNvSpPr/>
              <p:nvPr/>
            </p:nvSpPr>
            <p:spPr>
              <a:xfrm>
                <a:off x="2286000" y="3395520"/>
                <a:ext cx="533520" cy="528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91400" y="3399480"/>
                <a:ext cx="515880" cy="512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97880" y="3402360"/>
                <a:ext cx="504000" cy="499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303280" y="3407400"/>
                <a:ext cx="479160" cy="4662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331360" y="3420000"/>
                <a:ext cx="425880" cy="379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2362320" y="340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919160" y="4124160"/>
            <a:ext cx="5334120" cy="528840"/>
            <a:chOff x="1919160" y="4124160"/>
            <a:chExt cx="5334120" cy="528840"/>
          </a:xfrm>
        </p:grpSpPr>
        <p:sp>
          <p:nvSpPr>
            <p:cNvPr id="142" name=""/>
            <p:cNvSpPr/>
            <p:nvPr/>
          </p:nvSpPr>
          <p:spPr>
            <a:xfrm>
              <a:off x="1919160" y="4124160"/>
              <a:ext cx="5334120" cy="51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87e7"/>
                </a:gs>
                <a:gs pos="100000">
                  <a:srgbClr val="ddd2f5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65240" y="450072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cff5"/>
                </a:gs>
                <a:gs pos="100000">
                  <a:srgbClr val="e9e2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65240" y="413532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c8f3"/>
                </a:gs>
                <a:gs pos="100000">
                  <a:srgbClr val="b59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33560" y="418464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300400" y="4124160"/>
              <a:ext cx="533160" cy="528840"/>
              <a:chOff x="2300400" y="4124160"/>
              <a:chExt cx="533160" cy="528840"/>
            </a:xfrm>
          </p:grpSpPr>
          <p:sp>
            <p:nvSpPr>
              <p:cNvPr id="147" name=""/>
              <p:cNvSpPr/>
              <p:nvPr/>
            </p:nvSpPr>
            <p:spPr>
              <a:xfrm>
                <a:off x="2300400" y="4124160"/>
                <a:ext cx="533160" cy="528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305800" y="4128120"/>
                <a:ext cx="515520" cy="512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12280" y="4131000"/>
                <a:ext cx="503640" cy="499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17680" y="4136040"/>
                <a:ext cx="478800" cy="4662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45760" y="4148640"/>
                <a:ext cx="425520" cy="379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376360" y="4137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905120" y="4826160"/>
            <a:ext cx="5333760" cy="528480"/>
            <a:chOff x="1905120" y="4826160"/>
            <a:chExt cx="5333760" cy="528480"/>
          </a:xfrm>
        </p:grpSpPr>
        <p:grpSp>
          <p:nvGrpSpPr>
            <p:cNvPr id="154" name=""/>
            <p:cNvGrpSpPr/>
            <p:nvPr/>
          </p:nvGrpSpPr>
          <p:grpSpPr>
            <a:xfrm>
              <a:off x="2286000" y="4826160"/>
              <a:ext cx="533520" cy="528480"/>
              <a:chOff x="2286000" y="4826160"/>
              <a:chExt cx="533520" cy="528480"/>
            </a:xfrm>
          </p:grpSpPr>
          <p:sp>
            <p:nvSpPr>
              <p:cNvPr id="155" name=""/>
              <p:cNvSpPr/>
              <p:nvPr/>
            </p:nvSpPr>
            <p:spPr>
              <a:xfrm>
                <a:off x="2286000" y="4826160"/>
                <a:ext cx="533520" cy="52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91400" y="4830120"/>
                <a:ext cx="515880" cy="511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297880" y="4833000"/>
                <a:ext cx="504000" cy="49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303280" y="4838040"/>
                <a:ext cx="479160" cy="4658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331360" y="4850640"/>
                <a:ext cx="425880" cy="378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2362320" y="4838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5120" y="4838760"/>
              <a:ext cx="5333760" cy="512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875a"/>
                </a:gs>
                <a:gs pos="100000">
                  <a:srgbClr val="f3c3ae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51200" y="521496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bda5"/>
                </a:gs>
                <a:gs pos="100000">
                  <a:srgbClr val="f7dac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51200" y="484992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adcce"/>
                </a:gs>
                <a:gs pos="100000">
                  <a:srgbClr val="f59a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19520" y="4898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286000" y="4826160"/>
              <a:ext cx="533520" cy="528480"/>
              <a:chOff x="2286000" y="4826160"/>
              <a:chExt cx="533520" cy="528480"/>
            </a:xfrm>
          </p:grpSpPr>
          <p:sp>
            <p:nvSpPr>
              <p:cNvPr id="166" name=""/>
              <p:cNvSpPr/>
              <p:nvPr/>
            </p:nvSpPr>
            <p:spPr>
              <a:xfrm>
                <a:off x="2286000" y="4826160"/>
                <a:ext cx="533520" cy="52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91400" y="4830120"/>
                <a:ext cx="515880" cy="511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97880" y="4833000"/>
                <a:ext cx="504000" cy="49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303280" y="4838040"/>
                <a:ext cx="479160" cy="4658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331360" y="4850640"/>
                <a:ext cx="425880" cy="378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2362320" y="4838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905120" y="1905120"/>
            <a:ext cx="5333760" cy="528480"/>
            <a:chOff x="1905120" y="1905120"/>
            <a:chExt cx="5333760" cy="528480"/>
          </a:xfrm>
        </p:grpSpPr>
        <p:sp>
          <p:nvSpPr>
            <p:cNvPr id="173" name=""/>
            <p:cNvSpPr/>
            <p:nvPr/>
          </p:nvSpPr>
          <p:spPr>
            <a:xfrm>
              <a:off x="1905120" y="1917720"/>
              <a:ext cx="5333760" cy="512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de78"/>
                </a:gs>
                <a:gs pos="100000">
                  <a:srgbClr val="f8f1c9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51200" y="229392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6b4"/>
                </a:gs>
                <a:gs pos="100000">
                  <a:srgbClr val="fcfb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1200" y="1928880"/>
              <a:ext cx="5257800" cy="13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9dc"/>
                </a:gs>
                <a:gs pos="100000">
                  <a:srgbClr val="eded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19520" y="19782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2286000" y="1905120"/>
              <a:ext cx="533520" cy="528480"/>
              <a:chOff x="2286000" y="1905120"/>
              <a:chExt cx="533520" cy="52848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000" y="1905120"/>
                <a:ext cx="533520" cy="52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91400" y="1909080"/>
                <a:ext cx="515880" cy="511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97880" y="1911960"/>
                <a:ext cx="504000" cy="49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303280" y="1917000"/>
                <a:ext cx="479160" cy="4658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331360" y="1929600"/>
                <a:ext cx="425880" cy="378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362320" y="1917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286000" y="1905120"/>
              <a:ext cx="533520" cy="528480"/>
              <a:chOff x="2286000" y="1905120"/>
              <a:chExt cx="533520" cy="528480"/>
            </a:xfrm>
          </p:grpSpPr>
          <p:sp>
            <p:nvSpPr>
              <p:cNvPr id="185" name=""/>
              <p:cNvSpPr/>
              <p:nvPr/>
            </p:nvSpPr>
            <p:spPr>
              <a:xfrm>
                <a:off x="2286000" y="1905120"/>
                <a:ext cx="533520" cy="52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91400" y="1909080"/>
                <a:ext cx="515880" cy="511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97880" y="1911960"/>
                <a:ext cx="504000" cy="49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03280" y="1917000"/>
                <a:ext cx="479160" cy="4658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31360" y="1929600"/>
                <a:ext cx="425880" cy="378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362320" y="1917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10T17:57:52Z</dcterms:modified>
  <cp:revision>98</cp:revision>
  <dc:subject/>
  <dc:title>Contents Design</dc:title>
</cp:coreProperties>
</file>