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81D-8DE9-4124-8C08-643A5D05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5F0-759A-495F-9E29-B33B470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A48-4270-4E7D-B3AD-44F6F51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49E-4D67-4083-A9EF-F3B2DAED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716-46B1-4BC8-BD64-9C3BEA1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E86-B287-4F5A-9C5C-886A79CE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DF8-B500-4FF3-8C45-2BE77812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01D-C4BD-43D6-8BC3-D7CC6F3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0D3-F0EA-4C57-BDAB-BBCD6313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887-2F98-40C2-9DB6-5150C4E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A03-34FC-4AF8-890C-BFB7FAF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DAD-1C9C-4F97-BF48-1346A58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D42C-419F-420E-977E-60BD8C15B6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66a3"/>
            </a:gs>
            <a:gs pos="50000">
              <a:srgbClr val="1a2f4b"/>
            </a:gs>
            <a:gs pos="100000">
              <a:srgbClr val="3966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892160" y="1725840"/>
            <a:ext cx="5194440" cy="685800"/>
            <a:chOff x="1892160" y="1725840"/>
            <a:chExt cx="5194440" cy="685800"/>
          </a:xfrm>
        </p:grpSpPr>
        <p:sp>
          <p:nvSpPr>
            <p:cNvPr id="43" name=""/>
            <p:cNvSpPr/>
            <p:nvPr/>
          </p:nvSpPr>
          <p:spPr>
            <a:xfrm>
              <a:off x="2286000" y="23842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3418800">
              <a:off x="2001240" y="18082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4d060"/>
                </a:gs>
                <a:gs pos="100000">
                  <a:srgbClr val="265f2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4520" y="18954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920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92520" y="2487600"/>
            <a:ext cx="5194080" cy="685800"/>
            <a:chOff x="1892520" y="2487600"/>
            <a:chExt cx="5194080" cy="685800"/>
          </a:xfrm>
        </p:grpSpPr>
        <p:sp>
          <p:nvSpPr>
            <p:cNvPr id="48" name=""/>
            <p:cNvSpPr/>
            <p:nvPr/>
          </p:nvSpPr>
          <p:spPr>
            <a:xfrm>
              <a:off x="2286000" y="31464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3418800">
              <a:off x="2001600" y="256968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8e97ee"/>
                </a:gs>
                <a:gs pos="100000">
                  <a:srgbClr val="41456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84520" y="2657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9200" y="261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892160" y="3380040"/>
            <a:ext cx="5194440" cy="685800"/>
            <a:chOff x="1892160" y="3380040"/>
            <a:chExt cx="5194440" cy="685800"/>
          </a:xfrm>
        </p:grpSpPr>
        <p:sp>
          <p:nvSpPr>
            <p:cNvPr id="53" name=""/>
            <p:cNvSpPr/>
            <p:nvPr/>
          </p:nvSpPr>
          <p:spPr>
            <a:xfrm>
              <a:off x="2286000" y="40384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3418800">
              <a:off x="2001240" y="34624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4383e1"/>
                </a:gs>
                <a:gs pos="100000">
                  <a:srgbClr val="1e3c67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4520" y="3549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920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892160" y="4218120"/>
            <a:ext cx="5194440" cy="685800"/>
            <a:chOff x="1892160" y="4218120"/>
            <a:chExt cx="5194440" cy="685800"/>
          </a:xfrm>
        </p:grpSpPr>
        <p:sp>
          <p:nvSpPr>
            <p:cNvPr id="58" name=""/>
            <p:cNvSpPr/>
            <p:nvPr/>
          </p:nvSpPr>
          <p:spPr>
            <a:xfrm>
              <a:off x="2286000" y="48769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3418800">
              <a:off x="2001240" y="430056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28a5c"/>
                </a:gs>
                <a:gs pos="100000">
                  <a:srgbClr val="6f3f2a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4520" y="4387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9200" y="434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92520" y="5110200"/>
            <a:ext cx="5194080" cy="685800"/>
            <a:chOff x="1892520" y="5110200"/>
            <a:chExt cx="5194080" cy="685800"/>
          </a:xfrm>
        </p:grpSpPr>
        <p:sp>
          <p:nvSpPr>
            <p:cNvPr id="63" name=""/>
            <p:cNvSpPr/>
            <p:nvPr/>
          </p:nvSpPr>
          <p:spPr>
            <a:xfrm>
              <a:off x="2286000" y="57690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3418800">
              <a:off x="2001600" y="519228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eab764"/>
                </a:gs>
                <a:gs pos="100000">
                  <a:srgbClr val="6b542e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4520" y="5280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9200" y="523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045160" y="4164120"/>
            <a:ext cx="5193360" cy="685800"/>
            <a:chOff x="2045160" y="4164120"/>
            <a:chExt cx="5193360" cy="685800"/>
          </a:xfrm>
        </p:grpSpPr>
        <p:sp>
          <p:nvSpPr>
            <p:cNvPr id="68" name=""/>
            <p:cNvSpPr/>
            <p:nvPr/>
          </p:nvSpPr>
          <p:spPr>
            <a:xfrm>
              <a:off x="2438280" y="482256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418800">
              <a:off x="2153880" y="42465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36800" y="4333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1480" y="428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045520" y="1649160"/>
            <a:ext cx="5193000" cy="685440"/>
            <a:chOff x="2045520" y="1649160"/>
            <a:chExt cx="5193000" cy="685440"/>
          </a:xfrm>
        </p:grpSpPr>
        <p:sp>
          <p:nvSpPr>
            <p:cNvPr id="73" name=""/>
            <p:cNvSpPr/>
            <p:nvPr/>
          </p:nvSpPr>
          <p:spPr>
            <a:xfrm>
              <a:off x="2438280" y="230796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418800">
              <a:off x="2154240" y="17312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6800" y="1819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1480" y="177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045520" y="2487600"/>
            <a:ext cx="5193000" cy="685440"/>
            <a:chOff x="2045520" y="2487600"/>
            <a:chExt cx="5193000" cy="685440"/>
          </a:xfrm>
        </p:grpSpPr>
        <p:sp>
          <p:nvSpPr>
            <p:cNvPr id="78" name=""/>
            <p:cNvSpPr/>
            <p:nvPr/>
          </p:nvSpPr>
          <p:spPr>
            <a:xfrm>
              <a:off x="2438280" y="314640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418800">
              <a:off x="2154240" y="25696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6800" y="2657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11480" y="261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45520" y="3325680"/>
            <a:ext cx="5193000" cy="685440"/>
            <a:chOff x="2045520" y="3325680"/>
            <a:chExt cx="5193000" cy="685440"/>
          </a:xfrm>
        </p:grpSpPr>
        <p:sp>
          <p:nvSpPr>
            <p:cNvPr id="83" name=""/>
            <p:cNvSpPr/>
            <p:nvPr/>
          </p:nvSpPr>
          <p:spPr>
            <a:xfrm>
              <a:off x="2439720" y="3982680"/>
              <a:ext cx="479880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3418800">
              <a:off x="2154240" y="340776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6800" y="3495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1480" y="34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045160" y="5024520"/>
            <a:ext cx="5193360" cy="685800"/>
            <a:chOff x="2045160" y="5024520"/>
            <a:chExt cx="5193360" cy="685800"/>
          </a:xfrm>
        </p:grpSpPr>
        <p:sp>
          <p:nvSpPr>
            <p:cNvPr id="88" name=""/>
            <p:cNvSpPr/>
            <p:nvPr/>
          </p:nvSpPr>
          <p:spPr>
            <a:xfrm>
              <a:off x="2438280" y="568332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3418800">
              <a:off x="2153880" y="51069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6004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6800" y="5194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11480" y="514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20Z</dcterms:modified>
  <cp:revision>92</cp:revision>
  <dc:subject/>
  <dc:title>Contents Design</dc:title>
</cp:coreProperties>
</file>