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70C-3FA5-4BB1-AA19-8C5B51D7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D2A5-CE61-4ED7-8838-02C9F954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6E0-D1D0-4357-AA3C-4DA9A0E9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50A-34DF-4052-ACB7-A685538A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71C-CB87-4712-87E2-5C429202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DEE-D54E-4199-96D3-EAD6063C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5CA-3B1A-47EE-8473-39360DE5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299-290F-4E97-A50E-DA90E7B1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84EF-E6FC-4036-A6DA-763369C4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A75-8EA6-4C0B-9B91-3F00EA5F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6013-D484-4911-A5E1-D9A41D94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72F-BB44-4D1D-865E-5EAC063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0D38-2671-41FC-A2E5-18747F3053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73f"/>
            </a:gs>
            <a:gs pos="100000">
              <a:srgbClr val="47118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81080" y="2133720"/>
            <a:ext cx="5410440" cy="664920"/>
            <a:chOff x="1981080" y="2133720"/>
            <a:chExt cx="5410440" cy="664920"/>
          </a:xfrm>
        </p:grpSpPr>
        <p:grpSp>
          <p:nvGrpSpPr>
            <p:cNvPr id="43" name=""/>
            <p:cNvGrpSpPr/>
            <p:nvPr/>
          </p:nvGrpSpPr>
          <p:grpSpPr>
            <a:xfrm>
              <a:off x="1981080" y="2133720"/>
              <a:ext cx="762120" cy="664920"/>
              <a:chOff x="1981080" y="2133720"/>
              <a:chExt cx="762120" cy="664920"/>
            </a:xfrm>
          </p:grpSpPr>
          <p:sp>
            <p:nvSpPr>
              <p:cNvPr id="44" name=""/>
              <p:cNvSpPr/>
              <p:nvPr/>
            </p:nvSpPr>
            <p:spPr>
              <a:xfrm>
                <a:off x="1987200" y="214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981080" y="2133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025360" y="217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2590920" y="27432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4520" y="220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80160" y="223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981080" y="3048120"/>
            <a:ext cx="5410440" cy="664920"/>
            <a:chOff x="1981080" y="3048120"/>
            <a:chExt cx="5410440" cy="664920"/>
          </a:xfrm>
        </p:grpSpPr>
        <p:grpSp>
          <p:nvGrpSpPr>
            <p:cNvPr id="51" name=""/>
            <p:cNvGrpSpPr/>
            <p:nvPr/>
          </p:nvGrpSpPr>
          <p:grpSpPr>
            <a:xfrm>
              <a:off x="1981080" y="3048120"/>
              <a:ext cx="761760" cy="664920"/>
              <a:chOff x="1981080" y="3048120"/>
              <a:chExt cx="761760" cy="664920"/>
            </a:xfrm>
          </p:grpSpPr>
          <p:sp>
            <p:nvSpPr>
              <p:cNvPr id="52" name=""/>
              <p:cNvSpPr/>
              <p:nvPr/>
            </p:nvSpPr>
            <p:spPr>
              <a:xfrm>
                <a:off x="1987200" y="30592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81080" y="3048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25360" y="3087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44820"/>
                  </a:gs>
                  <a:gs pos="100000">
                    <a:srgbClr val="cc703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590920" y="36576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4520" y="3124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0160" y="314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981080" y="3940200"/>
            <a:ext cx="5410440" cy="665280"/>
            <a:chOff x="1981080" y="3940200"/>
            <a:chExt cx="5410440" cy="665280"/>
          </a:xfrm>
        </p:grpSpPr>
        <p:grpSp>
          <p:nvGrpSpPr>
            <p:cNvPr id="59" name=""/>
            <p:cNvGrpSpPr/>
            <p:nvPr/>
          </p:nvGrpSpPr>
          <p:grpSpPr>
            <a:xfrm>
              <a:off x="1981080" y="3940200"/>
              <a:ext cx="762120" cy="665280"/>
              <a:chOff x="1981080" y="3940200"/>
              <a:chExt cx="762120" cy="665280"/>
            </a:xfrm>
          </p:grpSpPr>
          <p:sp>
            <p:nvSpPr>
              <p:cNvPr id="60" name=""/>
              <p:cNvSpPr/>
              <p:nvPr/>
            </p:nvSpPr>
            <p:spPr>
              <a:xfrm>
                <a:off x="1987200" y="395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81080" y="3940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025360" y="397944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590920" y="45496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4520" y="4016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0160" y="40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981080" y="4854600"/>
            <a:ext cx="5410440" cy="665280"/>
            <a:chOff x="1981080" y="4854600"/>
            <a:chExt cx="5410440" cy="665280"/>
          </a:xfrm>
        </p:grpSpPr>
        <p:grpSp>
          <p:nvGrpSpPr>
            <p:cNvPr id="67" name=""/>
            <p:cNvGrpSpPr/>
            <p:nvPr/>
          </p:nvGrpSpPr>
          <p:grpSpPr>
            <a:xfrm>
              <a:off x="1981080" y="4854600"/>
              <a:ext cx="761760" cy="665280"/>
              <a:chOff x="1981080" y="4854600"/>
              <a:chExt cx="761760" cy="665280"/>
            </a:xfrm>
          </p:grpSpPr>
          <p:sp>
            <p:nvSpPr>
              <p:cNvPr id="68" name=""/>
              <p:cNvSpPr/>
              <p:nvPr/>
            </p:nvSpPr>
            <p:spPr>
              <a:xfrm>
                <a:off x="1987200" y="48657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81080" y="4854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25360" y="489384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844820"/>
                  </a:gs>
                  <a:gs pos="100000">
                    <a:srgbClr val="cc703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590920" y="54640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4520" y="493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0160" y="495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981080" y="2133720"/>
            <a:ext cx="5410440" cy="664920"/>
            <a:chOff x="1981080" y="2133720"/>
            <a:chExt cx="5410440" cy="664920"/>
          </a:xfrm>
        </p:grpSpPr>
        <p:grpSp>
          <p:nvGrpSpPr>
            <p:cNvPr id="75" name=""/>
            <p:cNvGrpSpPr/>
            <p:nvPr/>
          </p:nvGrpSpPr>
          <p:grpSpPr>
            <a:xfrm>
              <a:off x="1981080" y="2133720"/>
              <a:ext cx="762120" cy="664920"/>
              <a:chOff x="1981080" y="2133720"/>
              <a:chExt cx="762120" cy="664920"/>
            </a:xfrm>
          </p:grpSpPr>
          <p:sp>
            <p:nvSpPr>
              <p:cNvPr id="76" name=""/>
              <p:cNvSpPr/>
              <p:nvPr/>
            </p:nvSpPr>
            <p:spPr>
              <a:xfrm>
                <a:off x="1987200" y="214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81080" y="2133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25360" y="217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3399ff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590920" y="27432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4520" y="220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0160" y="223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981080" y="3048120"/>
            <a:ext cx="5410440" cy="664920"/>
            <a:chOff x="1981080" y="3048120"/>
            <a:chExt cx="5410440" cy="664920"/>
          </a:xfrm>
        </p:grpSpPr>
        <p:grpSp>
          <p:nvGrpSpPr>
            <p:cNvPr id="83" name=""/>
            <p:cNvGrpSpPr/>
            <p:nvPr/>
          </p:nvGrpSpPr>
          <p:grpSpPr>
            <a:xfrm>
              <a:off x="1981080" y="3048120"/>
              <a:ext cx="761760" cy="664920"/>
              <a:chOff x="1981080" y="3048120"/>
              <a:chExt cx="761760" cy="664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87200" y="30592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81080" y="3048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025360" y="3087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f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590920" y="36576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4520" y="3124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80160" y="314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81080" y="3936960"/>
            <a:ext cx="5410440" cy="665280"/>
            <a:chOff x="1981080" y="3936960"/>
            <a:chExt cx="5410440" cy="665280"/>
          </a:xfrm>
        </p:grpSpPr>
        <p:sp>
          <p:nvSpPr>
            <p:cNvPr id="92" name=""/>
            <p:cNvSpPr/>
            <p:nvPr/>
          </p:nvSpPr>
          <p:spPr>
            <a:xfrm>
              <a:off x="2590920" y="45496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4520" y="4016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80160" y="40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1981080" y="3936960"/>
              <a:ext cx="762120" cy="665280"/>
              <a:chOff x="1981080" y="3936960"/>
              <a:chExt cx="762120" cy="665280"/>
            </a:xfrm>
          </p:grpSpPr>
          <p:sp>
            <p:nvSpPr>
              <p:cNvPr id="96" name=""/>
              <p:cNvSpPr/>
              <p:nvPr/>
            </p:nvSpPr>
            <p:spPr>
              <a:xfrm>
                <a:off x="1987200" y="39481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81080" y="39369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25360" y="397620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3399ff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2180160" y="40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4851360"/>
            <a:ext cx="5410440" cy="665280"/>
            <a:chOff x="1981080" y="4851360"/>
            <a:chExt cx="5410440" cy="665280"/>
          </a:xfrm>
        </p:grpSpPr>
        <p:sp>
          <p:nvSpPr>
            <p:cNvPr id="101" name=""/>
            <p:cNvSpPr/>
            <p:nvPr/>
          </p:nvSpPr>
          <p:spPr>
            <a:xfrm>
              <a:off x="2590920" y="54640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84520" y="4930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80160" y="495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981080" y="4851360"/>
              <a:ext cx="761760" cy="665280"/>
              <a:chOff x="1981080" y="4851360"/>
              <a:chExt cx="761760" cy="6652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87200" y="48625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81080" y="485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25360" y="489060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f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180160" y="4952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27Z</dcterms:modified>
  <cp:revision>92</cp:revision>
  <dc:subject/>
  <dc:title>Contents Design</dc:title>
</cp:coreProperties>
</file>