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6E5-8CD4-404E-AEBB-46B22320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574-A1E9-4F28-AB35-73BF248B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DBA-E342-43DA-AFAC-26CE72E8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B4F-2816-4253-8E0D-C6125710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573-939E-4DE1-A007-862FB8C1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285-9B86-460A-9156-9569C416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AD8-5D62-413A-AC2C-129657AA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69B-3673-469D-A219-A738BEB3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584-C5B1-4C61-A55B-C5752CA5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884-79FE-4763-9060-0BE66ED9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50C-AE9E-4394-87C6-9E38E4F6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C46-0A48-4EA2-A789-0878AFD6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4A4E-A735-401D-A2E7-820464F4CDD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1828800"/>
            <a:ext cx="4114800" cy="4343400"/>
          </a:xfrm>
          <a:prstGeom prst="ellipse">
            <a:avLst/>
          </a:prstGeom>
          <a:gradFill rotWithShape="0">
            <a:gsLst>
              <a:gs pos="0">
                <a:srgbClr val="003b76"/>
              </a:gs>
              <a:gs pos="100000">
                <a:srgbClr val="eab7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828800"/>
            <a:ext cx="4114800" cy="4343400"/>
          </a:xfrm>
          <a:prstGeom prst="ellipse">
            <a:avLst/>
          </a:prstGeom>
          <a:gradFill rotWithShape="0">
            <a:gsLst>
              <a:gs pos="0">
                <a:srgbClr val="54d060"/>
              </a:gs>
              <a:gs pos="100000">
                <a:srgbClr val="003b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343400" y="2895480"/>
            <a:ext cx="380880" cy="381240"/>
            <a:chOff x="4343400" y="2895480"/>
            <a:chExt cx="380880" cy="381240"/>
          </a:xfrm>
        </p:grpSpPr>
        <p:sp>
          <p:nvSpPr>
            <p:cNvPr id="45" name=""/>
            <p:cNvSpPr/>
            <p:nvPr/>
          </p:nvSpPr>
          <p:spPr>
            <a:xfrm>
              <a:off x="4343400" y="2895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65000" y="29167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84800" y="29368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84800" y="29368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04240" y="29563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04240" y="29563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343400" y="3352680"/>
            <a:ext cx="380880" cy="381240"/>
            <a:chOff x="4343400" y="3352680"/>
            <a:chExt cx="380880" cy="381240"/>
          </a:xfrm>
        </p:grpSpPr>
        <p:sp>
          <p:nvSpPr>
            <p:cNvPr id="52" name=""/>
            <p:cNvSpPr/>
            <p:nvPr/>
          </p:nvSpPr>
          <p:spPr>
            <a:xfrm>
              <a:off x="4343400" y="33526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65000" y="33739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84800" y="33940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84800" y="33940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04240" y="34135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04240" y="34135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43400" y="3809880"/>
            <a:ext cx="380880" cy="381240"/>
            <a:chOff x="4343400" y="3809880"/>
            <a:chExt cx="380880" cy="381240"/>
          </a:xfrm>
        </p:grpSpPr>
        <p:sp>
          <p:nvSpPr>
            <p:cNvPr id="59" name=""/>
            <p:cNvSpPr/>
            <p:nvPr/>
          </p:nvSpPr>
          <p:spPr>
            <a:xfrm>
              <a:off x="4343400" y="38098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65000" y="38311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84800" y="38512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84800" y="38512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04240" y="38707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04240" y="38707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343400" y="4267080"/>
            <a:ext cx="380880" cy="381240"/>
            <a:chOff x="4343400" y="4267080"/>
            <a:chExt cx="380880" cy="381240"/>
          </a:xfrm>
        </p:grpSpPr>
        <p:sp>
          <p:nvSpPr>
            <p:cNvPr id="66" name=""/>
            <p:cNvSpPr/>
            <p:nvPr/>
          </p:nvSpPr>
          <p:spPr>
            <a:xfrm>
              <a:off x="4343400" y="42670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65000" y="42883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84800" y="43084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84800" y="43084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04240" y="43279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04240" y="43279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4724280"/>
            <a:ext cx="380880" cy="381240"/>
            <a:chOff x="4343400" y="4724280"/>
            <a:chExt cx="380880" cy="381240"/>
          </a:xfrm>
        </p:grpSpPr>
        <p:sp>
          <p:nvSpPr>
            <p:cNvPr id="73" name=""/>
            <p:cNvSpPr/>
            <p:nvPr/>
          </p:nvSpPr>
          <p:spPr>
            <a:xfrm>
              <a:off x="4343400" y="4724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65000" y="47455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84800" y="47656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84800" y="47656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04240" y="47851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04240" y="47851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489640" y="25146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9640" y="327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9640" y="4016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9640" y="4756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920" y="26128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9920" y="3352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9920" y="40384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9920" y="48006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800600" y="1743120"/>
            <a:ext cx="4114800" cy="4343400"/>
          </a:xfrm>
          <a:prstGeom prst="ellipse">
            <a:avLst/>
          </a:prstGeom>
          <a:solidFill>
            <a:srgbClr val="bbb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2080" y="1743120"/>
            <a:ext cx="4114800" cy="4343400"/>
          </a:xfrm>
          <a:prstGeom prst="ellipse">
            <a:avLst/>
          </a:prstGeom>
          <a:solidFill>
            <a:srgbClr val="8bc2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94400" y="2482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94400" y="3244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94400" y="39844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94400" y="4724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98720" y="2536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98720" y="327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98720" y="3962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98720" y="4724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395960" y="2809800"/>
            <a:ext cx="380880" cy="381240"/>
            <a:chOff x="4395960" y="2809800"/>
            <a:chExt cx="380880" cy="381240"/>
          </a:xfrm>
        </p:grpSpPr>
        <p:sp>
          <p:nvSpPr>
            <p:cNvPr id="99" name=""/>
            <p:cNvSpPr/>
            <p:nvPr/>
          </p:nvSpPr>
          <p:spPr>
            <a:xfrm>
              <a:off x="4395960" y="28098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17560" y="28310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37360" y="28512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37360" y="28512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56800" y="28706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56800" y="28706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395960" y="3267000"/>
            <a:ext cx="380880" cy="381240"/>
            <a:chOff x="4395960" y="3267000"/>
            <a:chExt cx="380880" cy="381240"/>
          </a:xfrm>
        </p:grpSpPr>
        <p:sp>
          <p:nvSpPr>
            <p:cNvPr id="106" name=""/>
            <p:cNvSpPr/>
            <p:nvPr/>
          </p:nvSpPr>
          <p:spPr>
            <a:xfrm>
              <a:off x="4395960" y="32670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7560" y="32882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37360" y="33084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37360" y="33084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56800" y="33278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56800" y="33278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395960" y="3724200"/>
            <a:ext cx="380880" cy="381240"/>
            <a:chOff x="4395960" y="3724200"/>
            <a:chExt cx="380880" cy="381240"/>
          </a:xfrm>
        </p:grpSpPr>
        <p:sp>
          <p:nvSpPr>
            <p:cNvPr id="113" name=""/>
            <p:cNvSpPr/>
            <p:nvPr/>
          </p:nvSpPr>
          <p:spPr>
            <a:xfrm>
              <a:off x="4395960" y="3724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7560" y="3745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37360" y="3765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37360" y="3765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6800" y="3785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56800" y="3785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395960" y="4181400"/>
            <a:ext cx="380880" cy="381240"/>
            <a:chOff x="4395960" y="4181400"/>
            <a:chExt cx="380880" cy="381240"/>
          </a:xfrm>
        </p:grpSpPr>
        <p:sp>
          <p:nvSpPr>
            <p:cNvPr id="120" name=""/>
            <p:cNvSpPr/>
            <p:nvPr/>
          </p:nvSpPr>
          <p:spPr>
            <a:xfrm>
              <a:off x="4395960" y="41814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7560" y="42026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37360" y="4222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37360" y="4222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56800" y="4242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6800" y="4242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395960" y="4638600"/>
            <a:ext cx="380880" cy="381240"/>
            <a:chOff x="4395960" y="4638600"/>
            <a:chExt cx="380880" cy="381240"/>
          </a:xfrm>
        </p:grpSpPr>
        <p:sp>
          <p:nvSpPr>
            <p:cNvPr id="127" name=""/>
            <p:cNvSpPr/>
            <p:nvPr/>
          </p:nvSpPr>
          <p:spPr>
            <a:xfrm>
              <a:off x="4395960" y="46386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7560" y="46598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37360" y="46800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37360" y="46800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56800" y="46994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6800" y="46994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30Z</dcterms:modified>
  <cp:revision>94</cp:revision>
  <dc:subject/>
  <dc:title>Contents Design</dc:title>
</cp:coreProperties>
</file>