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37E-C839-4055-BB2C-B3490B5B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607-0215-4820-9800-4CA65CEB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74D-BF14-4066-9431-40552DA7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322-93CC-40E5-9CC4-422C26B7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5A0-3521-46C9-8408-2C09A2BB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08D-83A5-4811-9533-7AFAB8D5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646-5BA9-457D-B333-CD32FF83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8CD-0BA4-4F04-85DB-AB1809FA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798-D03D-4F8B-8C33-0FD064B8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27C-2AAF-4545-8D91-A392E912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F0B-E1BA-4EDE-AD40-9CCFDCFD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1A8-AE5B-474B-AAD8-FC07FC8F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A7ED-6988-4A14-ACEC-BC7906824B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1.wmf"/><Relationship Id="rId5" Type="http://schemas.openxmlformats.org/officeDocument/2006/relationships/image" Target="../media/image4.png"/><Relationship Id="rId6" Type="http://schemas.openxmlformats.org/officeDocument/2006/relationships/image" Target="../media/image3.wmf"/><Relationship Id="rId7" Type="http://schemas.openxmlformats.org/officeDocument/2006/relationships/image" Target="../media/image1.wmf"/><Relationship Id="rId8" Type="http://schemas.openxmlformats.org/officeDocument/2006/relationships/image" Target="../media/image5.png"/><Relationship Id="rId9" Type="http://schemas.openxmlformats.org/officeDocument/2006/relationships/image" Target="../media/image3.wmf"/><Relationship Id="rId10" Type="http://schemas.openxmlformats.org/officeDocument/2006/relationships/image" Target="../media/image1.wmf"/><Relationship Id="rId11" Type="http://schemas.openxmlformats.org/officeDocument/2006/relationships/image" Target="../media/image6.png"/><Relationship Id="rId12" Type="http://schemas.openxmlformats.org/officeDocument/2006/relationships/image" Target="../media/image3.wmf"/><Relationship Id="rId13" Type="http://schemas.openxmlformats.org/officeDocument/2006/relationships/image" Target="../media/image1.wmf"/><Relationship Id="rId14" Type="http://schemas.openxmlformats.org/officeDocument/2006/relationships/image" Target="../media/image7.png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1.wmf"/><Relationship Id="rId5" Type="http://schemas.openxmlformats.org/officeDocument/2006/relationships/image" Target="../media/image4.png"/><Relationship Id="rId6" Type="http://schemas.openxmlformats.org/officeDocument/2006/relationships/image" Target="../media/image3.wmf"/><Relationship Id="rId7" Type="http://schemas.openxmlformats.org/officeDocument/2006/relationships/image" Target="../media/image1.wmf"/><Relationship Id="rId8" Type="http://schemas.openxmlformats.org/officeDocument/2006/relationships/image" Target="../media/image5.png"/><Relationship Id="rId9" Type="http://schemas.openxmlformats.org/officeDocument/2006/relationships/image" Target="../media/image3.wmf"/><Relationship Id="rId10" Type="http://schemas.openxmlformats.org/officeDocument/2006/relationships/image" Target="../media/image1.wmf"/><Relationship Id="rId11" Type="http://schemas.openxmlformats.org/officeDocument/2006/relationships/image" Target="../media/image6.png"/><Relationship Id="rId12" Type="http://schemas.openxmlformats.org/officeDocument/2006/relationships/image" Target="../media/image3.wmf"/><Relationship Id="rId13" Type="http://schemas.openxmlformats.org/officeDocument/2006/relationships/image" Target="../media/image1.wmf"/><Relationship Id="rId14" Type="http://schemas.openxmlformats.org/officeDocument/2006/relationships/image" Target="../media/image7.png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2002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46040" y="1981080"/>
            <a:ext cx="5018400" cy="530280"/>
            <a:chOff x="2246040" y="1981080"/>
            <a:chExt cx="5018400" cy="530280"/>
          </a:xfrm>
        </p:grpSpPr>
        <p:sp>
          <p:nvSpPr>
            <p:cNvPr id="43" name=""/>
            <p:cNvSpPr/>
            <p:nvPr/>
          </p:nvSpPr>
          <p:spPr>
            <a:xfrm>
              <a:off x="2440080" y="1981080"/>
              <a:ext cx="482436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03520" y="2054160"/>
              <a:ext cx="41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2246040" y="2025720"/>
              <a:ext cx="422280" cy="473040"/>
              <a:chOff x="2246040" y="2025720"/>
              <a:chExt cx="422280" cy="47304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2246040" y="2025720"/>
                <a:ext cx="422280" cy="473040"/>
                <a:chOff x="2246040" y="2025720"/>
                <a:chExt cx="422280" cy="473040"/>
              </a:xfrm>
            </p:grpSpPr>
            <p:pic>
              <p:nvPicPr>
                <p:cNvPr id="4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76640" y="2414520"/>
                  <a:ext cx="365040" cy="8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" name=""/>
                <p:cNvSpPr/>
                <p:nvPr/>
              </p:nvSpPr>
              <p:spPr>
                <a:xfrm flipH="1">
                  <a:off x="2245680" y="2025720"/>
                  <a:ext cx="422280" cy="42228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H="1">
                  <a:off x="2257560" y="2035080"/>
                  <a:ext cx="403200" cy="40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>
                        <a:alpha val="85098"/>
                      </a:srgbClr>
                    </a:gs>
                    <a:gs pos="100000">
                      <a:srgbClr val="a16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5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74920" y="2028960"/>
                  <a:ext cx="276120" cy="27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"/>
              <p:cNvSpPr/>
              <p:nvPr/>
            </p:nvSpPr>
            <p:spPr>
              <a:xfrm>
                <a:off x="2289600" y="2050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"/>
          <p:cNvGrpSpPr/>
          <p:nvPr/>
        </p:nvGrpSpPr>
        <p:grpSpPr>
          <a:xfrm>
            <a:off x="2244240" y="2743200"/>
            <a:ext cx="5020200" cy="549360"/>
            <a:chOff x="2244240" y="2743200"/>
            <a:chExt cx="5020200" cy="549360"/>
          </a:xfrm>
        </p:grpSpPr>
        <p:sp>
          <p:nvSpPr>
            <p:cNvPr id="53" name=""/>
            <p:cNvSpPr/>
            <p:nvPr/>
          </p:nvSpPr>
          <p:spPr>
            <a:xfrm>
              <a:off x="2440080" y="2743200"/>
              <a:ext cx="482436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3da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03520" y="2819520"/>
              <a:ext cx="41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244240" y="2819520"/>
              <a:ext cx="422280" cy="473040"/>
              <a:chOff x="2244240" y="2819520"/>
              <a:chExt cx="422280" cy="47304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2244240" y="2819520"/>
                <a:ext cx="422280" cy="473040"/>
                <a:chOff x="2244240" y="2819520"/>
                <a:chExt cx="422280" cy="473040"/>
              </a:xfrm>
            </p:grpSpPr>
            <p:pic>
              <p:nvPicPr>
                <p:cNvPr id="5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74840" y="3208320"/>
                  <a:ext cx="365040" cy="8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flipH="1">
                  <a:off x="2243880" y="2819520"/>
                  <a:ext cx="422280" cy="42228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2255760" y="2828880"/>
                  <a:ext cx="403200" cy="40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f71a">
                        <a:alpha val="85098"/>
                      </a:srgbClr>
                    </a:gs>
                    <a:gs pos="100000">
                      <a:srgbClr val="9f9c1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6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373120" y="2822760"/>
                  <a:ext cx="276120" cy="27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1" name=""/>
              <p:cNvSpPr/>
              <p:nvPr/>
            </p:nvSpPr>
            <p:spPr>
              <a:xfrm>
                <a:off x="2287800" y="2844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"/>
          <p:cNvGrpSpPr/>
          <p:nvPr/>
        </p:nvGrpSpPr>
        <p:grpSpPr>
          <a:xfrm>
            <a:off x="2247480" y="3490920"/>
            <a:ext cx="5016960" cy="547560"/>
            <a:chOff x="2247480" y="3490920"/>
            <a:chExt cx="5016960" cy="547560"/>
          </a:xfrm>
        </p:grpSpPr>
        <p:sp>
          <p:nvSpPr>
            <p:cNvPr id="63" name=""/>
            <p:cNvSpPr/>
            <p:nvPr/>
          </p:nvSpPr>
          <p:spPr>
            <a:xfrm>
              <a:off x="2440080" y="3490920"/>
              <a:ext cx="482436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03520" y="3567240"/>
              <a:ext cx="41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247480" y="3565440"/>
              <a:ext cx="422280" cy="473040"/>
              <a:chOff x="2247480" y="3565440"/>
              <a:chExt cx="422280" cy="473040"/>
            </a:xfrm>
          </p:grpSpPr>
          <p:sp>
            <p:nvSpPr>
              <p:cNvPr id="66" name=""/>
              <p:cNvSpPr/>
              <p:nvPr/>
            </p:nvSpPr>
            <p:spPr>
              <a:xfrm>
                <a:off x="2279880" y="3598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2247480" y="3565440"/>
                <a:ext cx="422280" cy="473040"/>
                <a:chOff x="2247480" y="3565440"/>
                <a:chExt cx="422280" cy="473040"/>
              </a:xfrm>
            </p:grpSpPr>
            <p:pic>
              <p:nvPicPr>
                <p:cNvPr id="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78080" y="3954240"/>
                  <a:ext cx="365040" cy="8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" name=""/>
                <p:cNvSpPr/>
                <p:nvPr/>
              </p:nvSpPr>
              <p:spPr>
                <a:xfrm flipH="1">
                  <a:off x="2247120" y="3565440"/>
                  <a:ext cx="422280" cy="422280"/>
                </a:xfrm>
                <a:prstGeom prst="ellips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H="1">
                  <a:off x="2259000" y="3574800"/>
                  <a:ext cx="403200" cy="40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>
                        <a:alpha val="85098"/>
                      </a:srgbClr>
                    </a:gs>
                    <a:gs pos="100000">
                      <a:srgbClr val="0a904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7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376360" y="3568680"/>
                  <a:ext cx="276120" cy="27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2" name=""/>
              <p:cNvSpPr/>
              <p:nvPr/>
            </p:nvSpPr>
            <p:spPr>
              <a:xfrm>
                <a:off x="2291040" y="3591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3" name=""/>
          <p:cNvGrpSpPr/>
          <p:nvPr/>
        </p:nvGrpSpPr>
        <p:grpSpPr>
          <a:xfrm>
            <a:off x="2244240" y="4253040"/>
            <a:ext cx="5020200" cy="547560"/>
            <a:chOff x="2244240" y="4253040"/>
            <a:chExt cx="5020200" cy="547560"/>
          </a:xfrm>
        </p:grpSpPr>
        <p:sp>
          <p:nvSpPr>
            <p:cNvPr id="74" name=""/>
            <p:cNvSpPr/>
            <p:nvPr/>
          </p:nvSpPr>
          <p:spPr>
            <a:xfrm>
              <a:off x="2440080" y="4253040"/>
              <a:ext cx="4824360" cy="5299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03520" y="4329000"/>
              <a:ext cx="41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244240" y="4327560"/>
              <a:ext cx="422280" cy="473040"/>
              <a:chOff x="2244240" y="4327560"/>
              <a:chExt cx="422280" cy="473040"/>
            </a:xfrm>
          </p:grpSpPr>
          <p:sp>
            <p:nvSpPr>
              <p:cNvPr id="77" name=""/>
              <p:cNvSpPr/>
              <p:nvPr/>
            </p:nvSpPr>
            <p:spPr>
              <a:xfrm>
                <a:off x="2279880" y="4362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2244240" y="4327560"/>
                <a:ext cx="422280" cy="473040"/>
                <a:chOff x="2244240" y="4327560"/>
                <a:chExt cx="422280" cy="473040"/>
              </a:xfrm>
            </p:grpSpPr>
            <p:pic>
              <p:nvPicPr>
                <p:cNvPr id="7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4840" y="4716360"/>
                  <a:ext cx="365040" cy="8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 flipH="1">
                  <a:off x="2243880" y="4327560"/>
                  <a:ext cx="422280" cy="422280"/>
                </a:xfrm>
                <a:prstGeom prst="ellips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H="1">
                  <a:off x="2255760" y="4336920"/>
                  <a:ext cx="403200" cy="40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55f9">
                        <a:alpha val="85098"/>
                      </a:srgbClr>
                    </a:gs>
                    <a:gs pos="100000">
                      <a:srgbClr val="7f359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8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373120" y="4330800"/>
                  <a:ext cx="276120" cy="27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287800" y="4352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2244240" y="5014800"/>
            <a:ext cx="5013720" cy="547920"/>
            <a:chOff x="2244240" y="5014800"/>
            <a:chExt cx="5013720" cy="547920"/>
          </a:xfrm>
        </p:grpSpPr>
        <p:sp>
          <p:nvSpPr>
            <p:cNvPr id="85" name=""/>
            <p:cNvSpPr/>
            <p:nvPr/>
          </p:nvSpPr>
          <p:spPr>
            <a:xfrm>
              <a:off x="2433600" y="5014800"/>
              <a:ext cx="482436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4d98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7040" y="5091120"/>
              <a:ext cx="417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244240" y="5089680"/>
              <a:ext cx="422280" cy="473040"/>
              <a:chOff x="2244240" y="5089680"/>
              <a:chExt cx="422280" cy="47304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2244240" y="5089680"/>
                <a:ext cx="422280" cy="473040"/>
                <a:chOff x="2244240" y="5089680"/>
                <a:chExt cx="422280" cy="473040"/>
              </a:xfrm>
            </p:grpSpPr>
            <p:pic>
              <p:nvPicPr>
                <p:cNvPr id="8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274840" y="5478480"/>
                  <a:ext cx="365040" cy="8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 flipH="1">
                  <a:off x="2243880" y="5089680"/>
                  <a:ext cx="422280" cy="422280"/>
                </a:xfrm>
                <a:prstGeom prst="ellipse">
                  <a:avLst/>
                </a:pr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>
                  <a:off x="2255760" y="5099040"/>
                  <a:ext cx="403200" cy="40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98e3">
                        <a:alpha val="85098"/>
                      </a:srgbClr>
                    </a:gs>
                    <a:gs pos="100000">
                      <a:srgbClr val="30608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9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373120" y="5092920"/>
                  <a:ext cx="276120" cy="27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3" name=""/>
              <p:cNvSpPr/>
              <p:nvPr/>
            </p:nvSpPr>
            <p:spPr>
              <a:xfrm>
                <a:off x="2287800" y="5114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46040" y="1981080"/>
            <a:ext cx="5018400" cy="530280"/>
            <a:chOff x="2246040" y="1981080"/>
            <a:chExt cx="5018400" cy="530280"/>
          </a:xfrm>
        </p:grpSpPr>
        <p:sp>
          <p:nvSpPr>
            <p:cNvPr id="96" name=""/>
            <p:cNvSpPr/>
            <p:nvPr/>
          </p:nvSpPr>
          <p:spPr>
            <a:xfrm>
              <a:off x="2440080" y="1981080"/>
              <a:ext cx="482436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03520" y="2054160"/>
              <a:ext cx="41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245680" y="2025720"/>
              <a:ext cx="422280" cy="422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257560" y="2035080"/>
              <a:ext cx="403200" cy="40320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16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9600" y="205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244240" y="2743200"/>
            <a:ext cx="5020200" cy="530280"/>
            <a:chOff x="2244240" y="2743200"/>
            <a:chExt cx="5020200" cy="530280"/>
          </a:xfrm>
        </p:grpSpPr>
        <p:sp>
          <p:nvSpPr>
            <p:cNvPr id="102" name=""/>
            <p:cNvSpPr/>
            <p:nvPr/>
          </p:nvSpPr>
          <p:spPr>
            <a:xfrm>
              <a:off x="2440080" y="2743200"/>
              <a:ext cx="482436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3da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03520" y="2819520"/>
              <a:ext cx="41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43880" y="2819520"/>
              <a:ext cx="422280" cy="422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255760" y="2828880"/>
              <a:ext cx="403200" cy="403200"/>
            </a:xfrm>
            <a:prstGeom prst="ellipse">
              <a:avLst/>
            </a:prstGeom>
            <a:gradFill rotWithShape="0">
              <a:gsLst>
                <a:gs pos="0">
                  <a:srgbClr val="fcf71a">
                    <a:alpha val="85098"/>
                  </a:srgbClr>
                </a:gs>
                <a:gs pos="100000">
                  <a:srgbClr val="9f9c1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7800" y="2844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247480" y="3490920"/>
            <a:ext cx="5016960" cy="530280"/>
            <a:chOff x="2247480" y="3490920"/>
            <a:chExt cx="5016960" cy="530280"/>
          </a:xfrm>
        </p:grpSpPr>
        <p:sp>
          <p:nvSpPr>
            <p:cNvPr id="108" name=""/>
            <p:cNvSpPr/>
            <p:nvPr/>
          </p:nvSpPr>
          <p:spPr>
            <a:xfrm>
              <a:off x="2440080" y="3490920"/>
              <a:ext cx="482436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03520" y="3567240"/>
              <a:ext cx="41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79880" y="359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247120" y="3565440"/>
              <a:ext cx="422280" cy="422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259000" y="3575160"/>
              <a:ext cx="403200" cy="403200"/>
            </a:xfrm>
            <a:prstGeom prst="ellipse">
              <a:avLst/>
            </a:prstGeom>
            <a:gradFill rotWithShape="0">
              <a:gsLst>
                <a:gs pos="0">
                  <a:srgbClr val="10e470">
                    <a:alpha val="85098"/>
                  </a:srgbClr>
                </a:gs>
                <a:gs pos="100000">
                  <a:srgbClr val="0a90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91040" y="359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244240" y="4253040"/>
            <a:ext cx="5020200" cy="529920"/>
            <a:chOff x="2244240" y="4253040"/>
            <a:chExt cx="5020200" cy="529920"/>
          </a:xfrm>
        </p:grpSpPr>
        <p:sp>
          <p:nvSpPr>
            <p:cNvPr id="115" name=""/>
            <p:cNvSpPr/>
            <p:nvPr/>
          </p:nvSpPr>
          <p:spPr>
            <a:xfrm>
              <a:off x="2440080" y="4253040"/>
              <a:ext cx="4824360" cy="5299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03520" y="4329000"/>
              <a:ext cx="41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79880" y="4362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243880" y="4327560"/>
              <a:ext cx="422280" cy="422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255760" y="4336920"/>
              <a:ext cx="403200" cy="403200"/>
            </a:xfrm>
            <a:prstGeom prst="ellipse">
              <a:avLst/>
            </a:prstGeom>
            <a:gradFill rotWithShape="0">
              <a:gsLst>
                <a:gs pos="0">
                  <a:srgbClr val="ca55f9">
                    <a:alpha val="85098"/>
                  </a:srgbClr>
                </a:gs>
                <a:gs pos="100000">
                  <a:srgbClr val="7f359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7800" y="4352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44240" y="5014800"/>
            <a:ext cx="5013720" cy="530280"/>
            <a:chOff x="2244240" y="5014800"/>
            <a:chExt cx="5013720" cy="530280"/>
          </a:xfrm>
        </p:grpSpPr>
        <p:sp>
          <p:nvSpPr>
            <p:cNvPr id="122" name=""/>
            <p:cNvSpPr/>
            <p:nvPr/>
          </p:nvSpPr>
          <p:spPr>
            <a:xfrm>
              <a:off x="2433600" y="5014800"/>
              <a:ext cx="482436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4d98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97040" y="5091120"/>
              <a:ext cx="417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243880" y="5089680"/>
              <a:ext cx="422280" cy="4222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255760" y="5099040"/>
              <a:ext cx="403200" cy="403200"/>
            </a:xfrm>
            <a:prstGeom prst="ellipse">
              <a:avLst/>
            </a:prstGeom>
            <a:gradFill rotWithShape="0">
              <a:gsLst>
                <a:gs pos="0">
                  <a:srgbClr val="4d98e3">
                    <a:alpha val="85098"/>
                  </a:srgbClr>
                </a:gs>
                <a:gs pos="100000">
                  <a:srgbClr val="30608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7800" y="511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 2002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014200" y="2057400"/>
            <a:ext cx="5069160" cy="530280"/>
            <a:chOff x="2014200" y="2057400"/>
            <a:chExt cx="5069160" cy="530280"/>
          </a:xfrm>
        </p:grpSpPr>
        <p:sp>
          <p:nvSpPr>
            <p:cNvPr id="129" name=""/>
            <p:cNvSpPr/>
            <p:nvPr/>
          </p:nvSpPr>
          <p:spPr>
            <a:xfrm>
              <a:off x="2257560" y="2057400"/>
              <a:ext cx="482580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21000" y="2130480"/>
              <a:ext cx="41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14200" y="2101680"/>
              <a:ext cx="422280" cy="473040"/>
              <a:chOff x="2014200" y="2101680"/>
              <a:chExt cx="422280" cy="47304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2014200" y="2101680"/>
                <a:ext cx="422280" cy="473040"/>
                <a:chOff x="2014200" y="2101680"/>
                <a:chExt cx="422280" cy="473040"/>
              </a:xfrm>
            </p:grpSpPr>
            <p:pic>
              <p:nvPicPr>
                <p:cNvPr id="13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44800" y="2490480"/>
                  <a:ext cx="365040" cy="8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 flipH="1">
                  <a:off x="2013840" y="2101680"/>
                  <a:ext cx="422280" cy="42228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2025720" y="2111040"/>
                  <a:ext cx="403200" cy="40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>
                        <a:alpha val="85098"/>
                      </a:srgbClr>
                    </a:gs>
                    <a:gs pos="100000">
                      <a:srgbClr val="a16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3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143080" y="2104920"/>
                  <a:ext cx="276120" cy="27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7" name=""/>
              <p:cNvSpPr/>
              <p:nvPr/>
            </p:nvSpPr>
            <p:spPr>
              <a:xfrm>
                <a:off x="2057760" y="2126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2012760" y="2819520"/>
            <a:ext cx="5070600" cy="549000"/>
            <a:chOff x="2012760" y="2819520"/>
            <a:chExt cx="5070600" cy="549000"/>
          </a:xfrm>
        </p:grpSpPr>
        <p:sp>
          <p:nvSpPr>
            <p:cNvPr id="139" name=""/>
            <p:cNvSpPr/>
            <p:nvPr/>
          </p:nvSpPr>
          <p:spPr>
            <a:xfrm>
              <a:off x="2257560" y="2819520"/>
              <a:ext cx="482580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21000" y="2895480"/>
              <a:ext cx="41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012760" y="2895480"/>
              <a:ext cx="422280" cy="473040"/>
              <a:chOff x="2012760" y="2895480"/>
              <a:chExt cx="422280" cy="47304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2012760" y="2895480"/>
                <a:ext cx="422280" cy="473040"/>
                <a:chOff x="2012760" y="2895480"/>
                <a:chExt cx="422280" cy="473040"/>
              </a:xfrm>
            </p:grpSpPr>
            <p:pic>
              <p:nvPicPr>
                <p:cNvPr id="14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43360" y="3284280"/>
                  <a:ext cx="365040" cy="8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" name=""/>
                <p:cNvSpPr/>
                <p:nvPr/>
              </p:nvSpPr>
              <p:spPr>
                <a:xfrm flipH="1">
                  <a:off x="2012400" y="2895480"/>
                  <a:ext cx="422280" cy="42228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2024280" y="2904840"/>
                  <a:ext cx="403200" cy="40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f71a">
                        <a:alpha val="85098"/>
                      </a:srgbClr>
                    </a:gs>
                    <a:gs pos="100000">
                      <a:srgbClr val="9f9c1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141640" y="2898720"/>
                  <a:ext cx="276120" cy="27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7" name=""/>
              <p:cNvSpPr/>
              <p:nvPr/>
            </p:nvSpPr>
            <p:spPr>
              <a:xfrm>
                <a:off x="2056320" y="2920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015640" y="3567240"/>
            <a:ext cx="5067720" cy="547560"/>
            <a:chOff x="2015640" y="3567240"/>
            <a:chExt cx="5067720" cy="547560"/>
          </a:xfrm>
        </p:grpSpPr>
        <p:sp>
          <p:nvSpPr>
            <p:cNvPr id="149" name=""/>
            <p:cNvSpPr/>
            <p:nvPr/>
          </p:nvSpPr>
          <p:spPr>
            <a:xfrm>
              <a:off x="2257560" y="3567240"/>
              <a:ext cx="4825800" cy="5299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1000" y="3643200"/>
              <a:ext cx="41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2015640" y="3641760"/>
              <a:ext cx="422280" cy="473040"/>
              <a:chOff x="2015640" y="3641760"/>
              <a:chExt cx="422280" cy="473040"/>
            </a:xfrm>
          </p:grpSpPr>
          <p:sp>
            <p:nvSpPr>
              <p:cNvPr id="152" name=""/>
              <p:cNvSpPr/>
              <p:nvPr/>
            </p:nvSpPr>
            <p:spPr>
              <a:xfrm>
                <a:off x="2048040" y="3675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2015640" y="3641760"/>
                <a:ext cx="422280" cy="473040"/>
                <a:chOff x="2015640" y="3641760"/>
                <a:chExt cx="422280" cy="473040"/>
              </a:xfrm>
            </p:grpSpPr>
            <p:pic>
              <p:nvPicPr>
                <p:cNvPr id="15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046240" y="4030560"/>
                  <a:ext cx="365040" cy="8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flipH="1">
                  <a:off x="2015280" y="3641760"/>
                  <a:ext cx="422280" cy="422280"/>
                </a:xfrm>
                <a:prstGeom prst="ellips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2027160" y="3651120"/>
                  <a:ext cx="403200" cy="40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>
                        <a:alpha val="85098"/>
                      </a:srgbClr>
                    </a:gs>
                    <a:gs pos="100000">
                      <a:srgbClr val="0a904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5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44520" y="3645000"/>
                  <a:ext cx="276120" cy="27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58" name=""/>
              <p:cNvSpPr/>
              <p:nvPr/>
            </p:nvSpPr>
            <p:spPr>
              <a:xfrm>
                <a:off x="2059200" y="3667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2012760" y="4329000"/>
            <a:ext cx="5070600" cy="547920"/>
            <a:chOff x="2012760" y="4329000"/>
            <a:chExt cx="5070600" cy="547920"/>
          </a:xfrm>
        </p:grpSpPr>
        <p:sp>
          <p:nvSpPr>
            <p:cNvPr id="160" name=""/>
            <p:cNvSpPr/>
            <p:nvPr/>
          </p:nvSpPr>
          <p:spPr>
            <a:xfrm>
              <a:off x="2257560" y="4329000"/>
              <a:ext cx="482580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21000" y="4405320"/>
              <a:ext cx="41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012760" y="4403880"/>
              <a:ext cx="422280" cy="473040"/>
              <a:chOff x="2012760" y="4403880"/>
              <a:chExt cx="422280" cy="473040"/>
            </a:xfrm>
          </p:grpSpPr>
          <p:sp>
            <p:nvSpPr>
              <p:cNvPr id="163" name=""/>
              <p:cNvSpPr/>
              <p:nvPr/>
            </p:nvSpPr>
            <p:spPr>
              <a:xfrm>
                <a:off x="2048400" y="4438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2012760" y="4403880"/>
                <a:ext cx="422280" cy="473040"/>
                <a:chOff x="2012760" y="4403880"/>
                <a:chExt cx="422280" cy="473040"/>
              </a:xfrm>
            </p:grpSpPr>
            <p:pic>
              <p:nvPicPr>
                <p:cNvPr id="16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43360" y="4792680"/>
                  <a:ext cx="365040" cy="8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flipH="1">
                  <a:off x="2012400" y="4403880"/>
                  <a:ext cx="422280" cy="422280"/>
                </a:xfrm>
                <a:prstGeom prst="ellips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2024280" y="4413240"/>
                  <a:ext cx="403200" cy="40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55f9">
                        <a:alpha val="85098"/>
                      </a:srgbClr>
                    </a:gs>
                    <a:gs pos="100000">
                      <a:srgbClr val="7f359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141640" y="4407120"/>
                  <a:ext cx="276120" cy="27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9" name=""/>
              <p:cNvSpPr/>
              <p:nvPr/>
            </p:nvSpPr>
            <p:spPr>
              <a:xfrm>
                <a:off x="2056320" y="4429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2012760" y="5091120"/>
            <a:ext cx="5064480" cy="547560"/>
            <a:chOff x="2012760" y="5091120"/>
            <a:chExt cx="5064480" cy="547560"/>
          </a:xfrm>
        </p:grpSpPr>
        <p:sp>
          <p:nvSpPr>
            <p:cNvPr id="171" name=""/>
            <p:cNvSpPr/>
            <p:nvPr/>
          </p:nvSpPr>
          <p:spPr>
            <a:xfrm>
              <a:off x="2251080" y="5091120"/>
              <a:ext cx="482616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14520" y="5167440"/>
              <a:ext cx="41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012760" y="5165640"/>
              <a:ext cx="422280" cy="473040"/>
              <a:chOff x="2012760" y="5165640"/>
              <a:chExt cx="422280" cy="47304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2012760" y="5165640"/>
                <a:ext cx="422280" cy="473040"/>
                <a:chOff x="2012760" y="5165640"/>
                <a:chExt cx="422280" cy="473040"/>
              </a:xfrm>
            </p:grpSpPr>
            <p:pic>
              <p:nvPicPr>
                <p:cNvPr id="17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043360" y="5554440"/>
                  <a:ext cx="365040" cy="8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 flipH="1">
                  <a:off x="2012400" y="5165640"/>
                  <a:ext cx="422280" cy="422280"/>
                </a:xfrm>
                <a:prstGeom prst="ellipse">
                  <a:avLst/>
                </a:pr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2024280" y="5175000"/>
                  <a:ext cx="403200" cy="40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98e3">
                        <a:alpha val="85098"/>
                      </a:srgbClr>
                    </a:gs>
                    <a:gs pos="100000">
                      <a:srgbClr val="30608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141640" y="5168880"/>
                  <a:ext cx="276120" cy="27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9" name=""/>
              <p:cNvSpPr/>
              <p:nvPr/>
            </p:nvSpPr>
            <p:spPr>
              <a:xfrm>
                <a:off x="2056320" y="51908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014200" y="2057400"/>
            <a:ext cx="5069160" cy="530280"/>
            <a:chOff x="2014200" y="2057400"/>
            <a:chExt cx="5069160" cy="530280"/>
          </a:xfrm>
        </p:grpSpPr>
        <p:sp>
          <p:nvSpPr>
            <p:cNvPr id="182" name=""/>
            <p:cNvSpPr/>
            <p:nvPr/>
          </p:nvSpPr>
          <p:spPr>
            <a:xfrm>
              <a:off x="2257560" y="2057400"/>
              <a:ext cx="482580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21000" y="2130480"/>
              <a:ext cx="41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013840" y="2101680"/>
              <a:ext cx="422280" cy="422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025720" y="2111400"/>
              <a:ext cx="403200" cy="40320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16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760" y="2127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012760" y="2819520"/>
            <a:ext cx="5070600" cy="530280"/>
            <a:chOff x="2012760" y="2819520"/>
            <a:chExt cx="5070600" cy="530280"/>
          </a:xfrm>
        </p:grpSpPr>
        <p:sp>
          <p:nvSpPr>
            <p:cNvPr id="188" name=""/>
            <p:cNvSpPr/>
            <p:nvPr/>
          </p:nvSpPr>
          <p:spPr>
            <a:xfrm>
              <a:off x="2257560" y="2819520"/>
              <a:ext cx="482580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21000" y="2895480"/>
              <a:ext cx="41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012400" y="2895480"/>
              <a:ext cx="422280" cy="422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023920" y="2905200"/>
              <a:ext cx="403200" cy="403200"/>
            </a:xfrm>
            <a:prstGeom prst="ellipse">
              <a:avLst/>
            </a:prstGeom>
            <a:gradFill rotWithShape="0">
              <a:gsLst>
                <a:gs pos="0">
                  <a:srgbClr val="fcf71a">
                    <a:alpha val="85098"/>
                  </a:srgbClr>
                </a:gs>
                <a:gs pos="100000">
                  <a:srgbClr val="9f9c1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5960" y="2921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015640" y="3567240"/>
            <a:ext cx="5067720" cy="529920"/>
            <a:chOff x="2015640" y="3567240"/>
            <a:chExt cx="5067720" cy="529920"/>
          </a:xfrm>
        </p:grpSpPr>
        <p:sp>
          <p:nvSpPr>
            <p:cNvPr id="194" name=""/>
            <p:cNvSpPr/>
            <p:nvPr/>
          </p:nvSpPr>
          <p:spPr>
            <a:xfrm>
              <a:off x="2257560" y="3567240"/>
              <a:ext cx="4825800" cy="5299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21000" y="3643200"/>
              <a:ext cx="41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48040" y="3675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015280" y="3641760"/>
              <a:ext cx="422280" cy="422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027160" y="3651120"/>
              <a:ext cx="403200" cy="403200"/>
            </a:xfrm>
            <a:prstGeom prst="ellipse">
              <a:avLst/>
            </a:prstGeom>
            <a:gradFill rotWithShape="0">
              <a:gsLst>
                <a:gs pos="0">
                  <a:srgbClr val="10e470">
                    <a:alpha val="85098"/>
                  </a:srgbClr>
                </a:gs>
                <a:gs pos="100000">
                  <a:srgbClr val="0a90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59200" y="3666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012760" y="4329000"/>
            <a:ext cx="5070600" cy="530280"/>
            <a:chOff x="2012760" y="4329000"/>
            <a:chExt cx="5070600" cy="530280"/>
          </a:xfrm>
        </p:grpSpPr>
        <p:sp>
          <p:nvSpPr>
            <p:cNvPr id="201" name=""/>
            <p:cNvSpPr/>
            <p:nvPr/>
          </p:nvSpPr>
          <p:spPr>
            <a:xfrm>
              <a:off x="2257560" y="4329000"/>
              <a:ext cx="482580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21000" y="4405320"/>
              <a:ext cx="41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48040" y="4438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012400" y="4403880"/>
              <a:ext cx="422280" cy="422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023920" y="4413240"/>
              <a:ext cx="403200" cy="403200"/>
            </a:xfrm>
            <a:prstGeom prst="ellipse">
              <a:avLst/>
            </a:prstGeom>
            <a:gradFill rotWithShape="0">
              <a:gsLst>
                <a:gs pos="0">
                  <a:srgbClr val="ca55f9">
                    <a:alpha val="85098"/>
                  </a:srgbClr>
                </a:gs>
                <a:gs pos="100000">
                  <a:srgbClr val="7f359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5960" y="4429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012760" y="5091120"/>
            <a:ext cx="5064480" cy="530280"/>
            <a:chOff x="2012760" y="5091120"/>
            <a:chExt cx="5064480" cy="530280"/>
          </a:xfrm>
        </p:grpSpPr>
        <p:sp>
          <p:nvSpPr>
            <p:cNvPr id="208" name=""/>
            <p:cNvSpPr/>
            <p:nvPr/>
          </p:nvSpPr>
          <p:spPr>
            <a:xfrm>
              <a:off x="2251080" y="5091120"/>
              <a:ext cx="4826160" cy="530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14520" y="5167440"/>
              <a:ext cx="41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012400" y="5165640"/>
              <a:ext cx="422280" cy="4222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023920" y="5175360"/>
              <a:ext cx="403200" cy="403200"/>
            </a:xfrm>
            <a:prstGeom prst="ellipse">
              <a:avLst/>
            </a:prstGeom>
            <a:gradFill rotWithShape="0">
              <a:gsLst>
                <a:gs pos="0">
                  <a:srgbClr val="4d98e3">
                    <a:alpha val="85098"/>
                  </a:srgbClr>
                </a:gs>
                <a:gs pos="100000">
                  <a:srgbClr val="30608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5191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14:08Z</dcterms:modified>
  <cp:revision>96</cp:revision>
  <dc:subject/>
  <dc:title>Contents Design</dc:title>
</cp:coreProperties>
</file>