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F1A3-5603-4462-B70D-6D9864D7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7966-7829-4DB2-A5EB-14EEF79A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74A9-89F4-457B-AAAD-0FD3F3CD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3653-1CFF-497D-8D4E-71BE2848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90A3-8907-462D-811B-C691A8D7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055B-7707-4319-99A8-D0EA1572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9FDA-2A3B-487E-98FE-B751827B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D0C3-B1C9-49AC-B0B4-C6ECBA07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8AAF-8F14-4067-B99C-387AA1EF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CA0A-EFC2-4B38-91AF-401BF1DE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93F5-FF61-428D-BA1D-DADAECD8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5B7B-698A-4BC3-BDDD-EF860BB7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D8A1-7111-4677-94AA-C3D723F2A33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133720" y="2209680"/>
            <a:ext cx="5028840" cy="711360"/>
            <a:chOff x="2133720" y="2209680"/>
            <a:chExt cx="5028840" cy="711360"/>
          </a:xfrm>
        </p:grpSpPr>
        <p:sp>
          <p:nvSpPr>
            <p:cNvPr id="43" name=""/>
            <p:cNvSpPr/>
            <p:nvPr/>
          </p:nvSpPr>
          <p:spPr>
            <a:xfrm>
              <a:off x="2298240" y="2619360"/>
              <a:ext cx="4699440" cy="3016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133720" y="2209680"/>
              <a:ext cx="5028840" cy="623880"/>
            </a:xfrm>
            <a:prstGeom prst="rect">
              <a:avLst/>
            </a:prstGeom>
            <a:gradFill rotWithShape="0">
              <a:gsLst>
                <a:gs pos="0">
                  <a:srgbClr val="6eecc8"/>
                </a:gs>
                <a:gs pos="100000">
                  <a:srgbClr val="c9f7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3632040" y="228600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133720" y="3048120"/>
            <a:ext cx="5028840" cy="710640"/>
            <a:chOff x="2133720" y="3048120"/>
            <a:chExt cx="5028840" cy="710640"/>
          </a:xfrm>
        </p:grpSpPr>
        <p:sp>
          <p:nvSpPr>
            <p:cNvPr id="47" name=""/>
            <p:cNvSpPr/>
            <p:nvPr/>
          </p:nvSpPr>
          <p:spPr>
            <a:xfrm>
              <a:off x="2298240" y="3457440"/>
              <a:ext cx="4699440" cy="30132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133720" y="3048120"/>
              <a:ext cx="5028840" cy="623520"/>
            </a:xfrm>
            <a:prstGeom prst="rect">
              <a:avLst/>
            </a:prstGeom>
            <a:gradFill rotWithShape="0">
              <a:gsLst>
                <a:gs pos="0">
                  <a:srgbClr val="eab764"/>
                </a:gs>
                <a:gs pos="100000">
                  <a:srgbClr val="f5dfb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3632040" y="312408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133720" y="3886200"/>
            <a:ext cx="5028840" cy="711360"/>
            <a:chOff x="2133720" y="3886200"/>
            <a:chExt cx="5028840" cy="711360"/>
          </a:xfrm>
        </p:grpSpPr>
        <p:sp>
          <p:nvSpPr>
            <p:cNvPr id="51" name=""/>
            <p:cNvSpPr/>
            <p:nvPr/>
          </p:nvSpPr>
          <p:spPr>
            <a:xfrm>
              <a:off x="2298240" y="4295880"/>
              <a:ext cx="4699440" cy="3016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133720" y="3886200"/>
              <a:ext cx="5028840" cy="623880"/>
            </a:xfrm>
            <a:prstGeom prst="rect">
              <a:avLst/>
            </a:prstGeom>
            <a:gradFill rotWithShape="0">
              <a:gsLst>
                <a:gs pos="0">
                  <a:srgbClr val="f2de78"/>
                </a:gs>
                <a:gs pos="100000">
                  <a:srgbClr val="fbf7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3632040" y="39625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133720" y="4724280"/>
            <a:ext cx="5028840" cy="711360"/>
            <a:chOff x="2133720" y="4724280"/>
            <a:chExt cx="5028840" cy="711360"/>
          </a:xfrm>
        </p:grpSpPr>
        <p:sp>
          <p:nvSpPr>
            <p:cNvPr id="55" name=""/>
            <p:cNvSpPr/>
            <p:nvPr/>
          </p:nvSpPr>
          <p:spPr>
            <a:xfrm>
              <a:off x="2298240" y="5133960"/>
              <a:ext cx="4699440" cy="3016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33720" y="4724280"/>
              <a:ext cx="5028840" cy="623880"/>
            </a:xfrm>
            <a:prstGeom prst="rect">
              <a:avLst/>
            </a:prstGeom>
            <a:gradFill rotWithShape="0">
              <a:gsLst>
                <a:gs pos="0">
                  <a:srgbClr val="9eb0fe"/>
                </a:gs>
                <a:gs pos="100000">
                  <a:srgbClr val="ccd5f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632040" y="480060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2057400" y="3886200"/>
            <a:ext cx="5028840" cy="711360"/>
            <a:chOff x="2057400" y="3886200"/>
            <a:chExt cx="5028840" cy="711360"/>
          </a:xfrm>
        </p:grpSpPr>
        <p:sp>
          <p:nvSpPr>
            <p:cNvPr id="59" name=""/>
            <p:cNvSpPr/>
            <p:nvPr/>
          </p:nvSpPr>
          <p:spPr>
            <a:xfrm>
              <a:off x="2221920" y="4295880"/>
              <a:ext cx="4699440" cy="3016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57400" y="3886200"/>
              <a:ext cx="5028840" cy="623880"/>
            </a:xfrm>
            <a:prstGeom prst="rect">
              <a:avLst/>
            </a:prstGeom>
            <a:gradFill rotWithShape="0">
              <a:gsLst>
                <a:gs pos="0">
                  <a:srgbClr val="77e3ad"/>
                </a:gs>
                <a:gs pos="100000">
                  <a:srgbClr val="afed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093120" y="39625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057400" y="3022560"/>
            <a:ext cx="5028840" cy="711360"/>
            <a:chOff x="2057400" y="3022560"/>
            <a:chExt cx="5028840" cy="711360"/>
          </a:xfrm>
        </p:grpSpPr>
        <p:sp>
          <p:nvSpPr>
            <p:cNvPr id="63" name=""/>
            <p:cNvSpPr/>
            <p:nvPr/>
          </p:nvSpPr>
          <p:spPr>
            <a:xfrm>
              <a:off x="2221920" y="3432240"/>
              <a:ext cx="4699440" cy="3016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57400" y="3022560"/>
              <a:ext cx="5028840" cy="623880"/>
            </a:xfrm>
            <a:prstGeom prst="rect">
              <a:avLst/>
            </a:prstGeom>
            <a:gradFill rotWithShape="0">
              <a:gsLst>
                <a:gs pos="0">
                  <a:srgbClr val="eab764"/>
                </a:gs>
                <a:gs pos="100000">
                  <a:srgbClr val="f5dfb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3093120" y="309888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057400" y="2031840"/>
            <a:ext cx="5028840" cy="711360"/>
            <a:chOff x="2057400" y="2031840"/>
            <a:chExt cx="5028840" cy="711360"/>
          </a:xfrm>
        </p:grpSpPr>
        <p:sp>
          <p:nvSpPr>
            <p:cNvPr id="67" name=""/>
            <p:cNvSpPr/>
            <p:nvPr/>
          </p:nvSpPr>
          <p:spPr>
            <a:xfrm>
              <a:off x="2221920" y="2441520"/>
              <a:ext cx="4699440" cy="3016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57400" y="2031840"/>
              <a:ext cx="5028840" cy="623880"/>
            </a:xfrm>
            <a:prstGeom prst="rect">
              <a:avLst/>
            </a:prstGeom>
            <a:gradFill rotWithShape="0">
              <a:gsLst>
                <a:gs pos="0">
                  <a:srgbClr val="dacb5e"/>
                </a:gs>
                <a:gs pos="100000">
                  <a:srgbClr val="f6f3d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093120" y="210816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057400" y="4851360"/>
            <a:ext cx="5028840" cy="711360"/>
            <a:chOff x="2057400" y="4851360"/>
            <a:chExt cx="5028840" cy="711360"/>
          </a:xfrm>
        </p:grpSpPr>
        <p:sp>
          <p:nvSpPr>
            <p:cNvPr id="71" name=""/>
            <p:cNvSpPr/>
            <p:nvPr/>
          </p:nvSpPr>
          <p:spPr>
            <a:xfrm>
              <a:off x="2221920" y="5261040"/>
              <a:ext cx="4699440" cy="3016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57400" y="4851360"/>
              <a:ext cx="5028840" cy="623880"/>
            </a:xfrm>
            <a:prstGeom prst="rect">
              <a:avLst/>
            </a:prstGeom>
            <a:gradFill rotWithShape="0">
              <a:gsLst>
                <a:gs pos="0">
                  <a:srgbClr val="9eb0fe"/>
                </a:gs>
                <a:gs pos="100000">
                  <a:srgbClr val="ccd5f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3093120" y="492768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DugCheun Kang</cp:lastModifiedBy>
  <dcterms:modified xsi:type="dcterms:W3CDTF">2004-11-09T01:03:36Z</dcterms:modified>
  <cp:revision>93</cp:revision>
  <dc:subject/>
  <dc:title>Contents Design</dc:title>
</cp:coreProperties>
</file>