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32D-085F-428A-885F-F9B1312D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30A-F998-4778-B2E1-92215A16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D17-2512-467C-9166-B695C29B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3A24-63A8-4B53-910F-85BA62DC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894-9E66-469D-B1EA-5AF293B7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616-69E9-4C03-AFAC-1CFE1515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6DF-5AD2-4D25-87F8-08F8A5B1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F15-5969-4570-B8B7-0AAADCB3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BBF-7851-4B34-882E-45CB29C4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204-36E0-41EA-A729-252D3B10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898-B5EC-4FFA-83BE-03970616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D6E-7C8E-40E1-9051-D8D67535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EC79-7F09-4007-A6BD-4765B44A54B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4c70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2002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241600">
            <a:off x="1109160" y="2599920"/>
            <a:ext cx="6615360" cy="291960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6f6f6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00920" y="38098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our 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182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209680"/>
            <a:ext cx="3429000" cy="1600200"/>
          </a:xfrm>
          <a:custGeom>
            <a:avLst/>
            <a:gdLst/>
            <a:ahLst/>
            <a:rect l="l" t="t" r="r" b="b"/>
            <a:pathLst>
              <a:path w="2160" h="1008">
                <a:moveTo>
                  <a:pt x="0" y="0"/>
                </a:moveTo>
                <a:lnTo>
                  <a:pt x="1200" y="0"/>
                </a:lnTo>
                <a:lnTo>
                  <a:pt x="2160" y="1008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447920" y="3048120"/>
            <a:ext cx="1295280" cy="1301760"/>
            <a:chOff x="1447920" y="3048120"/>
            <a:chExt cx="1295280" cy="1301760"/>
          </a:xfrm>
        </p:grpSpPr>
        <p:sp>
          <p:nvSpPr>
            <p:cNvPr id="47" name=""/>
            <p:cNvSpPr/>
            <p:nvPr/>
          </p:nvSpPr>
          <p:spPr>
            <a:xfrm>
              <a:off x="1447920" y="3048120"/>
              <a:ext cx="1295280" cy="1301760"/>
            </a:xfrm>
            <a:prstGeom prst="ellipse">
              <a:avLst/>
            </a:prstGeom>
            <a:gradFill rotWithShape="0">
              <a:gsLst>
                <a:gs pos="0">
                  <a:srgbClr val="e9940b"/>
                </a:gs>
                <a:gs pos="100000">
                  <a:srgbClr val="482e0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447920" y="3048120"/>
              <a:ext cx="100332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600200" y="35053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809880" y="1746360"/>
            <a:ext cx="1295640" cy="1301760"/>
            <a:chOff x="3809880" y="1746360"/>
            <a:chExt cx="1295640" cy="1301760"/>
          </a:xfrm>
        </p:grpSpPr>
        <p:sp>
          <p:nvSpPr>
            <p:cNvPr id="51" name=""/>
            <p:cNvSpPr/>
            <p:nvPr/>
          </p:nvSpPr>
          <p:spPr>
            <a:xfrm>
              <a:off x="3809880" y="1746360"/>
              <a:ext cx="1295640" cy="13017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3809880" y="1752480"/>
              <a:ext cx="10033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962520" y="220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629400" y="2057400"/>
            <a:ext cx="1219320" cy="1301760"/>
            <a:chOff x="6629400" y="2057400"/>
            <a:chExt cx="1219320" cy="1301760"/>
          </a:xfrm>
        </p:grpSpPr>
        <p:sp>
          <p:nvSpPr>
            <p:cNvPr id="55" name=""/>
            <p:cNvSpPr/>
            <p:nvPr/>
          </p:nvSpPr>
          <p:spPr>
            <a:xfrm>
              <a:off x="6629400" y="2057400"/>
              <a:ext cx="1219320" cy="130176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1f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629400" y="2057400"/>
              <a:ext cx="10033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772320" y="2514600"/>
              <a:ext cx="9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876920" y="4330800"/>
            <a:ext cx="1295280" cy="1307880"/>
            <a:chOff x="4876920" y="4330800"/>
            <a:chExt cx="1295280" cy="1307880"/>
          </a:xfrm>
        </p:grpSpPr>
        <p:sp>
          <p:nvSpPr>
            <p:cNvPr id="59" name=""/>
            <p:cNvSpPr/>
            <p:nvPr/>
          </p:nvSpPr>
          <p:spPr>
            <a:xfrm>
              <a:off x="4876920" y="434340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36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4876920" y="4330800"/>
              <a:ext cx="100332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39720" y="4800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816200" y="4952880"/>
            <a:ext cx="1307880" cy="1295640"/>
            <a:chOff x="1816200" y="4952880"/>
            <a:chExt cx="1307880" cy="1295640"/>
          </a:xfrm>
        </p:grpSpPr>
        <p:sp>
          <p:nvSpPr>
            <p:cNvPr id="63" name=""/>
            <p:cNvSpPr/>
            <p:nvPr/>
          </p:nvSpPr>
          <p:spPr>
            <a:xfrm>
              <a:off x="1828800" y="495288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c457d3"/>
                </a:gs>
                <a:gs pos="100000">
                  <a:srgbClr val="451e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1816200" y="4952880"/>
              <a:ext cx="10033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091600" y="5410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4c70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0241600">
            <a:off x="1109160" y="2599920"/>
            <a:ext cx="6615360" cy="291960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6f6f6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3048120"/>
            <a:ext cx="1295280" cy="130176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8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41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43434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365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41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00920" y="38098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our 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6640" y="182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209680"/>
            <a:ext cx="3429000" cy="1600200"/>
          </a:xfrm>
          <a:custGeom>
            <a:avLst/>
            <a:gdLst/>
            <a:ahLst/>
            <a:rect l="l" t="t" r="r" b="b"/>
            <a:pathLst>
              <a:path w="2160" h="1008">
                <a:moveTo>
                  <a:pt x="0" y="0"/>
                </a:moveTo>
                <a:lnTo>
                  <a:pt x="1200" y="0"/>
                </a:lnTo>
                <a:lnTo>
                  <a:pt x="2160" y="1008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746360"/>
            <a:ext cx="1295640" cy="130176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0f3f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41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057400"/>
            <a:ext cx="1219320" cy="130176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1f2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41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9528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c457d3"/>
              </a:gs>
              <a:gs pos="100000">
                <a:srgbClr val="451e4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41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22035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72320" y="25146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39720" y="48006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91600" y="54100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 2002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241600">
            <a:off x="1142640" y="2590560"/>
            <a:ext cx="6615000" cy="291924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46464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00920" y="38098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Your 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640" y="182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2209680"/>
            <a:ext cx="3429000" cy="1600200"/>
          </a:xfrm>
          <a:custGeom>
            <a:avLst/>
            <a:gdLst/>
            <a:ahLst/>
            <a:rect l="l" t="t" r="r" b="b"/>
            <a:pathLst>
              <a:path w="2160" h="1008">
                <a:moveTo>
                  <a:pt x="0" y="0"/>
                </a:moveTo>
                <a:lnTo>
                  <a:pt x="1200" y="0"/>
                </a:lnTo>
                <a:lnTo>
                  <a:pt x="2160" y="1008"/>
                </a:lnTo>
              </a:path>
            </a:pathLst>
          </a:custGeom>
          <a:noFill/>
          <a:ln w="9360">
            <a:solidFill>
              <a:srgbClr val="5f5f5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048120"/>
            <a:ext cx="1295280" cy="1301760"/>
          </a:xfrm>
          <a:prstGeom prst="ellipse">
            <a:avLst/>
          </a:prstGeom>
          <a:gradFill rotWithShape="0">
            <a:gsLst>
              <a:gs pos="0">
                <a:srgbClr val="dceda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46505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43160" y="3048120"/>
            <a:ext cx="1003320" cy="1079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0020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1746360"/>
            <a:ext cx="1295640" cy="1301760"/>
          </a:xfrm>
          <a:prstGeom prst="ellipse">
            <a:avLst/>
          </a:prstGeom>
          <a:gradFill rotWithShape="0">
            <a:gsLst>
              <a:gs pos="0">
                <a:srgbClr val="f6fafc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46505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733920" y="1739880"/>
            <a:ext cx="1003320" cy="107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62520" y="22035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057400"/>
            <a:ext cx="1219320" cy="1301760"/>
          </a:xfrm>
          <a:prstGeom prst="ellipse">
            <a:avLst/>
          </a:prstGeom>
          <a:gradFill rotWithShape="0">
            <a:gsLst>
              <a:gs pos="0">
                <a:srgbClr val="dcbafe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46505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524640" y="2044800"/>
            <a:ext cx="1003320" cy="1079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72320" y="25146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43434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fee2b8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46505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800600" y="4343400"/>
            <a:ext cx="1003320" cy="107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39720" y="48006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9528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82e5fe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46505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739880" y="4915080"/>
            <a:ext cx="1003320" cy="107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91600" y="54100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241600">
            <a:off x="1142640" y="2590560"/>
            <a:ext cx="6615000" cy="291924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46464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00920" y="38098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Your 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640" y="182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209680"/>
            <a:ext cx="3429000" cy="1600200"/>
          </a:xfrm>
          <a:custGeom>
            <a:avLst/>
            <a:gdLst/>
            <a:ahLst/>
            <a:rect l="l" t="t" r="r" b="b"/>
            <a:pathLst>
              <a:path w="2160" h="1008">
                <a:moveTo>
                  <a:pt x="0" y="0"/>
                </a:moveTo>
                <a:lnTo>
                  <a:pt x="1200" y="0"/>
                </a:lnTo>
                <a:lnTo>
                  <a:pt x="2160" y="1008"/>
                </a:lnTo>
              </a:path>
            </a:pathLst>
          </a:custGeom>
          <a:noFill/>
          <a:ln w="9360">
            <a:solidFill>
              <a:srgbClr val="5f5f5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3048120"/>
            <a:ext cx="1295280" cy="1301760"/>
          </a:xfrm>
          <a:prstGeom prst="ellipse">
            <a:avLst/>
          </a:prstGeom>
          <a:gradFill rotWithShape="0">
            <a:gsLst>
              <a:gs pos="0">
                <a:srgbClr val="dceda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6d74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1746360"/>
            <a:ext cx="1295640" cy="1301760"/>
          </a:xfrm>
          <a:prstGeom prst="ellipse">
            <a:avLst/>
          </a:prstGeom>
          <a:gradFill rotWithShape="0">
            <a:gsLst>
              <a:gs pos="0">
                <a:srgbClr val="f6fafc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6d74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22035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057400"/>
            <a:ext cx="1219320" cy="1301760"/>
          </a:xfrm>
          <a:prstGeom prst="ellipse">
            <a:avLst/>
          </a:prstGeom>
          <a:gradFill rotWithShape="0">
            <a:gsLst>
              <a:gs pos="0">
                <a:srgbClr val="dcbafe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6d74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72320" y="25146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43434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fee2b8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6d74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39720" y="48006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49528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82e5fe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6d74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91600" y="54100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19T01:41:43Z</dcterms:modified>
  <cp:revision>99</cp:revision>
  <dc:subject/>
  <dc:title>Contents Design</dc:title>
</cp:coreProperties>
</file>