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1DA-C96D-4AC1-BFFF-9A4BD4E1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06B-6AF9-41D9-8BE7-13164B44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B8E-85F2-41F7-B3FC-83F2F0D3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58D-80C4-4E7C-B125-937CDBF8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7EE-D1C5-4B8E-B524-ACF8FA92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CD9-1065-49D3-B7AA-C18C13B6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D58-DC47-4DA3-A3FF-8BB9543E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858-6EF2-4243-B705-48FD4F5D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733-B463-467E-904B-744040BE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F9A4-F045-4150-907C-235DDA67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B4A-8644-4302-9512-9C4E533A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B18C-8C6C-425A-805E-E8EF886C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3E10-8577-4C49-A41D-82AC9160955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4c70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2002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241600">
            <a:off x="1109160" y="2599920"/>
            <a:ext cx="6615360" cy="291960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6f6f6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00920" y="38098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our 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1828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209680"/>
            <a:ext cx="3429000" cy="1600200"/>
          </a:xfrm>
          <a:custGeom>
            <a:avLst/>
            <a:gdLst/>
            <a:ahLst/>
            <a:rect l="l" t="t" r="r" b="b"/>
            <a:pathLst>
              <a:path w="2160" h="1008">
                <a:moveTo>
                  <a:pt x="0" y="0"/>
                </a:moveTo>
                <a:lnTo>
                  <a:pt x="1200" y="0"/>
                </a:lnTo>
                <a:lnTo>
                  <a:pt x="2160" y="1008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447920" y="3048120"/>
            <a:ext cx="1295280" cy="1301760"/>
            <a:chOff x="1447920" y="3048120"/>
            <a:chExt cx="1295280" cy="1301760"/>
          </a:xfrm>
        </p:grpSpPr>
        <p:sp>
          <p:nvSpPr>
            <p:cNvPr id="47" name=""/>
            <p:cNvSpPr/>
            <p:nvPr/>
          </p:nvSpPr>
          <p:spPr>
            <a:xfrm>
              <a:off x="1447920" y="3048120"/>
              <a:ext cx="1295280" cy="1301760"/>
            </a:xfrm>
            <a:prstGeom prst="ellipse">
              <a:avLst/>
            </a:prstGeom>
            <a:gradFill rotWithShape="0">
              <a:gsLst>
                <a:gs pos="0">
                  <a:srgbClr val="e9940b"/>
                </a:gs>
                <a:gs pos="100000">
                  <a:srgbClr val="482e0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447920" y="3048120"/>
              <a:ext cx="100332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600200" y="35053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809880" y="1746360"/>
            <a:ext cx="1295640" cy="1301760"/>
            <a:chOff x="3809880" y="1746360"/>
            <a:chExt cx="1295640" cy="1301760"/>
          </a:xfrm>
        </p:grpSpPr>
        <p:sp>
          <p:nvSpPr>
            <p:cNvPr id="51" name=""/>
            <p:cNvSpPr/>
            <p:nvPr/>
          </p:nvSpPr>
          <p:spPr>
            <a:xfrm>
              <a:off x="3809880" y="1746360"/>
              <a:ext cx="1295640" cy="13017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3809880" y="1752480"/>
              <a:ext cx="10033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962520" y="220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629400" y="2057400"/>
            <a:ext cx="1219320" cy="1301760"/>
            <a:chOff x="6629400" y="2057400"/>
            <a:chExt cx="1219320" cy="1301760"/>
          </a:xfrm>
        </p:grpSpPr>
        <p:sp>
          <p:nvSpPr>
            <p:cNvPr id="55" name=""/>
            <p:cNvSpPr/>
            <p:nvPr/>
          </p:nvSpPr>
          <p:spPr>
            <a:xfrm>
              <a:off x="6629400" y="2057400"/>
              <a:ext cx="1219320" cy="130176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1f2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629400" y="2057400"/>
              <a:ext cx="10033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772320" y="2514600"/>
              <a:ext cx="9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876920" y="4330800"/>
            <a:ext cx="1295280" cy="1307880"/>
            <a:chOff x="4876920" y="4330800"/>
            <a:chExt cx="1295280" cy="1307880"/>
          </a:xfrm>
        </p:grpSpPr>
        <p:sp>
          <p:nvSpPr>
            <p:cNvPr id="59" name=""/>
            <p:cNvSpPr/>
            <p:nvPr/>
          </p:nvSpPr>
          <p:spPr>
            <a:xfrm>
              <a:off x="4876920" y="434340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36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4876920" y="4330800"/>
              <a:ext cx="100332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39720" y="4800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816200" y="4952880"/>
            <a:ext cx="1307880" cy="1295640"/>
            <a:chOff x="1816200" y="4952880"/>
            <a:chExt cx="1307880" cy="1295640"/>
          </a:xfrm>
        </p:grpSpPr>
        <p:sp>
          <p:nvSpPr>
            <p:cNvPr id="63" name=""/>
            <p:cNvSpPr/>
            <p:nvPr/>
          </p:nvSpPr>
          <p:spPr>
            <a:xfrm>
              <a:off x="1828800" y="495288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c457d3"/>
                </a:gs>
                <a:gs pos="100000">
                  <a:srgbClr val="451e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1816200" y="4952880"/>
              <a:ext cx="10033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091600" y="5410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4c70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br>
              <a:rPr sz="3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0241600">
            <a:off x="1109160" y="2599920"/>
            <a:ext cx="6615360" cy="291960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6f6f6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3048120"/>
            <a:ext cx="1295280" cy="130176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8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41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43434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365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41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00920" y="38098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our 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6640" y="1828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209680"/>
            <a:ext cx="3429000" cy="1600200"/>
          </a:xfrm>
          <a:custGeom>
            <a:avLst/>
            <a:gdLst/>
            <a:ahLst/>
            <a:rect l="l" t="t" r="r" b="b"/>
            <a:pathLst>
              <a:path w="2160" h="1008">
                <a:moveTo>
                  <a:pt x="0" y="0"/>
                </a:moveTo>
                <a:lnTo>
                  <a:pt x="1200" y="0"/>
                </a:lnTo>
                <a:lnTo>
                  <a:pt x="2160" y="1008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1746360"/>
            <a:ext cx="1295640" cy="130176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0f3f3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41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2057400"/>
            <a:ext cx="1219320" cy="130176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1f2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41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952880"/>
            <a:ext cx="1295280" cy="1295640"/>
          </a:xfrm>
          <a:prstGeom prst="ellipse">
            <a:avLst/>
          </a:prstGeom>
          <a:gradFill rotWithShape="0">
            <a:gsLst>
              <a:gs pos="0">
                <a:srgbClr val="c457d3"/>
              </a:gs>
              <a:gs pos="100000">
                <a:srgbClr val="451e4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41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22035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72320" y="25146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39720" y="48006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91600" y="54100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br>
              <a:rPr sz="3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 2002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241600">
            <a:off x="1142640" y="2590560"/>
            <a:ext cx="6615000" cy="291924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46464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00920" y="38098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Your 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6640" y="1828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2209680"/>
            <a:ext cx="3429000" cy="1600200"/>
          </a:xfrm>
          <a:custGeom>
            <a:avLst/>
            <a:gdLst/>
            <a:ahLst/>
            <a:rect l="l" t="t" r="r" b="b"/>
            <a:pathLst>
              <a:path w="2160" h="1008">
                <a:moveTo>
                  <a:pt x="0" y="0"/>
                </a:moveTo>
                <a:lnTo>
                  <a:pt x="1200" y="0"/>
                </a:lnTo>
                <a:lnTo>
                  <a:pt x="2160" y="1008"/>
                </a:lnTo>
              </a:path>
            </a:pathLst>
          </a:custGeom>
          <a:noFill/>
          <a:ln w="9360">
            <a:solidFill>
              <a:srgbClr val="5f5f5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048120"/>
            <a:ext cx="1295280" cy="1301760"/>
          </a:xfrm>
          <a:prstGeom prst="ellipse">
            <a:avLst/>
          </a:prstGeom>
          <a:gradFill rotWithShape="0">
            <a:gsLst>
              <a:gs pos="0">
                <a:srgbClr val="dceda9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46505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43160" y="3048120"/>
            <a:ext cx="1003320" cy="1079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0020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1746360"/>
            <a:ext cx="1295640" cy="1301760"/>
          </a:xfrm>
          <a:prstGeom prst="ellipse">
            <a:avLst/>
          </a:prstGeom>
          <a:gradFill rotWithShape="0">
            <a:gsLst>
              <a:gs pos="0">
                <a:srgbClr val="f6fafc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46505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733920" y="1739880"/>
            <a:ext cx="1003320" cy="107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62520" y="22035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057400"/>
            <a:ext cx="1219320" cy="1301760"/>
          </a:xfrm>
          <a:prstGeom prst="ellipse">
            <a:avLst/>
          </a:prstGeom>
          <a:gradFill rotWithShape="0">
            <a:gsLst>
              <a:gs pos="0">
                <a:srgbClr val="dcbafe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46505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524640" y="2044800"/>
            <a:ext cx="1003320" cy="1079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72320" y="25146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43434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fee2b8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46505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800600" y="4343400"/>
            <a:ext cx="1003320" cy="107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39720" y="48006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952880"/>
            <a:ext cx="1295280" cy="1295640"/>
          </a:xfrm>
          <a:prstGeom prst="ellipse">
            <a:avLst/>
          </a:prstGeom>
          <a:gradFill rotWithShape="0">
            <a:gsLst>
              <a:gs pos="0">
                <a:srgbClr val="82e5fe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46505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739880" y="4915080"/>
            <a:ext cx="1003320" cy="107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91600" y="54100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br>
              <a:rPr sz="3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241600">
            <a:off x="1142640" y="2590560"/>
            <a:ext cx="6615000" cy="291924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46464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00920" y="38098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Your 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6640" y="1828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209680"/>
            <a:ext cx="3429000" cy="1600200"/>
          </a:xfrm>
          <a:custGeom>
            <a:avLst/>
            <a:gdLst/>
            <a:ahLst/>
            <a:rect l="l" t="t" r="r" b="b"/>
            <a:pathLst>
              <a:path w="2160" h="1008">
                <a:moveTo>
                  <a:pt x="0" y="0"/>
                </a:moveTo>
                <a:lnTo>
                  <a:pt x="1200" y="0"/>
                </a:lnTo>
                <a:lnTo>
                  <a:pt x="2160" y="1008"/>
                </a:lnTo>
              </a:path>
            </a:pathLst>
          </a:custGeom>
          <a:noFill/>
          <a:ln w="9360">
            <a:solidFill>
              <a:srgbClr val="5f5f5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3048120"/>
            <a:ext cx="1295280" cy="1301760"/>
          </a:xfrm>
          <a:prstGeom prst="ellipse">
            <a:avLst/>
          </a:prstGeom>
          <a:gradFill rotWithShape="0">
            <a:gsLst>
              <a:gs pos="0">
                <a:srgbClr val="dceda9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6d74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1746360"/>
            <a:ext cx="1295640" cy="1301760"/>
          </a:xfrm>
          <a:prstGeom prst="ellipse">
            <a:avLst/>
          </a:prstGeom>
          <a:gradFill rotWithShape="0">
            <a:gsLst>
              <a:gs pos="0">
                <a:srgbClr val="f6fafc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6d74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22035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057400"/>
            <a:ext cx="1219320" cy="1301760"/>
          </a:xfrm>
          <a:prstGeom prst="ellipse">
            <a:avLst/>
          </a:prstGeom>
          <a:gradFill rotWithShape="0">
            <a:gsLst>
              <a:gs pos="0">
                <a:srgbClr val="dcbafe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6d74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72320" y="25146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43434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fee2b8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6d74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39720" y="48006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4952880"/>
            <a:ext cx="1295280" cy="1295640"/>
          </a:xfrm>
          <a:prstGeom prst="ellipse">
            <a:avLst/>
          </a:prstGeom>
          <a:gradFill rotWithShape="0">
            <a:gsLst>
              <a:gs pos="0">
                <a:srgbClr val="82e5fe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6d74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91600" y="54100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19T01:41:43Z</dcterms:modified>
  <cp:revision>99</cp:revision>
  <dc:subject/>
  <dc:title>Contents Design</dc:title>
</cp:coreProperties>
</file>