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FDA-55BA-4FB1-B903-D9E8BBF2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E2F-094B-415A-906C-741FF59B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0DE-BFBA-41D4-B14C-29FE6E6C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CD6-3464-46DC-8445-2F851C40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443-E410-4577-B4A4-6EF9FB71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B30-2AA9-4CDE-A32C-500CB24F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1C9-6E7A-4931-A325-BD79999C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EFF-7432-4BC9-84EC-5B6D5BAD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54C-A1E6-45FB-9B72-ACB56DCE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5A6-32E2-49AE-B488-433817BB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ABC-F8C6-4777-9B51-EE04D40F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0A5-E2DA-4792-884C-A3C2B83C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5069-1D60-4F2F-83B8-8EA5176400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002f46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12400" y="2057400"/>
            <a:ext cx="3335760" cy="2928600"/>
            <a:chOff x="2912400" y="2057400"/>
            <a:chExt cx="3335760" cy="2928600"/>
          </a:xfrm>
        </p:grpSpPr>
        <p:sp>
          <p:nvSpPr>
            <p:cNvPr id="43" name=""/>
            <p:cNvSpPr/>
            <p:nvPr/>
          </p:nvSpPr>
          <p:spPr>
            <a:xfrm flipH="1" rot="10800000">
              <a:off x="4253400" y="4586040"/>
              <a:ext cx="593640" cy="3999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9d9fe"/>
                </a:gs>
                <a:gs pos="100000">
                  <a:srgbClr val="a1a1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16200000">
              <a:off x="2862720" y="3141720"/>
              <a:ext cx="538200" cy="4395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9d9fe"/>
                </a:gs>
                <a:gs pos="100000">
                  <a:srgbClr val="a1a1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5400000">
              <a:off x="5754960" y="3169080"/>
              <a:ext cx="571320" cy="4143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9d9fe"/>
                </a:gs>
                <a:gs pos="100000">
                  <a:srgbClr val="a1a1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98680" y="205740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44840" y="220176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7840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7840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1016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1016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8720" y="31240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d3a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4400" y="2286000"/>
            <a:ext cx="1828800" cy="2133720"/>
            <a:chOff x="914400" y="2286000"/>
            <a:chExt cx="1828800" cy="2133720"/>
          </a:xfrm>
        </p:grpSpPr>
        <p:sp>
          <p:nvSpPr>
            <p:cNvPr id="54" name=""/>
            <p:cNvSpPr/>
            <p:nvPr/>
          </p:nvSpPr>
          <p:spPr>
            <a:xfrm>
              <a:off x="914400" y="3657600"/>
              <a:ext cx="182880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2971800"/>
              <a:ext cx="182880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4400" y="2286000"/>
              <a:ext cx="182880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85000" y="25700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d3a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85000" y="32558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d3a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85000" y="39416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d3a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400800" y="2286000"/>
            <a:ext cx="1905120" cy="2133720"/>
            <a:chOff x="6400800" y="2286000"/>
            <a:chExt cx="1905120" cy="2133720"/>
          </a:xfrm>
        </p:grpSpPr>
        <p:sp>
          <p:nvSpPr>
            <p:cNvPr id="61" name=""/>
            <p:cNvSpPr/>
            <p:nvPr/>
          </p:nvSpPr>
          <p:spPr>
            <a:xfrm>
              <a:off x="6400800" y="3657600"/>
              <a:ext cx="190512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2971800"/>
              <a:ext cx="190512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00800" y="2286000"/>
              <a:ext cx="190512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70680" y="25700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d3a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70680" y="32558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d3a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70680" y="39416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d3a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362320" y="5210280"/>
            <a:ext cx="4343400" cy="644400"/>
            <a:chOff x="2362320" y="5210280"/>
            <a:chExt cx="4343400" cy="644400"/>
          </a:xfrm>
        </p:grpSpPr>
        <p:grpSp>
          <p:nvGrpSpPr>
            <p:cNvPr id="68" name=""/>
            <p:cNvGrpSpPr/>
            <p:nvPr/>
          </p:nvGrpSpPr>
          <p:grpSpPr>
            <a:xfrm>
              <a:off x="2362320" y="5210280"/>
              <a:ext cx="4343400" cy="644400"/>
              <a:chOff x="2362320" y="5210280"/>
              <a:chExt cx="4343400" cy="644400"/>
            </a:xfrm>
          </p:grpSpPr>
          <p:sp>
            <p:nvSpPr>
              <p:cNvPr id="69" name=""/>
              <p:cNvSpPr/>
              <p:nvPr/>
            </p:nvSpPr>
            <p:spPr>
              <a:xfrm>
                <a:off x="2362320" y="5210280"/>
                <a:ext cx="4343400" cy="644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2268b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438640" y="5257800"/>
                <a:ext cx="4215600" cy="533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166d7">
                      <a:alpha val="50196"/>
                    </a:srgbClr>
                  </a:gs>
                  <a:gs pos="100000">
                    <a:srgbClr val="8ab3e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2457360" y="5257800"/>
              <a:ext cx="4191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b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971080" y="2057400"/>
            <a:ext cx="3335760" cy="2928600"/>
            <a:chOff x="2971080" y="2057400"/>
            <a:chExt cx="3335760" cy="2928600"/>
          </a:xfrm>
        </p:grpSpPr>
        <p:sp>
          <p:nvSpPr>
            <p:cNvPr id="74" name=""/>
            <p:cNvSpPr/>
            <p:nvPr/>
          </p:nvSpPr>
          <p:spPr>
            <a:xfrm flipH="1" rot="10800000">
              <a:off x="4312080" y="4586040"/>
              <a:ext cx="593640" cy="3999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d6d6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6200000">
              <a:off x="2921400" y="3141720"/>
              <a:ext cx="538200" cy="4395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d6d6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5813640" y="3169080"/>
              <a:ext cx="571320" cy="4143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d6d6"/>
                </a:gs>
                <a:gs pos="100000">
                  <a:srgbClr val="0099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7360" y="205740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3520" y="220176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37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37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68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66a83"/>
                </a:gs>
                <a:gs pos="50000">
                  <a:srgbClr val="66c5f4"/>
                </a:gs>
                <a:gs pos="100000">
                  <a:srgbClr val="366a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68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3531b"/>
                </a:gs>
                <a:gs pos="100000">
                  <a:srgbClr val="eead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47400" y="31240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914400" y="2286000"/>
            <a:ext cx="1828800" cy="2133720"/>
            <a:chOff x="914400" y="2286000"/>
            <a:chExt cx="1828800" cy="2133720"/>
          </a:xfrm>
        </p:grpSpPr>
        <p:sp>
          <p:nvSpPr>
            <p:cNvPr id="85" name=""/>
            <p:cNvSpPr/>
            <p:nvPr/>
          </p:nvSpPr>
          <p:spPr>
            <a:xfrm>
              <a:off x="914400" y="3657600"/>
              <a:ext cx="182880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17"/>
                </a:gs>
                <a:gs pos="50000">
                  <a:srgbClr val="33cc33"/>
                </a:gs>
                <a:gs pos="100000">
                  <a:srgbClr val="175e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14400" y="2971800"/>
              <a:ext cx="182880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17"/>
                </a:gs>
                <a:gs pos="50000">
                  <a:srgbClr val="33cc33"/>
                </a:gs>
                <a:gs pos="100000">
                  <a:srgbClr val="175e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4400" y="2286000"/>
              <a:ext cx="182880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17"/>
                </a:gs>
                <a:gs pos="50000">
                  <a:srgbClr val="33cc33"/>
                </a:gs>
                <a:gs pos="100000">
                  <a:srgbClr val="175e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85000" y="25700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85000" y="32558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85000" y="39416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400800" y="2286000"/>
            <a:ext cx="1905120" cy="2133720"/>
            <a:chOff x="6400800" y="2286000"/>
            <a:chExt cx="1905120" cy="2133720"/>
          </a:xfrm>
        </p:grpSpPr>
        <p:sp>
          <p:nvSpPr>
            <p:cNvPr id="92" name=""/>
            <p:cNvSpPr/>
            <p:nvPr/>
          </p:nvSpPr>
          <p:spPr>
            <a:xfrm>
              <a:off x="6400800" y="3657600"/>
              <a:ext cx="190512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75"/>
                </a:gs>
                <a:gs pos="50000">
                  <a:srgbClr val="0099ff"/>
                </a:gs>
                <a:gs pos="100000">
                  <a:srgbClr val="00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2971800"/>
              <a:ext cx="190512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75"/>
                </a:gs>
                <a:gs pos="50000">
                  <a:srgbClr val="0099ff"/>
                </a:gs>
                <a:gs pos="100000">
                  <a:srgbClr val="00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2286000"/>
              <a:ext cx="1905120" cy="762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75"/>
                </a:gs>
                <a:gs pos="50000">
                  <a:srgbClr val="0099ff"/>
                </a:gs>
                <a:gs pos="100000">
                  <a:srgbClr val="00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69960" y="25700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69960" y="32558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69960" y="394164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362320" y="5210280"/>
            <a:ext cx="4343400" cy="644400"/>
            <a:chOff x="2362320" y="5210280"/>
            <a:chExt cx="4343400" cy="644400"/>
          </a:xfrm>
        </p:grpSpPr>
        <p:grpSp>
          <p:nvGrpSpPr>
            <p:cNvPr id="99" name=""/>
            <p:cNvGrpSpPr/>
            <p:nvPr/>
          </p:nvGrpSpPr>
          <p:grpSpPr>
            <a:xfrm>
              <a:off x="2362320" y="5210280"/>
              <a:ext cx="4343400" cy="644400"/>
              <a:chOff x="2362320" y="5210280"/>
              <a:chExt cx="4343400" cy="644400"/>
            </a:xfrm>
          </p:grpSpPr>
          <p:sp>
            <p:nvSpPr>
              <p:cNvPr id="100" name=""/>
              <p:cNvSpPr/>
              <p:nvPr/>
            </p:nvSpPr>
            <p:spPr>
              <a:xfrm>
                <a:off x="2362320" y="5210280"/>
                <a:ext cx="4343400" cy="644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2268b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38640" y="5257800"/>
                <a:ext cx="4215600" cy="533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166d7">
                      <a:alpha val="50196"/>
                    </a:srgbClr>
                  </a:gs>
                  <a:gs pos="100000">
                    <a:srgbClr val="8ab3e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457360" y="5257800"/>
              <a:ext cx="4191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b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42Z</dcterms:modified>
  <cp:revision>92</cp:revision>
  <dc:subject/>
  <dc:title>Contents Design</dc:title>
</cp:coreProperties>
</file>