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ED7-A063-4449-9AD1-4DDB6FFC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E3F-8A46-48F3-B867-67EC4271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DAD-064B-4C70-8D73-B329360A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40C-B858-4435-80B3-14A510F8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2B6-1E0D-44F9-987F-B7747977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0BE-8445-471F-B4C8-D0E93CD3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B2E-2061-476A-B2E7-700AA30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A22-AC53-4EA0-81AE-BA0A2334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0A5-0D61-4C91-B1BC-FF7A249A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E04-E868-458B-ABDA-950F6F9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BAB-89D7-4573-85BE-75D2FAF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3EE-823C-474F-9DD2-2428F518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4831-3A41-4259-941A-640B6D2D08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002f46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12400" y="2057400"/>
            <a:ext cx="3335760" cy="2928600"/>
            <a:chOff x="2912400" y="2057400"/>
            <a:chExt cx="3335760" cy="2928600"/>
          </a:xfrm>
        </p:grpSpPr>
        <p:sp>
          <p:nvSpPr>
            <p:cNvPr id="43" name=""/>
            <p:cNvSpPr/>
            <p:nvPr/>
          </p:nvSpPr>
          <p:spPr>
            <a:xfrm flipH="1" rot="10800000">
              <a:off x="4253400" y="4586040"/>
              <a:ext cx="593640" cy="3999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9d9fe"/>
                </a:gs>
                <a:gs pos="100000">
                  <a:srgbClr val="a1a1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6200000">
              <a:off x="2862720" y="3141720"/>
              <a:ext cx="538200" cy="4395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9d9fe"/>
                </a:gs>
                <a:gs pos="100000">
                  <a:srgbClr val="a1a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5400000">
              <a:off x="5754960" y="3169080"/>
              <a:ext cx="571320" cy="414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9d9fe"/>
                </a:gs>
                <a:gs pos="100000">
                  <a:srgbClr val="a1a1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9868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44840" y="220176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7840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7840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1016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1016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872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d3a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4400" y="2286000"/>
            <a:ext cx="1828800" cy="2133720"/>
            <a:chOff x="914400" y="2286000"/>
            <a:chExt cx="1828800" cy="2133720"/>
          </a:xfrm>
        </p:grpSpPr>
        <p:sp>
          <p:nvSpPr>
            <p:cNvPr id="54" name=""/>
            <p:cNvSpPr/>
            <p:nvPr/>
          </p:nvSpPr>
          <p:spPr>
            <a:xfrm>
              <a:off x="914400" y="36576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29718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22860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8500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8500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8500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400800" y="2286000"/>
            <a:ext cx="1905120" cy="2133720"/>
            <a:chOff x="6400800" y="2286000"/>
            <a:chExt cx="1905120" cy="2133720"/>
          </a:xfrm>
        </p:grpSpPr>
        <p:sp>
          <p:nvSpPr>
            <p:cNvPr id="61" name=""/>
            <p:cNvSpPr/>
            <p:nvPr/>
          </p:nvSpPr>
          <p:spPr>
            <a:xfrm>
              <a:off x="6400800" y="36576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29718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00800" y="22860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7068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7068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7068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362320" y="5210280"/>
            <a:ext cx="4343400" cy="644400"/>
            <a:chOff x="2362320" y="5210280"/>
            <a:chExt cx="4343400" cy="644400"/>
          </a:xfrm>
        </p:grpSpPr>
        <p:grpSp>
          <p:nvGrpSpPr>
            <p:cNvPr id="68" name=""/>
            <p:cNvGrpSpPr/>
            <p:nvPr/>
          </p:nvGrpSpPr>
          <p:grpSpPr>
            <a:xfrm>
              <a:off x="2362320" y="5210280"/>
              <a:ext cx="4343400" cy="644400"/>
              <a:chOff x="2362320" y="5210280"/>
              <a:chExt cx="4343400" cy="644400"/>
            </a:xfrm>
          </p:grpSpPr>
          <p:sp>
            <p:nvSpPr>
              <p:cNvPr id="69" name=""/>
              <p:cNvSpPr/>
              <p:nvPr/>
            </p:nvSpPr>
            <p:spPr>
              <a:xfrm>
                <a:off x="2362320" y="5210280"/>
                <a:ext cx="4343400" cy="64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2268b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438640" y="5257800"/>
                <a:ext cx="4215600" cy="533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166d7">
                      <a:alpha val="50196"/>
                    </a:srgbClr>
                  </a:gs>
                  <a:gs pos="100000">
                    <a:srgbClr val="8ab3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457360" y="525780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080" y="2057400"/>
            <a:ext cx="3335760" cy="2928600"/>
            <a:chOff x="2971080" y="2057400"/>
            <a:chExt cx="3335760" cy="2928600"/>
          </a:xfrm>
        </p:grpSpPr>
        <p:sp>
          <p:nvSpPr>
            <p:cNvPr id="74" name=""/>
            <p:cNvSpPr/>
            <p:nvPr/>
          </p:nvSpPr>
          <p:spPr>
            <a:xfrm flipH="1" rot="10800000">
              <a:off x="4312080" y="4586040"/>
              <a:ext cx="593640" cy="3999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d6d6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6200000">
              <a:off x="2921400" y="3141720"/>
              <a:ext cx="538200" cy="4395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d6d6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5813640" y="3169080"/>
              <a:ext cx="571320" cy="414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d6d6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736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3520" y="220176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37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37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68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68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3531b"/>
                </a:gs>
                <a:gs pos="100000">
                  <a:srgbClr val="eead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740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14400" y="2286000"/>
            <a:ext cx="1828800" cy="2133720"/>
            <a:chOff x="914400" y="2286000"/>
            <a:chExt cx="1828800" cy="2133720"/>
          </a:xfrm>
        </p:grpSpPr>
        <p:sp>
          <p:nvSpPr>
            <p:cNvPr id="85" name=""/>
            <p:cNvSpPr/>
            <p:nvPr/>
          </p:nvSpPr>
          <p:spPr>
            <a:xfrm>
              <a:off x="914400" y="36576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0" y="29718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4400" y="22860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500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8500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8500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400800" y="2286000"/>
            <a:ext cx="1905120" cy="2133720"/>
            <a:chOff x="6400800" y="2286000"/>
            <a:chExt cx="1905120" cy="2133720"/>
          </a:xfrm>
        </p:grpSpPr>
        <p:sp>
          <p:nvSpPr>
            <p:cNvPr id="92" name=""/>
            <p:cNvSpPr/>
            <p:nvPr/>
          </p:nvSpPr>
          <p:spPr>
            <a:xfrm>
              <a:off x="6400800" y="36576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29718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22860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6996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6996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6996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62320" y="5210280"/>
            <a:ext cx="4343400" cy="644400"/>
            <a:chOff x="2362320" y="5210280"/>
            <a:chExt cx="4343400" cy="644400"/>
          </a:xfrm>
        </p:grpSpPr>
        <p:grpSp>
          <p:nvGrpSpPr>
            <p:cNvPr id="99" name=""/>
            <p:cNvGrpSpPr/>
            <p:nvPr/>
          </p:nvGrpSpPr>
          <p:grpSpPr>
            <a:xfrm>
              <a:off x="2362320" y="5210280"/>
              <a:ext cx="4343400" cy="644400"/>
              <a:chOff x="2362320" y="5210280"/>
              <a:chExt cx="4343400" cy="644400"/>
            </a:xfrm>
          </p:grpSpPr>
          <p:sp>
            <p:nvSpPr>
              <p:cNvPr id="100" name=""/>
              <p:cNvSpPr/>
              <p:nvPr/>
            </p:nvSpPr>
            <p:spPr>
              <a:xfrm>
                <a:off x="2362320" y="5210280"/>
                <a:ext cx="4343400" cy="64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2268b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38640" y="5257800"/>
                <a:ext cx="4215600" cy="533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166d7">
                      <a:alpha val="50196"/>
                    </a:srgbClr>
                  </a:gs>
                  <a:gs pos="100000">
                    <a:srgbClr val="8ab3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457360" y="525780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42Z</dcterms:modified>
  <cp:revision>92</cp:revision>
  <dc:subject/>
  <dc:title>Contents Design</dc:title>
</cp:coreProperties>
</file>