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643-21EA-4FAE-BF39-B2AAC1BE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8FC-90AC-4DF3-A41D-34F5309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23C-B1D7-466B-8939-23575B8E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E99-9F82-4F07-B0D1-136BB9E9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42F-9B90-43AB-8E8D-FB3F1892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0D8-2D5F-4BBC-AC9B-2812635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E6C-ECDA-44F4-B3FE-52FD801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E0C-46B6-4E90-A0F6-BA03F15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555-5EBF-4A19-BAB3-8677A795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1CB-8CDD-49B2-AECF-82790B0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139-9F5C-448B-9625-3895AD6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210-B50B-4ED1-AC95-3F570B8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E475-8A00-4999-90E7-3A6926E1AE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914400" y="1752480"/>
            <a:ext cx="9296280" cy="4430880"/>
            <a:chOff x="-914400" y="1752480"/>
            <a:chExt cx="9296280" cy="4430880"/>
          </a:xfrm>
        </p:grpSpPr>
        <p:sp>
          <p:nvSpPr>
            <p:cNvPr id="43" name=""/>
            <p:cNvSpPr/>
            <p:nvPr/>
          </p:nvSpPr>
          <p:spPr>
            <a:xfrm rot="5400000">
              <a:off x="-914400" y="1752120"/>
              <a:ext cx="4430880" cy="443088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-675360" y="2080080"/>
              <a:ext cx="3768480" cy="3767040"/>
            </a:xfrm>
            <a:prstGeom prst="blockArc">
              <a:avLst>
                <a:gd name="adj1" fmla="val 10763036"/>
                <a:gd name="adj2" fmla="val 36964"/>
                <a:gd name="adj3" fmla="val 46556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83400" y="309420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695680" y="2281320"/>
              <a:ext cx="5195880" cy="530280"/>
              <a:chOff x="2695680" y="2281320"/>
              <a:chExt cx="5195880" cy="530280"/>
            </a:xfrm>
          </p:grpSpPr>
          <p:sp>
            <p:nvSpPr>
              <p:cNvPr id="47" name=""/>
              <p:cNvSpPr/>
              <p:nvPr/>
            </p:nvSpPr>
            <p:spPr>
              <a:xfrm>
                <a:off x="3065400" y="2281320"/>
                <a:ext cx="482616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99">
                      <a:alpha val="50196"/>
                    </a:srgbClr>
                  </a:gs>
                  <a:gs pos="100000">
                    <a:srgbClr val="33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2695680" y="2297160"/>
                <a:ext cx="501480" cy="501480"/>
                <a:chOff x="2695680" y="2297160"/>
                <a:chExt cx="501480" cy="5014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695680" y="2297160"/>
                  <a:ext cx="501480" cy="501480"/>
                </a:xfrm>
                <a:prstGeom prst="ellipse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43920" y="2347560"/>
                  <a:ext cx="405360" cy="40500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751840" y="2356920"/>
                  <a:ext cx="38700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00"/>
                    </a:gs>
                    <a:gs pos="100000">
                      <a:srgbClr val="ffff00">
                        <a:alpha val="85098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761200" y="2381040"/>
                  <a:ext cx="25236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e9940b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2768040" y="2370600"/>
                  <a:ext cx="348840" cy="34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c1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2777040" y="2351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7440" y="236700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098880" y="3009960"/>
              <a:ext cx="5197320" cy="528480"/>
              <a:chOff x="3098880" y="3009960"/>
              <a:chExt cx="5197320" cy="528480"/>
            </a:xfrm>
          </p:grpSpPr>
          <p:sp>
            <p:nvSpPr>
              <p:cNvPr id="57" name=""/>
              <p:cNvSpPr/>
              <p:nvPr/>
            </p:nvSpPr>
            <p:spPr>
              <a:xfrm>
                <a:off x="3468600" y="3009960"/>
                <a:ext cx="4827600" cy="52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99">
                      <a:alpha val="50196"/>
                    </a:srgbClr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3098880" y="3025800"/>
                <a:ext cx="501480" cy="501480"/>
                <a:chOff x="3098880" y="3025800"/>
                <a:chExt cx="501480" cy="5014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098880" y="3025800"/>
                  <a:ext cx="501480" cy="501480"/>
                </a:xfrm>
                <a:prstGeom prst="ellips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47120" y="3076200"/>
                  <a:ext cx="405360" cy="4050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155040" y="3085560"/>
                  <a:ext cx="38700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00"/>
                    </a:gs>
                    <a:gs pos="100000">
                      <a:srgbClr val="ffff00">
                        <a:alpha val="85098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164400" y="3109680"/>
                  <a:ext cx="25236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e9940b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171240" y="3099240"/>
                  <a:ext cx="348840" cy="34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c1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3192840" y="3095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58680" y="309564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84560" y="3736800"/>
              <a:ext cx="5197320" cy="528840"/>
              <a:chOff x="3184560" y="3736800"/>
              <a:chExt cx="5197320" cy="528840"/>
            </a:xfrm>
          </p:grpSpPr>
          <p:sp>
            <p:nvSpPr>
              <p:cNvPr id="67" name=""/>
              <p:cNvSpPr/>
              <p:nvPr/>
            </p:nvSpPr>
            <p:spPr>
              <a:xfrm>
                <a:off x="3556080" y="3736800"/>
                <a:ext cx="482580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99">
                      <a:alpha val="50196"/>
                    </a:srgbClr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3184560" y="3753000"/>
                <a:ext cx="501480" cy="501480"/>
                <a:chOff x="3184560" y="3753000"/>
                <a:chExt cx="501480" cy="5014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184560" y="3753000"/>
                  <a:ext cx="501480" cy="501480"/>
                </a:xfrm>
                <a:prstGeom prst="ellips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232800" y="3803400"/>
                  <a:ext cx="405360" cy="40500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40720" y="3812760"/>
                  <a:ext cx="38700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00"/>
                    </a:gs>
                    <a:gs pos="100000">
                      <a:srgbClr val="ffff00">
                        <a:alpha val="85098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250080" y="3836880"/>
                  <a:ext cx="25236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e9940b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256920" y="3826440"/>
                  <a:ext cx="348840" cy="34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c1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278520" y="3821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34640" y="383544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098880" y="4464000"/>
              <a:ext cx="5197320" cy="530280"/>
              <a:chOff x="3098880" y="4464000"/>
              <a:chExt cx="5197320" cy="530280"/>
            </a:xfrm>
          </p:grpSpPr>
          <p:sp>
            <p:nvSpPr>
              <p:cNvPr id="77" name=""/>
              <p:cNvSpPr/>
              <p:nvPr/>
            </p:nvSpPr>
            <p:spPr>
              <a:xfrm>
                <a:off x="3468600" y="4464000"/>
                <a:ext cx="482760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99">
                      <a:alpha val="50196"/>
                    </a:srgbClr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098880" y="4479840"/>
                <a:ext cx="501480" cy="501840"/>
                <a:chOff x="3098880" y="4479840"/>
                <a:chExt cx="501480" cy="501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098880" y="4479840"/>
                  <a:ext cx="501480" cy="501840"/>
                </a:xfrm>
                <a:prstGeom prst="ellips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47120" y="4530240"/>
                  <a:ext cx="405360" cy="4053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55040" y="4539960"/>
                  <a:ext cx="38700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00"/>
                    </a:gs>
                    <a:gs pos="100000">
                      <a:srgbClr val="ffff00">
                        <a:alpha val="85098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164400" y="4563720"/>
                  <a:ext cx="2523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e9940b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171240" y="4553280"/>
                  <a:ext cx="348840" cy="34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c1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3192840" y="45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58680" y="454356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649600" y="5191200"/>
              <a:ext cx="5197320" cy="530280"/>
              <a:chOff x="2649600" y="5191200"/>
              <a:chExt cx="5197320" cy="530280"/>
            </a:xfrm>
          </p:grpSpPr>
          <p:sp>
            <p:nvSpPr>
              <p:cNvPr id="87" name=""/>
              <p:cNvSpPr/>
              <p:nvPr/>
            </p:nvSpPr>
            <p:spPr>
              <a:xfrm>
                <a:off x="3019320" y="5191200"/>
                <a:ext cx="482760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99">
                      <a:alpha val="50196"/>
                    </a:srgbClr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2649600" y="5208480"/>
                <a:ext cx="501480" cy="501840"/>
                <a:chOff x="2649600" y="5208480"/>
                <a:chExt cx="501480" cy="5018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600" y="5208480"/>
                  <a:ext cx="501480" cy="501840"/>
                </a:xfrm>
                <a:prstGeom prst="ellips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97840" y="5258880"/>
                  <a:ext cx="405360" cy="4053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05760" y="5268600"/>
                  <a:ext cx="38700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00"/>
                    </a:gs>
                    <a:gs pos="100000">
                      <a:srgbClr val="ffff00">
                        <a:alpha val="85098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715120" y="5292360"/>
                  <a:ext cx="2523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e9940b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721960" y="5281920"/>
                  <a:ext cx="348840" cy="34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c1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2735640" y="528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01480" y="528336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2133720" y="1447920"/>
            <a:ext cx="10134720" cy="4430520"/>
            <a:chOff x="-2133720" y="1447920"/>
            <a:chExt cx="10134720" cy="4430520"/>
          </a:xfrm>
        </p:grpSpPr>
        <p:sp>
          <p:nvSpPr>
            <p:cNvPr id="98" name=""/>
            <p:cNvSpPr/>
            <p:nvPr/>
          </p:nvSpPr>
          <p:spPr>
            <a:xfrm rot="5400000">
              <a:off x="-2133360" y="1447560"/>
              <a:ext cx="4430520" cy="443088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-1882440" y="1775160"/>
              <a:ext cx="3768840" cy="3767400"/>
            </a:xfrm>
            <a:prstGeom prst="blockArc">
              <a:avLst>
                <a:gd name="adj1" fmla="val 10763036"/>
                <a:gd name="adj2" fmla="val 36964"/>
                <a:gd name="adj3" fmla="val 46556"/>
              </a:avLst>
            </a:prstGeom>
            <a:gradFill rotWithShape="0">
              <a:gsLst>
                <a:gs pos="0">
                  <a:srgbClr val="33cc33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80" y="278928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555920" y="1976400"/>
              <a:ext cx="5835600" cy="538200"/>
              <a:chOff x="1555920" y="1976400"/>
              <a:chExt cx="5835600" cy="538200"/>
            </a:xfrm>
          </p:grpSpPr>
          <p:sp>
            <p:nvSpPr>
              <p:cNvPr id="102" name=""/>
              <p:cNvSpPr/>
              <p:nvPr/>
            </p:nvSpPr>
            <p:spPr>
              <a:xfrm>
                <a:off x="1846440" y="1976400"/>
                <a:ext cx="554508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98039"/>
                    </a:srgbClr>
                  </a:gs>
                  <a:gs pos="100000">
                    <a:srgbClr val="33cc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555920" y="2013120"/>
                <a:ext cx="501480" cy="501480"/>
                <a:chOff x="1555920" y="2013120"/>
                <a:chExt cx="501480" cy="501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55920" y="201312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631880" y="209088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644840" y="2090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58480" y="206208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05120" y="2705040"/>
              <a:ext cx="5790960" cy="539640"/>
              <a:chOff x="1905120" y="2705040"/>
              <a:chExt cx="5790960" cy="539640"/>
            </a:xfrm>
          </p:grpSpPr>
          <p:sp>
            <p:nvSpPr>
              <p:cNvPr id="109" name=""/>
              <p:cNvSpPr/>
              <p:nvPr/>
            </p:nvSpPr>
            <p:spPr>
              <a:xfrm>
                <a:off x="2249640" y="2705040"/>
                <a:ext cx="544644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439360" y="279072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1905120" y="2743200"/>
                <a:ext cx="501480" cy="501480"/>
                <a:chOff x="1905120" y="2743200"/>
                <a:chExt cx="501480" cy="501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905120" y="274320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981080" y="282096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1997280" y="281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046240" y="3429000"/>
              <a:ext cx="5878440" cy="537840"/>
              <a:chOff x="2046240" y="3429000"/>
              <a:chExt cx="5878440" cy="537840"/>
            </a:xfrm>
          </p:grpSpPr>
          <p:sp>
            <p:nvSpPr>
              <p:cNvPr id="116" name=""/>
              <p:cNvSpPr/>
              <p:nvPr/>
            </p:nvSpPr>
            <p:spPr>
              <a:xfrm>
                <a:off x="2336760" y="3429000"/>
                <a:ext cx="558792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98039"/>
                    </a:srgbClr>
                  </a:gs>
                  <a:gs pos="100000">
                    <a:srgbClr val="33cc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2046240" y="3465360"/>
                <a:ext cx="501480" cy="501480"/>
                <a:chOff x="2046240" y="3465360"/>
                <a:chExt cx="501480" cy="5014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046240" y="346536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122200" y="354312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135520" y="3543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48800" y="351468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5120" y="4181400"/>
              <a:ext cx="5790960" cy="539640"/>
              <a:chOff x="1905120" y="4181400"/>
              <a:chExt cx="5790960" cy="5396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49640" y="4181400"/>
                <a:ext cx="544644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39360" y="426708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05120" y="4219560"/>
                <a:ext cx="501480" cy="501480"/>
                <a:chOff x="1905120" y="4219560"/>
                <a:chExt cx="501480" cy="5014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05120" y="421956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81080" y="429732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1997280" y="4295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61960" y="4952880"/>
              <a:ext cx="6539040" cy="538200"/>
              <a:chOff x="1461960" y="4952880"/>
              <a:chExt cx="6539040" cy="538200"/>
            </a:xfrm>
          </p:grpSpPr>
          <p:sp>
            <p:nvSpPr>
              <p:cNvPr id="130" name=""/>
              <p:cNvSpPr/>
              <p:nvPr/>
            </p:nvSpPr>
            <p:spPr>
              <a:xfrm>
                <a:off x="1752480" y="4952880"/>
                <a:ext cx="624852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98039"/>
                    </a:srgbClr>
                  </a:gs>
                  <a:gs pos="100000">
                    <a:srgbClr val="33cc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461960" y="4989600"/>
                <a:ext cx="501480" cy="501480"/>
                <a:chOff x="1461960" y="4989600"/>
                <a:chExt cx="501480" cy="5014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461960" y="498960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37920" y="506736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1551240" y="5067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64880" y="5038560"/>
                <a:ext cx="174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45:06Z</dcterms:modified>
  <cp:revision>97</cp:revision>
  <dc:subject/>
  <dc:title>Contents Design</dc:title>
</cp:coreProperties>
</file>