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CC9-364D-49AF-AF84-3B04A16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9A6-CCFC-4875-B6A8-6A4FF30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33D-4A49-4B6F-A0A8-8C8CEF77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AA7-1B1F-46FF-A25D-69F04F5A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C2C-38D2-47B6-8FE1-70F70597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F4B-E9BB-4263-9A45-2C0817A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309-7347-49F9-97A8-C649707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655-D209-4301-AAEA-1E3FA6B4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FC7-AD82-4D0B-825B-6D8A584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627-F065-4BCF-82D5-0C6DB44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3BA-6EE6-4221-BE70-B33B0F1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CB7-992B-4A34-B4B5-1808090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819-EE00-4894-AC58-1E62C85C63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4876920"/>
            <a:ext cx="2036880" cy="525240"/>
          </a:xfrm>
          <a:prstGeom prst="downArrow">
            <a:avLst>
              <a:gd name="adj1" fmla="val 56417"/>
              <a:gd name="adj2" fmla="val 48338"/>
            </a:avLst>
          </a:prstGeom>
          <a:gradFill rotWithShape="0">
            <a:gsLst>
              <a:gs pos="0">
                <a:srgbClr val="006666">
                  <a:alpha val="10196"/>
                </a:srgbClr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3657600" y="2522520"/>
            <a:ext cx="2036880" cy="525600"/>
          </a:xfrm>
          <a:prstGeom prst="downArrow">
            <a:avLst>
              <a:gd name="adj1" fmla="val 56417"/>
              <a:gd name="adj2" fmla="val 48338"/>
            </a:avLst>
          </a:prstGeom>
          <a:gradFill rotWithShape="0">
            <a:gsLst>
              <a:gs pos="0">
                <a:srgbClr val="969696"/>
              </a:gs>
              <a:gs pos="100000">
                <a:srgbClr val="00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895480"/>
            <a:ext cx="685800" cy="2057400"/>
          </a:xfrm>
          <a:prstGeom prst="leftArrow">
            <a:avLst>
              <a:gd name="adj1" fmla="val 62037"/>
              <a:gd name="adj2" fmla="val 54861"/>
            </a:avLst>
          </a:prstGeom>
          <a:gradFill rotWithShape="0">
            <a:gsLst>
              <a:gs pos="0">
                <a:srgbClr val="006666">
                  <a:alpha val="9019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2895480"/>
            <a:ext cx="685800" cy="2057400"/>
          </a:xfrm>
          <a:prstGeom prst="rightArrow">
            <a:avLst>
              <a:gd name="adj1" fmla="val 61269"/>
              <a:gd name="adj2" fmla="val 54398"/>
            </a:avLst>
          </a:prstGeom>
          <a:gradFill rotWithShape="0">
            <a:gsLst>
              <a:gs pos="0">
                <a:srgbClr val="969696"/>
              </a:gs>
              <a:gs pos="100000">
                <a:srgbClr val="006666">
                  <a:alpha val="1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2920" y="425304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2920" y="363852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2920" y="300996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30800" y="3243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30800" y="3871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800" y="4486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19320" y="2286000"/>
            <a:ext cx="1828800" cy="3124080"/>
            <a:chOff x="1219320" y="2286000"/>
            <a:chExt cx="1828800" cy="3124080"/>
          </a:xfrm>
        </p:grpSpPr>
        <p:sp>
          <p:nvSpPr>
            <p:cNvPr id="53" name=""/>
            <p:cNvSpPr/>
            <p:nvPr/>
          </p:nvSpPr>
          <p:spPr>
            <a:xfrm>
              <a:off x="12193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3f9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69440" y="2514240"/>
              <a:ext cx="124740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48520" y="2286000"/>
            <a:ext cx="1828800" cy="3124080"/>
            <a:chOff x="6248520" y="2286000"/>
            <a:chExt cx="1828800" cy="3124080"/>
          </a:xfrm>
        </p:grpSpPr>
        <p:sp>
          <p:nvSpPr>
            <p:cNvPr id="56" name=""/>
            <p:cNvSpPr/>
            <p:nvPr/>
          </p:nvSpPr>
          <p:spPr>
            <a:xfrm>
              <a:off x="62485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3f9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200" y="2514240"/>
              <a:ext cx="124740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124080" y="1571760"/>
            <a:ext cx="3047760" cy="693720"/>
            <a:chOff x="3124080" y="1571760"/>
            <a:chExt cx="3047760" cy="693720"/>
          </a:xfrm>
        </p:grpSpPr>
        <p:sp>
          <p:nvSpPr>
            <p:cNvPr id="59" name=""/>
            <p:cNvSpPr/>
            <p:nvPr/>
          </p:nvSpPr>
          <p:spPr>
            <a:xfrm>
              <a:off x="3124080" y="1571760"/>
              <a:ext cx="3047760" cy="6937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89760" y="1808280"/>
              <a:ext cx="704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24080" y="5543640"/>
            <a:ext cx="3047760" cy="685800"/>
            <a:chOff x="3124080" y="5543640"/>
            <a:chExt cx="3047760" cy="685800"/>
          </a:xfrm>
        </p:grpSpPr>
        <p:sp>
          <p:nvSpPr>
            <p:cNvPr id="62" name=""/>
            <p:cNvSpPr/>
            <p:nvPr/>
          </p:nvSpPr>
          <p:spPr>
            <a:xfrm>
              <a:off x="3124080" y="5543640"/>
              <a:ext cx="3047760" cy="685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9760" y="5770440"/>
              <a:ext cx="704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57600" y="4876920"/>
            <a:ext cx="2036880" cy="525240"/>
          </a:xfrm>
          <a:prstGeom prst="downArrow">
            <a:avLst>
              <a:gd name="adj1" fmla="val 56417"/>
              <a:gd name="adj2" fmla="val 48338"/>
            </a:avLst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657600" y="2522520"/>
            <a:ext cx="2036880" cy="525600"/>
          </a:xfrm>
          <a:prstGeom prst="downArrow">
            <a:avLst>
              <a:gd name="adj1" fmla="val 56417"/>
              <a:gd name="adj2" fmla="val 48338"/>
            </a:avLst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685800" cy="2057400"/>
          </a:xfrm>
          <a:prstGeom prst="leftArrow">
            <a:avLst>
              <a:gd name="adj1" fmla="val 62037"/>
              <a:gd name="adj2" fmla="val 54861"/>
            </a:avLst>
          </a:prstGeom>
          <a:gradFill rotWithShape="0">
            <a:gsLst>
              <a:gs pos="0">
                <a:srgbClr val="ffffff">
                  <a:alpha val="9019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95480"/>
            <a:ext cx="685800" cy="2057400"/>
          </a:xfrm>
          <a:prstGeom prst="rightArrow">
            <a:avLst>
              <a:gd name="adj1" fmla="val 61269"/>
              <a:gd name="adj2" fmla="val 54398"/>
            </a:avLst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1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2920" y="425304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2920" y="363852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2920" y="3009960"/>
            <a:ext cx="1981080" cy="68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30800" y="3243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30800" y="3871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30800" y="4486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219320" y="2286000"/>
            <a:ext cx="1828800" cy="3124080"/>
            <a:chOff x="1219320" y="2286000"/>
            <a:chExt cx="1828800" cy="3124080"/>
          </a:xfrm>
        </p:grpSpPr>
        <p:sp>
          <p:nvSpPr>
            <p:cNvPr id="75" name=""/>
            <p:cNvSpPr/>
            <p:nvPr/>
          </p:nvSpPr>
          <p:spPr>
            <a:xfrm>
              <a:off x="12193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709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69440" y="2514600"/>
              <a:ext cx="124740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2286000"/>
            <a:ext cx="1828800" cy="3124080"/>
            <a:chOff x="6248520" y="2286000"/>
            <a:chExt cx="1828800" cy="3124080"/>
          </a:xfrm>
        </p:grpSpPr>
        <p:sp>
          <p:nvSpPr>
            <p:cNvPr id="78" name=""/>
            <p:cNvSpPr/>
            <p:nvPr/>
          </p:nvSpPr>
          <p:spPr>
            <a:xfrm>
              <a:off x="62485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709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98280" y="2514600"/>
              <a:ext cx="124740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124080" y="1571760"/>
            <a:ext cx="3047760" cy="693720"/>
            <a:chOff x="3124080" y="1571760"/>
            <a:chExt cx="3047760" cy="693720"/>
          </a:xfrm>
        </p:grpSpPr>
        <p:sp>
          <p:nvSpPr>
            <p:cNvPr id="81" name=""/>
            <p:cNvSpPr/>
            <p:nvPr/>
          </p:nvSpPr>
          <p:spPr>
            <a:xfrm>
              <a:off x="3124080" y="1571760"/>
              <a:ext cx="3047760" cy="6937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d6ae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8320" y="1808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124080" y="5543640"/>
            <a:ext cx="3047760" cy="685800"/>
            <a:chOff x="3124080" y="5543640"/>
            <a:chExt cx="3047760" cy="685800"/>
          </a:xfrm>
        </p:grpSpPr>
        <p:sp>
          <p:nvSpPr>
            <p:cNvPr id="84" name=""/>
            <p:cNvSpPr/>
            <p:nvPr/>
          </p:nvSpPr>
          <p:spPr>
            <a:xfrm>
              <a:off x="3124080" y="5543640"/>
              <a:ext cx="3047760" cy="685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dcf2db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8320" y="57704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48Z</dcterms:modified>
  <cp:revision>98</cp:revision>
  <dc:subject/>
  <dc:title>Contents Design</dc:title>
</cp:coreProperties>
</file>