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419-83CE-4D3C-B98C-87098500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3C2-B1AF-49C7-9B76-827204B2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579-F7CD-4DD4-AA66-C5A0C0AE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E3F-70B8-416E-A41C-555A6EB3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A45-764C-4734-BAA0-1607EE66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980-39DE-4E54-82A2-557594C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995-1CAE-4608-AB78-5BE52193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D61-7677-4B7B-B004-C05699D1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00F-4A30-4325-8446-8B02BADE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C0C-A30F-4B53-954F-CEA5EDB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19B-8707-4147-BDA9-CB2DAE4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2C5-4825-4F16-A6D6-C53C98C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EB99-06BE-4F49-BF21-67433B3717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2666880"/>
            <a:ext cx="2819520" cy="28958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64b5b"/>
              </a:gs>
              <a:gs pos="50000">
                <a:srgbClr val="99a4c7"/>
              </a:gs>
              <a:gs pos="100000">
                <a:srgbClr val="464b5b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6668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0544e"/>
              </a:gs>
              <a:gs pos="50000">
                <a:srgbClr val="8bb7ab"/>
              </a:gs>
              <a:gs pos="100000">
                <a:srgbClr val="40544e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15038"/>
              </a:gs>
              <a:gs pos="100000">
                <a:srgbClr val="b0af7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6248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0544e"/>
              </a:gs>
              <a:gs pos="100000">
                <a:srgbClr val="8bb7a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4b5b"/>
              </a:gs>
              <a:gs pos="100000">
                <a:srgbClr val="99a4c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784680"/>
            <a:ext cx="20512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3784680"/>
            <a:ext cx="20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7503c"/>
              </a:gs>
              <a:gs pos="50000">
                <a:srgbClr val="beaf84"/>
              </a:gs>
              <a:gs pos="100000">
                <a:srgbClr val="57503c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30360" y="3784680"/>
            <a:ext cx="20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91240" y="26668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c2f18"/>
              </a:gs>
              <a:gs pos="50000">
                <a:srgbClr val="ec6636"/>
              </a:gs>
              <a:gs pos="100000">
                <a:srgbClr val="6c2f18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666880"/>
            <a:ext cx="2990880" cy="28958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296c"/>
              </a:gs>
              <a:gs pos="100000">
                <a:srgbClr val="3659e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700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c2f18"/>
              </a:gs>
              <a:gs pos="100000">
                <a:srgbClr val="ec663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48080" y="18288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3809880"/>
            <a:ext cx="20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15120" y="3784680"/>
            <a:ext cx="20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6668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8296c"/>
              </a:gs>
              <a:gs pos="50000">
                <a:srgbClr val="3659ec"/>
              </a:gs>
              <a:gs pos="100000">
                <a:srgbClr val="18296c"/>
              </a:gs>
            </a:gsLst>
            <a:lin ang="135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30360" y="3784680"/>
            <a:ext cx="20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52Z</dcterms:modified>
  <cp:revision>92</cp:revision>
  <dc:subject/>
  <dc:title>Contents Design</dc:title>
</cp:coreProperties>
</file>