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C19-2C1E-4356-8D7E-9A6EB97E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0D4-B50F-4A06-8218-C730DA7D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BFE-16E1-4D5E-AC76-3224848D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D18-D636-4D15-8D7F-F89E2EBB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715-E07A-4DA4-8530-B7FBA377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D6B-55D4-4225-ABA9-5AE5723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4B7-3BDA-4761-A551-A420A96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0D0-96E5-4EE6-9D63-8CA04268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DC9-D4D9-4096-9BC2-906DED7A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F31-9E6E-4D1D-B023-C038B77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389-BD78-4570-A096-0816DA0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CE8-130E-4A51-B8D4-A90754E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A49C-0E88-4609-8DC3-8683D89ED1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954400">
            <a:off x="2114640" y="3137040"/>
            <a:ext cx="3384360" cy="30351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ead88a"/>
              </a:gs>
              <a:gs pos="100000">
                <a:srgbClr val="cc9900"/>
              </a:gs>
            </a:gsLst>
            <a:lin ang="14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552800">
            <a:off x="3582720" y="1749240"/>
            <a:ext cx="3504960" cy="2896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996e3"/>
              </a:gs>
              <a:gs pos="50000">
                <a:srgbClr val="afcef7"/>
              </a:gs>
              <a:gs pos="100000">
                <a:srgbClr val="4996e3"/>
              </a:gs>
            </a:gsLst>
            <a:lin ang="2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37816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4343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e5f5"/>
                </a:solidFill>
                <a:latin typeface="Verdana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20954400">
            <a:off x="2114640" y="3137040"/>
            <a:ext cx="3384360" cy="30351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50000">
                <a:srgbClr val="92bde8"/>
              </a:gs>
              <a:gs pos="100000">
                <a:srgbClr val="0066cc"/>
              </a:gs>
            </a:gsLst>
            <a:lin ang="14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552800">
            <a:off x="3580920" y="1752480"/>
            <a:ext cx="3505320" cy="28972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54baba"/>
              </a:gs>
              <a:gs pos="100000">
                <a:srgbClr val="009999"/>
              </a:gs>
            </a:gsLst>
            <a:lin ang="2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37816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Verdana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343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55Z</dcterms:modified>
  <cp:revision>92</cp:revision>
  <dc:subject/>
  <dc:title>Contents Design</dc:title>
</cp:coreProperties>
</file>