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A332-AA92-46FA-AFE8-87B618F1E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B3D5-EDEE-4D58-BFAB-D0AF7E71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8FA5-06D4-4534-B7D4-664496AF7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52BB-2CD4-4319-9CE6-E952106C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7AEF-A200-4B2D-A20C-60E40F4C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8F10-AA02-444B-AA5D-3AF83CC7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0562-23E3-4770-9E70-585DD599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6807-B367-46FA-9A31-165800A3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F232-6903-4941-85BB-D0511236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1A7E-8744-41D2-9B8E-F1A02F93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A0BD-79CD-4124-A68E-AC0BE5B2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0E16-3D89-4A0B-BA51-DB8A2A12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310D-10B4-4B20-A930-DEFFD69885A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25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2133720"/>
            <a:ext cx="4038480" cy="396216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581280" y="3124080"/>
            <a:ext cx="2057400" cy="2133720"/>
            <a:chOff x="3581280" y="3124080"/>
            <a:chExt cx="2057400" cy="2133720"/>
          </a:xfrm>
        </p:grpSpPr>
        <p:sp>
          <p:nvSpPr>
            <p:cNvPr id="44" name=""/>
            <p:cNvSpPr/>
            <p:nvPr/>
          </p:nvSpPr>
          <p:spPr>
            <a:xfrm>
              <a:off x="3581280" y="3124080"/>
              <a:ext cx="2057400" cy="213372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c4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816360" y="3159360"/>
              <a:ext cx="1587240" cy="8053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952080" y="3962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191120" y="1727280"/>
            <a:ext cx="685800" cy="658800"/>
            <a:chOff x="4191120" y="1727280"/>
            <a:chExt cx="685800" cy="658800"/>
          </a:xfrm>
        </p:grpSpPr>
        <p:grpSp>
          <p:nvGrpSpPr>
            <p:cNvPr id="48" name=""/>
            <p:cNvGrpSpPr/>
            <p:nvPr/>
          </p:nvGrpSpPr>
          <p:grpSpPr>
            <a:xfrm>
              <a:off x="4191120" y="1727280"/>
              <a:ext cx="685800" cy="658800"/>
              <a:chOff x="4191120" y="1727280"/>
              <a:chExt cx="685800" cy="658800"/>
            </a:xfrm>
          </p:grpSpPr>
          <p:sp>
            <p:nvSpPr>
              <p:cNvPr id="49" name=""/>
              <p:cNvSpPr/>
              <p:nvPr/>
            </p:nvSpPr>
            <p:spPr>
              <a:xfrm>
                <a:off x="4191120" y="1727280"/>
                <a:ext cx="685800" cy="6588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6b56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269240" y="1738080"/>
                <a:ext cx="529200" cy="2484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4355640" y="182880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525120" y="5038200"/>
            <a:ext cx="368280" cy="334800"/>
            <a:chOff x="3525120" y="5038200"/>
            <a:chExt cx="368280" cy="334800"/>
          </a:xfrm>
        </p:grpSpPr>
        <p:sp>
          <p:nvSpPr>
            <p:cNvPr id="53" name=""/>
            <p:cNvSpPr/>
            <p:nvPr/>
          </p:nvSpPr>
          <p:spPr>
            <a:xfrm rot="18226800">
              <a:off x="3553560" y="521100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1878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8226800">
              <a:off x="3734280" y="506160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1878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895480" y="5329080"/>
            <a:ext cx="685800" cy="685800"/>
            <a:chOff x="2895480" y="5329080"/>
            <a:chExt cx="685800" cy="685800"/>
          </a:xfrm>
        </p:grpSpPr>
        <p:grpSp>
          <p:nvGrpSpPr>
            <p:cNvPr id="56" name=""/>
            <p:cNvGrpSpPr/>
            <p:nvPr/>
          </p:nvGrpSpPr>
          <p:grpSpPr>
            <a:xfrm>
              <a:off x="2895480" y="5329080"/>
              <a:ext cx="685800" cy="685800"/>
              <a:chOff x="2895480" y="5329080"/>
              <a:chExt cx="685800" cy="685800"/>
            </a:xfrm>
          </p:grpSpPr>
          <p:sp>
            <p:nvSpPr>
              <p:cNvPr id="57" name=""/>
              <p:cNvSpPr/>
              <p:nvPr/>
            </p:nvSpPr>
            <p:spPr>
              <a:xfrm>
                <a:off x="2895480" y="5329080"/>
                <a:ext cx="685800" cy="68580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c313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973600" y="5340240"/>
                <a:ext cx="529200" cy="258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3053880" y="545796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253200" y="3124080"/>
            <a:ext cx="681120" cy="693720"/>
            <a:chOff x="6253200" y="3124080"/>
            <a:chExt cx="681120" cy="693720"/>
          </a:xfrm>
        </p:grpSpPr>
        <p:grpSp>
          <p:nvGrpSpPr>
            <p:cNvPr id="61" name=""/>
            <p:cNvGrpSpPr/>
            <p:nvPr/>
          </p:nvGrpSpPr>
          <p:grpSpPr>
            <a:xfrm>
              <a:off x="6253200" y="3124080"/>
              <a:ext cx="681120" cy="693720"/>
              <a:chOff x="6253200" y="3124080"/>
              <a:chExt cx="681120" cy="693720"/>
            </a:xfrm>
          </p:grpSpPr>
          <p:sp>
            <p:nvSpPr>
              <p:cNvPr id="62" name=""/>
              <p:cNvSpPr/>
              <p:nvPr/>
            </p:nvSpPr>
            <p:spPr>
              <a:xfrm>
                <a:off x="6253200" y="3124080"/>
                <a:ext cx="681120" cy="693720"/>
              </a:xfrm>
              <a:prstGeom prst="ellipse">
                <a:avLst/>
              </a:prstGeom>
              <a:gradFill rotWithShape="0">
                <a:gsLst>
                  <a:gs pos="0">
                    <a:srgbClr val="4996e3"/>
                  </a:gs>
                  <a:gs pos="100000">
                    <a:srgbClr val="21436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330960" y="3135600"/>
                <a:ext cx="525600" cy="261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a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6397920" y="321948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638680" y="5300640"/>
            <a:ext cx="654120" cy="622440"/>
            <a:chOff x="5638680" y="5300640"/>
            <a:chExt cx="654120" cy="622440"/>
          </a:xfrm>
        </p:grpSpPr>
        <p:grpSp>
          <p:nvGrpSpPr>
            <p:cNvPr id="66" name=""/>
            <p:cNvGrpSpPr/>
            <p:nvPr/>
          </p:nvGrpSpPr>
          <p:grpSpPr>
            <a:xfrm>
              <a:off x="5638680" y="5300640"/>
              <a:ext cx="654120" cy="622440"/>
              <a:chOff x="5638680" y="5300640"/>
              <a:chExt cx="654120" cy="622440"/>
            </a:xfrm>
          </p:grpSpPr>
          <p:sp>
            <p:nvSpPr>
              <p:cNvPr id="67" name=""/>
              <p:cNvSpPr/>
              <p:nvPr/>
            </p:nvSpPr>
            <p:spPr>
              <a:xfrm>
                <a:off x="5638680" y="5300640"/>
                <a:ext cx="654120" cy="6224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452e7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713200" y="5310720"/>
                <a:ext cx="504720" cy="234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5794920" y="5334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362320" y="3124080"/>
            <a:ext cx="685800" cy="685800"/>
            <a:chOff x="2362320" y="3124080"/>
            <a:chExt cx="685800" cy="685800"/>
          </a:xfrm>
        </p:grpSpPr>
        <p:grpSp>
          <p:nvGrpSpPr>
            <p:cNvPr id="71" name=""/>
            <p:cNvGrpSpPr/>
            <p:nvPr/>
          </p:nvGrpSpPr>
          <p:grpSpPr>
            <a:xfrm>
              <a:off x="2362320" y="3124080"/>
              <a:ext cx="685800" cy="685800"/>
              <a:chOff x="2362320" y="3124080"/>
              <a:chExt cx="685800" cy="685800"/>
            </a:xfrm>
          </p:grpSpPr>
          <p:sp>
            <p:nvSpPr>
              <p:cNvPr id="72" name=""/>
              <p:cNvSpPr/>
              <p:nvPr/>
            </p:nvSpPr>
            <p:spPr>
              <a:xfrm>
                <a:off x="2362320" y="3124080"/>
                <a:ext cx="685800" cy="68580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345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440440" y="3135240"/>
                <a:ext cx="529200" cy="258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2522880" y="320040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 rot="18226800">
            <a:off x="5566320" y="5177520"/>
            <a:ext cx="130320" cy="13788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6543a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8226800">
            <a:off x="5414040" y="5025240"/>
            <a:ext cx="130320" cy="13824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6543a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099600" y="3553920"/>
            <a:ext cx="415800" cy="261000"/>
            <a:chOff x="3099600" y="3553920"/>
            <a:chExt cx="415800" cy="261000"/>
          </a:xfrm>
        </p:grpSpPr>
        <p:sp>
          <p:nvSpPr>
            <p:cNvPr id="78" name=""/>
            <p:cNvSpPr/>
            <p:nvPr/>
          </p:nvSpPr>
          <p:spPr>
            <a:xfrm rot="18226800">
              <a:off x="3128040" y="357732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a965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8226800">
              <a:off x="3356640" y="365292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a965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471200" y="2531520"/>
            <a:ext cx="187200" cy="468000"/>
            <a:chOff x="4471200" y="2531520"/>
            <a:chExt cx="187200" cy="468000"/>
          </a:xfrm>
        </p:grpSpPr>
        <p:sp>
          <p:nvSpPr>
            <p:cNvPr id="81" name=""/>
            <p:cNvSpPr/>
            <p:nvPr/>
          </p:nvSpPr>
          <p:spPr>
            <a:xfrm rot="18226800">
              <a:off x="4499640" y="255492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a98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8226800">
              <a:off x="4499640" y="283752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a98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 rot="18226800">
            <a:off x="5966640" y="3605400"/>
            <a:ext cx="129960" cy="13824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65a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8226800">
            <a:off x="5718960" y="3729240"/>
            <a:ext cx="129960" cy="13824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65a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2767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1219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34320" y="329076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55627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55627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90920" y="2133720"/>
            <a:ext cx="4038480" cy="396216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3124080"/>
            <a:ext cx="2057400" cy="2133720"/>
            <a:chOff x="3581280" y="3124080"/>
            <a:chExt cx="2057400" cy="2133720"/>
          </a:xfrm>
        </p:grpSpPr>
        <p:sp>
          <p:nvSpPr>
            <p:cNvPr id="93" name=""/>
            <p:cNvSpPr/>
            <p:nvPr/>
          </p:nvSpPr>
          <p:spPr>
            <a:xfrm>
              <a:off x="3581280" y="3124080"/>
              <a:ext cx="2057400" cy="213372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32e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16360" y="3159360"/>
              <a:ext cx="1587240" cy="8053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952080" y="3962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191120" y="1752480"/>
            <a:ext cx="685800" cy="658800"/>
            <a:chOff x="4191120" y="1752480"/>
            <a:chExt cx="685800" cy="658800"/>
          </a:xfrm>
        </p:grpSpPr>
        <p:grpSp>
          <p:nvGrpSpPr>
            <p:cNvPr id="97" name=""/>
            <p:cNvGrpSpPr/>
            <p:nvPr/>
          </p:nvGrpSpPr>
          <p:grpSpPr>
            <a:xfrm>
              <a:off x="4191120" y="1752480"/>
              <a:ext cx="685800" cy="658800"/>
              <a:chOff x="4191120" y="1752480"/>
              <a:chExt cx="685800" cy="658800"/>
            </a:xfrm>
          </p:grpSpPr>
          <p:sp>
            <p:nvSpPr>
              <p:cNvPr id="98" name=""/>
              <p:cNvSpPr/>
              <p:nvPr/>
            </p:nvSpPr>
            <p:spPr>
              <a:xfrm>
                <a:off x="4191120" y="1752480"/>
                <a:ext cx="685800" cy="658800"/>
              </a:xfrm>
              <a:prstGeom prst="ellipse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6b6b2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269240" y="1763280"/>
                <a:ext cx="529200" cy="2484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4355640" y="185400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525120" y="5038200"/>
            <a:ext cx="368280" cy="334800"/>
            <a:chOff x="3525120" y="5038200"/>
            <a:chExt cx="368280" cy="334800"/>
          </a:xfrm>
        </p:grpSpPr>
        <p:sp>
          <p:nvSpPr>
            <p:cNvPr id="102" name=""/>
            <p:cNvSpPr/>
            <p:nvPr/>
          </p:nvSpPr>
          <p:spPr>
            <a:xfrm rot="18226800">
              <a:off x="3553560" y="521100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1878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8226800">
              <a:off x="3734280" y="506160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1878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895480" y="5329080"/>
            <a:ext cx="685800" cy="685800"/>
            <a:chOff x="2895480" y="5329080"/>
            <a:chExt cx="685800" cy="685800"/>
          </a:xfrm>
        </p:grpSpPr>
        <p:grpSp>
          <p:nvGrpSpPr>
            <p:cNvPr id="105" name=""/>
            <p:cNvGrpSpPr/>
            <p:nvPr/>
          </p:nvGrpSpPr>
          <p:grpSpPr>
            <a:xfrm>
              <a:off x="2895480" y="5329080"/>
              <a:ext cx="685800" cy="685800"/>
              <a:chOff x="2895480" y="5329080"/>
              <a:chExt cx="685800" cy="685800"/>
            </a:xfrm>
          </p:grpSpPr>
          <p:sp>
            <p:nvSpPr>
              <p:cNvPr id="106" name=""/>
              <p:cNvSpPr/>
              <p:nvPr/>
            </p:nvSpPr>
            <p:spPr>
              <a:xfrm>
                <a:off x="2895480" y="5329080"/>
                <a:ext cx="685800" cy="68580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c313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973600" y="5340240"/>
                <a:ext cx="529200" cy="258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053880" y="545796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251400" y="3124080"/>
            <a:ext cx="682920" cy="693720"/>
            <a:chOff x="6251400" y="3124080"/>
            <a:chExt cx="682920" cy="693720"/>
          </a:xfrm>
        </p:grpSpPr>
        <p:grpSp>
          <p:nvGrpSpPr>
            <p:cNvPr id="110" name=""/>
            <p:cNvGrpSpPr/>
            <p:nvPr/>
          </p:nvGrpSpPr>
          <p:grpSpPr>
            <a:xfrm>
              <a:off x="6251400" y="3124080"/>
              <a:ext cx="682920" cy="693720"/>
              <a:chOff x="6251400" y="3124080"/>
              <a:chExt cx="682920" cy="693720"/>
            </a:xfrm>
          </p:grpSpPr>
          <p:sp>
            <p:nvSpPr>
              <p:cNvPr id="111" name=""/>
              <p:cNvSpPr/>
              <p:nvPr/>
            </p:nvSpPr>
            <p:spPr>
              <a:xfrm>
                <a:off x="6251400" y="3124080"/>
                <a:ext cx="682920" cy="693720"/>
              </a:xfrm>
              <a:prstGeom prst="ellipse">
                <a:avLst/>
              </a:prstGeom>
              <a:gradFill rotWithShape="0">
                <a:gsLst>
                  <a:gs pos="0">
                    <a:srgbClr val="4996e3"/>
                  </a:gs>
                  <a:gs pos="100000">
                    <a:srgbClr val="21436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329160" y="3135600"/>
                <a:ext cx="527040" cy="261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a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6396840" y="321948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638680" y="5334120"/>
            <a:ext cx="654120" cy="622080"/>
            <a:chOff x="5638680" y="5334120"/>
            <a:chExt cx="654120" cy="622080"/>
          </a:xfrm>
        </p:grpSpPr>
        <p:grpSp>
          <p:nvGrpSpPr>
            <p:cNvPr id="115" name=""/>
            <p:cNvGrpSpPr/>
            <p:nvPr/>
          </p:nvGrpSpPr>
          <p:grpSpPr>
            <a:xfrm>
              <a:off x="5638680" y="5334120"/>
              <a:ext cx="654120" cy="622080"/>
              <a:chOff x="5638680" y="5334120"/>
              <a:chExt cx="654120" cy="622080"/>
            </a:xfrm>
          </p:grpSpPr>
          <p:sp>
            <p:nvSpPr>
              <p:cNvPr id="116" name=""/>
              <p:cNvSpPr/>
              <p:nvPr/>
            </p:nvSpPr>
            <p:spPr>
              <a:xfrm>
                <a:off x="5638680" y="5334120"/>
                <a:ext cx="654120" cy="622080"/>
              </a:xfrm>
              <a:prstGeom prst="ellipse">
                <a:avLst/>
              </a:prstGeom>
              <a:gradFill rotWithShape="0">
                <a:gsLst>
                  <a:gs pos="0">
                    <a:srgbClr val="ff3399"/>
                  </a:gs>
                  <a:gs pos="100000">
                    <a:srgbClr val="73174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713200" y="5344200"/>
                <a:ext cx="504720" cy="234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5794920" y="53672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62320" y="3124080"/>
            <a:ext cx="685800" cy="685800"/>
            <a:chOff x="2362320" y="3124080"/>
            <a:chExt cx="685800" cy="685800"/>
          </a:xfrm>
        </p:grpSpPr>
        <p:grpSp>
          <p:nvGrpSpPr>
            <p:cNvPr id="120" name=""/>
            <p:cNvGrpSpPr/>
            <p:nvPr/>
          </p:nvGrpSpPr>
          <p:grpSpPr>
            <a:xfrm>
              <a:off x="2362320" y="3124080"/>
              <a:ext cx="685800" cy="685800"/>
              <a:chOff x="2362320" y="3124080"/>
              <a:chExt cx="685800" cy="685800"/>
            </a:xfrm>
          </p:grpSpPr>
          <p:sp>
            <p:nvSpPr>
              <p:cNvPr id="121" name=""/>
              <p:cNvSpPr/>
              <p:nvPr/>
            </p:nvSpPr>
            <p:spPr>
              <a:xfrm>
                <a:off x="2362320" y="3124080"/>
                <a:ext cx="685800" cy="685800"/>
              </a:xfrm>
              <a:prstGeom prst="ellips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174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40440" y="3135240"/>
                <a:ext cx="529200" cy="258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2522880" y="320040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 rot="18226800">
            <a:off x="5566320" y="5177520"/>
            <a:ext cx="130320" cy="13788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100000">
                <a:srgbClr val="a9216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8226800">
            <a:off x="5414040" y="5025240"/>
            <a:ext cx="130320" cy="13824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100000">
                <a:srgbClr val="a9216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099600" y="3553920"/>
            <a:ext cx="415800" cy="261000"/>
            <a:chOff x="3099600" y="3553920"/>
            <a:chExt cx="415800" cy="261000"/>
          </a:xfrm>
        </p:grpSpPr>
        <p:sp>
          <p:nvSpPr>
            <p:cNvPr id="127" name=""/>
            <p:cNvSpPr/>
            <p:nvPr/>
          </p:nvSpPr>
          <p:spPr>
            <a:xfrm rot="18226800">
              <a:off x="3128040" y="357732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16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8226800">
              <a:off x="3356640" y="365292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16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71200" y="2531520"/>
            <a:ext cx="187200" cy="468000"/>
            <a:chOff x="4471200" y="2531520"/>
            <a:chExt cx="187200" cy="468000"/>
          </a:xfrm>
        </p:grpSpPr>
        <p:sp>
          <p:nvSpPr>
            <p:cNvPr id="130" name=""/>
            <p:cNvSpPr/>
            <p:nvPr/>
          </p:nvSpPr>
          <p:spPr>
            <a:xfrm rot="18226800">
              <a:off x="4499640" y="255492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a9a94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8226800">
              <a:off x="4499640" y="283752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a9a94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 rot="18226800">
            <a:off x="5966640" y="3605400"/>
            <a:ext cx="129960" cy="13824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65a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226800">
            <a:off x="5718960" y="3729240"/>
            <a:ext cx="129960" cy="13824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65a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32767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1219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34320" y="329076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55627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55627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DugCheun Kang</cp:lastModifiedBy>
  <dcterms:modified xsi:type="dcterms:W3CDTF">2004-11-09T01:04:04Z</dcterms:modified>
  <cp:revision>92</cp:revision>
  <dc:subject/>
  <dc:title>Contents Design</dc:title>
</cp:coreProperties>
</file>