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86EC-0E56-472F-BB4F-6B0ACB9D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B85F-4943-4213-BE28-A4FF63B7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9D83-59E2-4FBB-A4F2-5545D80B5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AA7C-C62F-4659-BCAB-B9435528A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C11B-95CF-4A7F-932B-A839BC67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AB22-F048-4658-9BCF-68E5109A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C5ED-96BC-4D59-99C3-DD190DC5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E1B7-F472-40CF-BB5E-93A4C42C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7632-8D5D-4FDF-88C4-0E7F74C1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6E84-CEDF-4A41-ADFF-39E8855E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5976-5435-4C11-8CE0-4FC8A604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5E12-7EEB-4A95-95EE-B17DA523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87EB-77EE-414C-A3B9-4F7B8287BF9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847880"/>
            <a:ext cx="4222800" cy="719280"/>
          </a:xfrm>
          <a:prstGeom prst="rect">
            <a:avLst/>
          </a:prstGeom>
          <a:gradFill rotWithShape="0">
            <a:gsLst>
              <a:gs pos="0">
                <a:srgbClr val="e98931"/>
              </a:gs>
              <a:gs pos="100000">
                <a:srgbClr val="004b70">
                  <a:alpha val="8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668760" y="1573200"/>
            <a:ext cx="1098000" cy="1001520"/>
            <a:chOff x="3668760" y="1573200"/>
            <a:chExt cx="1098000" cy="1001520"/>
          </a:xfrm>
        </p:grpSpPr>
        <p:grpSp>
          <p:nvGrpSpPr>
            <p:cNvPr id="44" name=""/>
            <p:cNvGrpSpPr/>
            <p:nvPr/>
          </p:nvGrpSpPr>
          <p:grpSpPr>
            <a:xfrm>
              <a:off x="3668760" y="1573200"/>
              <a:ext cx="1098000" cy="1001520"/>
              <a:chOff x="3668760" y="1573200"/>
              <a:chExt cx="1098000" cy="1001520"/>
            </a:xfrm>
          </p:grpSpPr>
          <p:sp>
            <p:nvSpPr>
              <p:cNvPr id="45" name=""/>
              <p:cNvSpPr/>
              <p:nvPr/>
            </p:nvSpPr>
            <p:spPr>
              <a:xfrm>
                <a:off x="3668760" y="1573200"/>
                <a:ext cx="1098000" cy="10015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33b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794040" y="1589760"/>
                <a:ext cx="847080" cy="3780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4045680" y="168444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600200" y="20304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979720"/>
            <a:ext cx="4665600" cy="719280"/>
          </a:xfrm>
          <a:prstGeom prst="rect">
            <a:avLst/>
          </a:prstGeom>
          <a:gradFill rotWithShape="0">
            <a:gsLst>
              <a:gs pos="0">
                <a:srgbClr val="418aeb"/>
              </a:gs>
              <a:gs pos="100000">
                <a:srgbClr val="004b70">
                  <a:alpha val="8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316400" y="2727360"/>
            <a:ext cx="1087200" cy="1006200"/>
            <a:chOff x="4316400" y="2727360"/>
            <a:chExt cx="1087200" cy="1006200"/>
          </a:xfrm>
        </p:grpSpPr>
        <p:grpSp>
          <p:nvGrpSpPr>
            <p:cNvPr id="51" name=""/>
            <p:cNvGrpSpPr/>
            <p:nvPr/>
          </p:nvGrpSpPr>
          <p:grpSpPr>
            <a:xfrm>
              <a:off x="4316400" y="2727360"/>
              <a:ext cx="1087200" cy="1006200"/>
              <a:chOff x="4316400" y="2727360"/>
              <a:chExt cx="1087200" cy="1006200"/>
            </a:xfrm>
          </p:grpSpPr>
          <p:sp>
            <p:nvSpPr>
              <p:cNvPr id="52" name=""/>
              <p:cNvSpPr/>
              <p:nvPr/>
            </p:nvSpPr>
            <p:spPr>
              <a:xfrm>
                <a:off x="4316400" y="2727360"/>
                <a:ext cx="1087200" cy="100620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152d4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440600" y="2743920"/>
                <a:ext cx="838800" cy="3798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4656960" y="286560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2209680" y="31845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091040"/>
            <a:ext cx="5686560" cy="720720"/>
          </a:xfrm>
          <a:prstGeom prst="rect">
            <a:avLst/>
          </a:prstGeom>
          <a:gradFill rotWithShape="0">
            <a:gsLst>
              <a:gs pos="0">
                <a:srgbClr val="9942e0"/>
              </a:gs>
              <a:gs pos="100000">
                <a:srgbClr val="004b70">
                  <a:alpha val="8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5021280" y="3809880"/>
            <a:ext cx="1098000" cy="1012680"/>
            <a:chOff x="5021280" y="3809880"/>
            <a:chExt cx="1098000" cy="1012680"/>
          </a:xfrm>
        </p:grpSpPr>
        <p:grpSp>
          <p:nvGrpSpPr>
            <p:cNvPr id="58" name=""/>
            <p:cNvGrpSpPr/>
            <p:nvPr/>
          </p:nvGrpSpPr>
          <p:grpSpPr>
            <a:xfrm>
              <a:off x="5021280" y="3809880"/>
              <a:ext cx="1098000" cy="1012680"/>
              <a:chOff x="5021280" y="3809880"/>
              <a:chExt cx="1098000" cy="1012680"/>
            </a:xfrm>
          </p:grpSpPr>
          <p:sp>
            <p:nvSpPr>
              <p:cNvPr id="59" name=""/>
              <p:cNvSpPr/>
              <p:nvPr/>
            </p:nvSpPr>
            <p:spPr>
              <a:xfrm>
                <a:off x="5021280" y="3809880"/>
                <a:ext cx="1098000" cy="1012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2518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146560" y="3826440"/>
                <a:ext cx="847080" cy="381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5441760" y="386424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971800" y="42670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214960"/>
            <a:ext cx="6392880" cy="719280"/>
          </a:xfrm>
          <a:prstGeom prst="rect">
            <a:avLst/>
          </a:prstGeom>
          <a:gradFill rotWithShape="0">
            <a:gsLst>
              <a:gs pos="0">
                <a:srgbClr val="33ad8a"/>
              </a:gs>
              <a:gs pos="100000">
                <a:srgbClr val="004b70">
                  <a:alpha val="8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678640" y="4952880"/>
            <a:ext cx="1103040" cy="1019160"/>
            <a:chOff x="5678640" y="4952880"/>
            <a:chExt cx="1103040" cy="1019160"/>
          </a:xfrm>
        </p:grpSpPr>
        <p:sp>
          <p:nvSpPr>
            <p:cNvPr id="65" name=""/>
            <p:cNvSpPr/>
            <p:nvPr/>
          </p:nvSpPr>
          <p:spPr>
            <a:xfrm>
              <a:off x="5678640" y="4952880"/>
              <a:ext cx="1103040" cy="10191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0c313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04640" y="4969800"/>
              <a:ext cx="851040" cy="3844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6128640" y="501984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54054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1676520"/>
            <a:ext cx="2514600" cy="1981080"/>
          </a:xfrm>
          <a:prstGeom prst="wedgeRoundRectCallout">
            <a:avLst>
              <a:gd name="adj1" fmla="val -44759"/>
              <a:gd name="adj2" fmla="val 84694"/>
              <a:gd name="adj3" fmla="val 16667"/>
            </a:avLst>
          </a:prstGeom>
          <a:solidFill>
            <a:srgbClr val="d1c67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874880"/>
            <a:ext cx="4222800" cy="718920"/>
          </a:xfrm>
          <a:prstGeom prst="rect">
            <a:avLst/>
          </a:prstGeom>
          <a:gradFill rotWithShape="0">
            <a:gsLst>
              <a:gs pos="0">
                <a:srgbClr val="ff6699"/>
              </a:gs>
              <a:gs pos="100000">
                <a:srgbClr val="fefefe">
                  <a:alpha val="8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68760" y="1600200"/>
            <a:ext cx="1098000" cy="1001520"/>
            <a:chOff x="3668760" y="1600200"/>
            <a:chExt cx="1098000" cy="1001520"/>
          </a:xfrm>
        </p:grpSpPr>
        <p:grpSp>
          <p:nvGrpSpPr>
            <p:cNvPr id="73" name=""/>
            <p:cNvGrpSpPr/>
            <p:nvPr/>
          </p:nvGrpSpPr>
          <p:grpSpPr>
            <a:xfrm>
              <a:off x="3668760" y="1600200"/>
              <a:ext cx="1098000" cy="1001520"/>
              <a:chOff x="3668760" y="1600200"/>
              <a:chExt cx="1098000" cy="1001520"/>
            </a:xfrm>
          </p:grpSpPr>
          <p:sp>
            <p:nvSpPr>
              <p:cNvPr id="74" name=""/>
              <p:cNvSpPr/>
              <p:nvPr/>
            </p:nvSpPr>
            <p:spPr>
              <a:xfrm>
                <a:off x="3668760" y="1600200"/>
                <a:ext cx="1098000" cy="1001520"/>
              </a:xfrm>
              <a:prstGeom prst="ellipse">
                <a:avLst/>
              </a:prstGeom>
              <a:gradFill rotWithShape="0">
                <a:gsLst>
                  <a:gs pos="0">
                    <a:srgbClr val="ff9999"/>
                  </a:gs>
                  <a:gs pos="100000">
                    <a:srgbClr val="633b3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794040" y="1616760"/>
                <a:ext cx="847080" cy="3780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4045680" y="171144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600200" y="20304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979720"/>
            <a:ext cx="4665600" cy="719280"/>
          </a:xfrm>
          <a:prstGeom prst="rect">
            <a:avLst/>
          </a:prstGeom>
          <a:gradFill rotWithShape="0">
            <a:gsLst>
              <a:gs pos="0">
                <a:srgbClr val="93b1fd"/>
              </a:gs>
              <a:gs pos="100000">
                <a:srgbClr val="fefefe">
                  <a:alpha val="8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316400" y="2727360"/>
            <a:ext cx="1087200" cy="1006200"/>
            <a:chOff x="4316400" y="2727360"/>
            <a:chExt cx="1087200" cy="1006200"/>
          </a:xfrm>
        </p:grpSpPr>
        <p:grpSp>
          <p:nvGrpSpPr>
            <p:cNvPr id="80" name=""/>
            <p:cNvGrpSpPr/>
            <p:nvPr/>
          </p:nvGrpSpPr>
          <p:grpSpPr>
            <a:xfrm>
              <a:off x="4316400" y="2727360"/>
              <a:ext cx="1087200" cy="1006200"/>
              <a:chOff x="4316400" y="2727360"/>
              <a:chExt cx="1087200" cy="1006200"/>
            </a:xfrm>
          </p:grpSpPr>
          <p:sp>
            <p:nvSpPr>
              <p:cNvPr id="81" name=""/>
              <p:cNvSpPr/>
              <p:nvPr/>
            </p:nvSpPr>
            <p:spPr>
              <a:xfrm>
                <a:off x="4316400" y="2727360"/>
                <a:ext cx="1087200" cy="1006200"/>
              </a:xfrm>
              <a:prstGeom prst="ellipse">
                <a:avLst/>
              </a:prstGeom>
              <a:gradFill rotWithShape="0">
                <a:gsLst>
                  <a:gs pos="0">
                    <a:srgbClr val="93b1fd"/>
                  </a:gs>
                  <a:gs pos="100000">
                    <a:srgbClr val="2c354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440600" y="2743920"/>
                <a:ext cx="838800" cy="3798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3b1f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4658400" y="286560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2209680" y="31845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091040"/>
            <a:ext cx="5686560" cy="720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efefe">
                  <a:alpha val="8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021280" y="3809880"/>
            <a:ext cx="1098000" cy="1012680"/>
            <a:chOff x="5021280" y="3809880"/>
            <a:chExt cx="1098000" cy="1012680"/>
          </a:xfrm>
        </p:grpSpPr>
        <p:grpSp>
          <p:nvGrpSpPr>
            <p:cNvPr id="87" name=""/>
            <p:cNvGrpSpPr/>
            <p:nvPr/>
          </p:nvGrpSpPr>
          <p:grpSpPr>
            <a:xfrm>
              <a:off x="5021280" y="3809880"/>
              <a:ext cx="1098000" cy="1012680"/>
              <a:chOff x="5021280" y="3809880"/>
              <a:chExt cx="1098000" cy="1012680"/>
            </a:xfrm>
          </p:grpSpPr>
          <p:sp>
            <p:nvSpPr>
              <p:cNvPr id="88" name=""/>
              <p:cNvSpPr/>
              <p:nvPr/>
            </p:nvSpPr>
            <p:spPr>
              <a:xfrm>
                <a:off x="5021280" y="3809880"/>
                <a:ext cx="1098000" cy="101268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531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146560" y="3826440"/>
                <a:ext cx="847080" cy="381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5441760" y="386424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2971800" y="42670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214960"/>
            <a:ext cx="6392880" cy="719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fefe">
                  <a:alpha val="8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678640" y="4952880"/>
            <a:ext cx="1103040" cy="1019160"/>
            <a:chOff x="5678640" y="4952880"/>
            <a:chExt cx="1103040" cy="1019160"/>
          </a:xfrm>
        </p:grpSpPr>
        <p:sp>
          <p:nvSpPr>
            <p:cNvPr id="94" name=""/>
            <p:cNvSpPr/>
            <p:nvPr/>
          </p:nvSpPr>
          <p:spPr>
            <a:xfrm>
              <a:off x="5678640" y="4952880"/>
              <a:ext cx="1103040" cy="10191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3d2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04640" y="4969800"/>
              <a:ext cx="851040" cy="3844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6128640" y="501984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54054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72200" y="1676520"/>
            <a:ext cx="2514600" cy="1981080"/>
          </a:xfrm>
          <a:prstGeom prst="wedgeRoundRectCallout">
            <a:avLst>
              <a:gd name="adj1" fmla="val -44759"/>
              <a:gd name="adj2" fmla="val 84694"/>
              <a:gd name="adj3" fmla="val 16667"/>
            </a:avLst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DugCheun Kang</cp:lastModifiedBy>
  <dcterms:modified xsi:type="dcterms:W3CDTF">2004-11-09T01:04:08Z</dcterms:modified>
  <cp:revision>98</cp:revision>
  <dc:subject/>
  <dc:title>Contents Design</dc:title>
</cp:coreProperties>
</file>