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625F-9DB6-4DAD-9A81-579E2BD33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1308960"/>
            <a:ext cx="822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70F0-2AB0-4C38-B5FA-A00102C45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13089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13089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64DA-15A7-41E2-AE8E-E61B5A767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9903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9903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13089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13089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13089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F8F2-704B-4EBC-91E6-8026F1D91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A0BF-F0E6-4127-BEC4-A12918E8B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2EB8-9E1D-4418-B969-55820F749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4FE6-30D3-4346-B251-C7A687B6E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5A27-156C-4B02-9871-AEACEA92C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22824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173E-A870-4B07-AC4C-24042FE2E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13089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785B-11E9-414E-AB2B-A71089187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13089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B738-2F51-4AD4-8397-FA814E945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1308960"/>
            <a:ext cx="822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A000-ED2F-44AE-958B-9B73A370C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6AB67-4CA4-433B-95CF-20676F8EB35A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5000"/>
          </a:bodyPr>
          <a:p>
            <a:pPr marL="85680" indent="-85680">
              <a:spcBef>
                <a:spcPts val="400"/>
              </a:spcBef>
              <a:buClr>
                <a:srgbClr val="66c5f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185760" indent="-71280"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285480" indent="-56880">
              <a:spcBef>
                <a:spcPts val="400"/>
              </a:spcBef>
              <a:buClr>
                <a:srgbClr val="a01dd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3" marL="399960" indent="-56880">
              <a:spcBef>
                <a:spcPts val="400"/>
              </a:spcBef>
              <a:buClr>
                <a:srgbClr val="c0c0c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4" marL="514080" indent="-56880">
              <a:spcBef>
                <a:spcPts val="400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5" marL="514080" indent="-56880">
              <a:spcBef>
                <a:spcPts val="4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6" marL="514080" indent="-56880">
              <a:spcBef>
                <a:spcPts val="4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3880" y="4495680"/>
            <a:ext cx="1621080" cy="5446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5200560" y="5872320"/>
            <a:ext cx="2038320" cy="6858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4057560" y="3867120"/>
            <a:ext cx="1276560" cy="4287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5391000" y="2209680"/>
            <a:ext cx="704880" cy="2383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 rot="13770000">
            <a:off x="4912920" y="3736800"/>
            <a:ext cx="960480" cy="192240"/>
          </a:xfrm>
          <a:prstGeom prst="rect">
            <a:avLst/>
          </a:prstGeom>
          <a:gradFill rotWithShape="0">
            <a:gsLst>
              <a:gs pos="0">
                <a:srgbClr val="454545"/>
              </a:gs>
              <a:gs pos="50000">
                <a:srgbClr val="969696"/>
              </a:gs>
              <a:gs pos="100000">
                <a:srgbClr val="454545"/>
              </a:gs>
            </a:gsLst>
            <a:lin ang="13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rot="20856000">
            <a:off x="2923920" y="3284640"/>
            <a:ext cx="1009440" cy="172800"/>
          </a:xfrm>
          <a:prstGeom prst="rect">
            <a:avLst/>
          </a:prstGeom>
          <a:gradFill rotWithShape="0">
            <a:gsLst>
              <a:gs pos="0">
                <a:srgbClr val="454545"/>
              </a:gs>
              <a:gs pos="50000">
                <a:srgbClr val="969696"/>
              </a:gs>
              <a:gs pos="100000">
                <a:srgbClr val="454545"/>
              </a:gs>
            </a:gsLst>
            <a:lin ang="614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3862440" y="1978560"/>
            <a:ext cx="1706400" cy="1836360"/>
            <a:chOff x="3862440" y="1978560"/>
            <a:chExt cx="1706400" cy="1836360"/>
          </a:xfrm>
        </p:grpSpPr>
        <p:sp>
          <p:nvSpPr>
            <p:cNvPr id="48" name=""/>
            <p:cNvSpPr/>
            <p:nvPr/>
          </p:nvSpPr>
          <p:spPr>
            <a:xfrm rot="18394200">
              <a:off x="5039280" y="2191680"/>
              <a:ext cx="596880" cy="131760"/>
            </a:xfrm>
            <a:prstGeom prst="rect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86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3862440" y="2224080"/>
              <a:ext cx="1609560" cy="1590840"/>
              <a:chOff x="3862440" y="2224080"/>
              <a:chExt cx="1609560" cy="1590840"/>
            </a:xfrm>
          </p:grpSpPr>
          <p:sp>
            <p:nvSpPr>
              <p:cNvPr id="50" name=""/>
              <p:cNvSpPr/>
              <p:nvPr/>
            </p:nvSpPr>
            <p:spPr>
              <a:xfrm>
                <a:off x="3862440" y="2224080"/>
                <a:ext cx="1609560" cy="1590840"/>
              </a:xfrm>
              <a:prstGeom prst="ellipse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0c313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4046400" y="2250360"/>
                <a:ext cx="1241640" cy="60048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33cc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2" name=""/>
            <p:cNvSpPr/>
            <p:nvPr/>
          </p:nvSpPr>
          <p:spPr>
            <a:xfrm>
              <a:off x="3949200" y="291636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5272200" y="1295280"/>
            <a:ext cx="891720" cy="862200"/>
            <a:chOff x="5272200" y="1295280"/>
            <a:chExt cx="891720" cy="862200"/>
          </a:xfrm>
        </p:grpSpPr>
        <p:grpSp>
          <p:nvGrpSpPr>
            <p:cNvPr id="54" name=""/>
            <p:cNvGrpSpPr/>
            <p:nvPr/>
          </p:nvGrpSpPr>
          <p:grpSpPr>
            <a:xfrm>
              <a:off x="5272200" y="1295280"/>
              <a:ext cx="871560" cy="862200"/>
              <a:chOff x="5272200" y="1295280"/>
              <a:chExt cx="871560" cy="862200"/>
            </a:xfrm>
          </p:grpSpPr>
          <p:sp>
            <p:nvSpPr>
              <p:cNvPr id="55" name=""/>
              <p:cNvSpPr/>
              <p:nvPr/>
            </p:nvSpPr>
            <p:spPr>
              <a:xfrm>
                <a:off x="5272200" y="1295280"/>
                <a:ext cx="871560" cy="862200"/>
              </a:xfrm>
              <a:prstGeom prst="ellipse">
                <a:avLst/>
              </a:prstGeom>
              <a:gradFill rotWithShape="0">
                <a:gsLst>
                  <a:gs pos="0">
                    <a:srgbClr val="cccc00"/>
                  </a:gs>
                  <a:gs pos="100000">
                    <a:srgbClr val="3131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5371560" y="1309320"/>
                <a:ext cx="672480" cy="32544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c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92720" y="1627200"/>
              <a:ext cx="871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Concep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1447920" y="2620800"/>
            <a:ext cx="1744560" cy="1791000"/>
            <a:chOff x="1447920" y="2620800"/>
            <a:chExt cx="1744560" cy="1791000"/>
          </a:xfrm>
        </p:grpSpPr>
        <p:grpSp>
          <p:nvGrpSpPr>
            <p:cNvPr id="59" name=""/>
            <p:cNvGrpSpPr/>
            <p:nvPr/>
          </p:nvGrpSpPr>
          <p:grpSpPr>
            <a:xfrm>
              <a:off x="1447920" y="2620800"/>
              <a:ext cx="1744560" cy="1791000"/>
              <a:chOff x="1447920" y="2620800"/>
              <a:chExt cx="1744560" cy="1791000"/>
            </a:xfrm>
          </p:grpSpPr>
          <p:sp>
            <p:nvSpPr>
              <p:cNvPr id="60" name=""/>
              <p:cNvSpPr/>
              <p:nvPr/>
            </p:nvSpPr>
            <p:spPr>
              <a:xfrm>
                <a:off x="1447920" y="2620800"/>
                <a:ext cx="1744560" cy="1791000"/>
              </a:xfrm>
              <a:prstGeom prst="ellipse">
                <a:avLst/>
              </a:prstGeom>
              <a:gradFill rotWithShape="0">
                <a:gsLst>
                  <a:gs pos="0">
                    <a:srgbClr val="ffcc66"/>
                  </a:gs>
                  <a:gs pos="100000">
                    <a:srgbClr val="3d3118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647360" y="2650320"/>
                <a:ext cx="1345680" cy="67572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cc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2" name=""/>
            <p:cNvSpPr/>
            <p:nvPr/>
          </p:nvSpPr>
          <p:spPr>
            <a:xfrm>
              <a:off x="1541880" y="3416400"/>
              <a:ext cx="1543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5203800" y="3881520"/>
            <a:ext cx="2013120" cy="1989000"/>
            <a:chOff x="5203800" y="3881520"/>
            <a:chExt cx="2013120" cy="1989000"/>
          </a:xfrm>
        </p:grpSpPr>
        <p:grpSp>
          <p:nvGrpSpPr>
            <p:cNvPr id="64" name=""/>
            <p:cNvGrpSpPr/>
            <p:nvPr/>
          </p:nvGrpSpPr>
          <p:grpSpPr>
            <a:xfrm>
              <a:off x="5203800" y="3881520"/>
              <a:ext cx="2013120" cy="1989000"/>
              <a:chOff x="5203800" y="3881520"/>
              <a:chExt cx="2013120" cy="1989000"/>
            </a:xfrm>
          </p:grpSpPr>
          <p:sp>
            <p:nvSpPr>
              <p:cNvPr id="65" name=""/>
              <p:cNvSpPr/>
              <p:nvPr/>
            </p:nvSpPr>
            <p:spPr>
              <a:xfrm>
                <a:off x="5203800" y="3881520"/>
                <a:ext cx="2013120" cy="1989000"/>
              </a:xfrm>
              <a:prstGeom prst="ellipse">
                <a:avLst/>
              </a:prstGeom>
              <a:gradFill rotWithShape="0">
                <a:gsLst>
                  <a:gs pos="0">
                    <a:srgbClr val="9942e0"/>
                  </a:gs>
                  <a:gs pos="100000">
                    <a:srgbClr val="461e67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5433840" y="3914280"/>
                <a:ext cx="1553040" cy="75060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9942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7" name=""/>
            <p:cNvSpPr/>
            <p:nvPr/>
          </p:nvSpPr>
          <p:spPr>
            <a:xfrm>
              <a:off x="5492160" y="4743360"/>
              <a:ext cx="160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br>
              <a:rPr sz="3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owerPoint 2002+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 rot="13770000">
            <a:off x="4912920" y="3736800"/>
            <a:ext cx="960480" cy="192240"/>
          </a:xfrm>
          <a:prstGeom prst="rect">
            <a:avLst/>
          </a:prstGeom>
          <a:gradFill rotWithShape="0">
            <a:gsLst>
              <a:gs pos="0">
                <a:srgbClr val="454545"/>
              </a:gs>
              <a:gs pos="50000">
                <a:srgbClr val="969696"/>
              </a:gs>
              <a:gs pos="100000">
                <a:srgbClr val="454545"/>
              </a:gs>
            </a:gsLst>
            <a:lin ang="13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rot="20856000">
            <a:off x="2923920" y="3284640"/>
            <a:ext cx="1009440" cy="172800"/>
          </a:xfrm>
          <a:prstGeom prst="rect">
            <a:avLst/>
          </a:prstGeom>
          <a:gradFill rotWithShape="0">
            <a:gsLst>
              <a:gs pos="0">
                <a:srgbClr val="454545"/>
              </a:gs>
              <a:gs pos="50000">
                <a:srgbClr val="969696"/>
              </a:gs>
              <a:gs pos="100000">
                <a:srgbClr val="454545"/>
              </a:gs>
            </a:gsLst>
            <a:lin ang="614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862440" y="1978560"/>
            <a:ext cx="1706400" cy="1836360"/>
            <a:chOff x="3862440" y="1978560"/>
            <a:chExt cx="1706400" cy="1836360"/>
          </a:xfrm>
        </p:grpSpPr>
        <p:sp>
          <p:nvSpPr>
            <p:cNvPr id="72" name=""/>
            <p:cNvSpPr/>
            <p:nvPr/>
          </p:nvSpPr>
          <p:spPr>
            <a:xfrm rot="18394200">
              <a:off x="5039280" y="2191680"/>
              <a:ext cx="596880" cy="131760"/>
            </a:xfrm>
            <a:prstGeom prst="rect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86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3" name=""/>
            <p:cNvGrpSpPr/>
            <p:nvPr/>
          </p:nvGrpSpPr>
          <p:grpSpPr>
            <a:xfrm>
              <a:off x="3862440" y="2224080"/>
              <a:ext cx="1609560" cy="1590840"/>
              <a:chOff x="3862440" y="2224080"/>
              <a:chExt cx="1609560" cy="1590840"/>
            </a:xfrm>
          </p:grpSpPr>
          <p:sp>
            <p:nvSpPr>
              <p:cNvPr id="74" name=""/>
              <p:cNvSpPr/>
              <p:nvPr/>
            </p:nvSpPr>
            <p:spPr>
              <a:xfrm>
                <a:off x="3862440" y="2224080"/>
                <a:ext cx="1609560" cy="1590840"/>
              </a:xfrm>
              <a:prstGeom prst="ellipse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0c313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4046400" y="2250360"/>
                <a:ext cx="1241640" cy="60048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33cc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6" name=""/>
            <p:cNvSpPr/>
            <p:nvPr/>
          </p:nvSpPr>
          <p:spPr>
            <a:xfrm>
              <a:off x="3949200" y="291636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5272200" y="1295280"/>
            <a:ext cx="891720" cy="862200"/>
            <a:chOff x="5272200" y="1295280"/>
            <a:chExt cx="891720" cy="862200"/>
          </a:xfrm>
        </p:grpSpPr>
        <p:grpSp>
          <p:nvGrpSpPr>
            <p:cNvPr id="78" name=""/>
            <p:cNvGrpSpPr/>
            <p:nvPr/>
          </p:nvGrpSpPr>
          <p:grpSpPr>
            <a:xfrm>
              <a:off x="5272200" y="1295280"/>
              <a:ext cx="871560" cy="862200"/>
              <a:chOff x="5272200" y="1295280"/>
              <a:chExt cx="871560" cy="862200"/>
            </a:xfrm>
          </p:grpSpPr>
          <p:sp>
            <p:nvSpPr>
              <p:cNvPr id="79" name=""/>
              <p:cNvSpPr/>
              <p:nvPr/>
            </p:nvSpPr>
            <p:spPr>
              <a:xfrm>
                <a:off x="5272200" y="1295280"/>
                <a:ext cx="871560" cy="862200"/>
              </a:xfrm>
              <a:prstGeom prst="ellipse">
                <a:avLst/>
              </a:prstGeom>
              <a:gradFill rotWithShape="0">
                <a:gsLst>
                  <a:gs pos="0">
                    <a:srgbClr val="cccc00"/>
                  </a:gs>
                  <a:gs pos="100000">
                    <a:srgbClr val="3131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5371560" y="1309320"/>
                <a:ext cx="672480" cy="32544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c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1" name=""/>
            <p:cNvSpPr/>
            <p:nvPr/>
          </p:nvSpPr>
          <p:spPr>
            <a:xfrm>
              <a:off x="5292720" y="1627200"/>
              <a:ext cx="871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Concep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1447920" y="2620800"/>
            <a:ext cx="1744560" cy="1791000"/>
            <a:chOff x="1447920" y="2620800"/>
            <a:chExt cx="1744560" cy="1791000"/>
          </a:xfrm>
        </p:grpSpPr>
        <p:grpSp>
          <p:nvGrpSpPr>
            <p:cNvPr id="83" name=""/>
            <p:cNvGrpSpPr/>
            <p:nvPr/>
          </p:nvGrpSpPr>
          <p:grpSpPr>
            <a:xfrm>
              <a:off x="1447920" y="2620800"/>
              <a:ext cx="1744560" cy="1791000"/>
              <a:chOff x="1447920" y="2620800"/>
              <a:chExt cx="1744560" cy="1791000"/>
            </a:xfrm>
          </p:grpSpPr>
          <p:sp>
            <p:nvSpPr>
              <p:cNvPr id="84" name=""/>
              <p:cNvSpPr/>
              <p:nvPr/>
            </p:nvSpPr>
            <p:spPr>
              <a:xfrm>
                <a:off x="1447920" y="2620800"/>
                <a:ext cx="1744560" cy="1791000"/>
              </a:xfrm>
              <a:prstGeom prst="ellipse">
                <a:avLst/>
              </a:prstGeom>
              <a:gradFill rotWithShape="0">
                <a:gsLst>
                  <a:gs pos="0">
                    <a:srgbClr val="ffcc66"/>
                  </a:gs>
                  <a:gs pos="100000">
                    <a:srgbClr val="3d3118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1647360" y="2650320"/>
                <a:ext cx="1345680" cy="67572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cc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6" name=""/>
            <p:cNvSpPr/>
            <p:nvPr/>
          </p:nvSpPr>
          <p:spPr>
            <a:xfrm>
              <a:off x="1541880" y="3416400"/>
              <a:ext cx="1543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5203800" y="3881520"/>
            <a:ext cx="2013120" cy="1989000"/>
            <a:chOff x="5203800" y="3881520"/>
            <a:chExt cx="2013120" cy="1989000"/>
          </a:xfrm>
        </p:grpSpPr>
        <p:grpSp>
          <p:nvGrpSpPr>
            <p:cNvPr id="88" name=""/>
            <p:cNvGrpSpPr/>
            <p:nvPr/>
          </p:nvGrpSpPr>
          <p:grpSpPr>
            <a:xfrm>
              <a:off x="5203800" y="3881520"/>
              <a:ext cx="2013120" cy="1989000"/>
              <a:chOff x="5203800" y="3881520"/>
              <a:chExt cx="2013120" cy="1989000"/>
            </a:xfrm>
          </p:grpSpPr>
          <p:sp>
            <p:nvSpPr>
              <p:cNvPr id="89" name=""/>
              <p:cNvSpPr/>
              <p:nvPr/>
            </p:nvSpPr>
            <p:spPr>
              <a:xfrm>
                <a:off x="5203800" y="3881520"/>
                <a:ext cx="2013120" cy="1989000"/>
              </a:xfrm>
              <a:prstGeom prst="ellipse">
                <a:avLst/>
              </a:prstGeom>
              <a:gradFill rotWithShape="0">
                <a:gsLst>
                  <a:gs pos="0">
                    <a:srgbClr val="9942e0"/>
                  </a:gs>
                  <a:gs pos="100000">
                    <a:srgbClr val="461e67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5433840" y="3914280"/>
                <a:ext cx="1553040" cy="75060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9942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1" name=""/>
            <p:cNvSpPr/>
            <p:nvPr/>
          </p:nvSpPr>
          <p:spPr>
            <a:xfrm>
              <a:off x="5492160" y="4743360"/>
              <a:ext cx="160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br>
              <a:rPr sz="3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owerPoint 2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828800" y="4495680"/>
            <a:ext cx="914400" cy="152640"/>
          </a:xfrm>
          <a:prstGeom prst="ellipse">
            <a:avLst/>
          </a:prstGeom>
          <a:solidFill>
            <a:srgbClr val="0000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3924360"/>
            <a:ext cx="762120" cy="114120"/>
          </a:xfrm>
          <a:prstGeom prst="ellipse">
            <a:avLst/>
          </a:prstGeom>
          <a:solidFill>
            <a:srgbClr val="0000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638680" y="5943600"/>
            <a:ext cx="1219320" cy="152280"/>
          </a:xfrm>
          <a:prstGeom prst="ellipse">
            <a:avLst/>
          </a:prstGeom>
          <a:solidFill>
            <a:srgbClr val="0000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486400" y="2247840"/>
            <a:ext cx="457200" cy="76320"/>
          </a:xfrm>
          <a:prstGeom prst="ellipse">
            <a:avLst/>
          </a:prstGeom>
          <a:solidFill>
            <a:srgbClr val="0000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523880" y="4495680"/>
            <a:ext cx="1621080" cy="5446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5486400" y="6172200"/>
            <a:ext cx="2038320" cy="6858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4133880" y="3867120"/>
            <a:ext cx="1276200" cy="4287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5562720" y="1981080"/>
            <a:ext cx="704880" cy="2383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agram</a:t>
            </a:r>
            <a:br>
              <a:rPr sz="3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werPoint 2002+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rot="13770000">
            <a:off x="4996800" y="3798360"/>
            <a:ext cx="1103400" cy="21744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50000">
                <a:srgbClr val="c8c8c8"/>
              </a:gs>
              <a:gs pos="100000">
                <a:srgbClr val="969696"/>
              </a:gs>
            </a:gsLst>
            <a:lin ang="13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20856000">
            <a:off x="2743200" y="3276360"/>
            <a:ext cx="1146240" cy="19836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50000">
                <a:srgbClr val="cbcbcb"/>
              </a:gs>
              <a:gs pos="100000">
                <a:srgbClr val="969696"/>
              </a:gs>
            </a:gsLst>
            <a:lin ang="614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rot="18394200">
            <a:off x="5142600" y="2019600"/>
            <a:ext cx="685800" cy="15084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50000">
                <a:srgbClr val="dedede"/>
              </a:gs>
              <a:gs pos="100000">
                <a:srgbClr val="969696"/>
              </a:gs>
            </a:gsLst>
            <a:lin ang="86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3809880" y="2057400"/>
            <a:ext cx="1828800" cy="1828800"/>
            <a:chOff x="3809880" y="2057400"/>
            <a:chExt cx="1828800" cy="1828800"/>
          </a:xfrm>
        </p:grpSpPr>
        <p:grpSp>
          <p:nvGrpSpPr>
            <p:cNvPr id="106" name=""/>
            <p:cNvGrpSpPr/>
            <p:nvPr/>
          </p:nvGrpSpPr>
          <p:grpSpPr>
            <a:xfrm>
              <a:off x="3809880" y="2057400"/>
              <a:ext cx="1828800" cy="1828800"/>
              <a:chOff x="3809880" y="2057400"/>
              <a:chExt cx="1828800" cy="1828800"/>
            </a:xfrm>
          </p:grpSpPr>
          <p:sp>
            <p:nvSpPr>
              <p:cNvPr id="107" name=""/>
              <p:cNvSpPr/>
              <p:nvPr/>
            </p:nvSpPr>
            <p:spPr>
              <a:xfrm>
                <a:off x="3809880" y="2057400"/>
                <a:ext cx="1828800" cy="1828800"/>
              </a:xfrm>
              <a:prstGeom prst="ellipse">
                <a:avLst/>
              </a:prstGeom>
              <a:gradFill rotWithShape="0">
                <a:gsLst>
                  <a:gs pos="0">
                    <a:srgbClr val="33cc33"/>
                  </a:gs>
                  <a:gs pos="100000">
                    <a:srgbClr val="0c310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018680" y="2087640"/>
                <a:ext cx="1410840" cy="69012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33cc3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9" name=""/>
            <p:cNvSpPr/>
            <p:nvPr/>
          </p:nvSpPr>
          <p:spPr>
            <a:xfrm>
              <a:off x="4001400" y="285264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5410080" y="990720"/>
            <a:ext cx="990720" cy="990360"/>
            <a:chOff x="5410080" y="990720"/>
            <a:chExt cx="990720" cy="990360"/>
          </a:xfrm>
        </p:grpSpPr>
        <p:grpSp>
          <p:nvGrpSpPr>
            <p:cNvPr id="111" name=""/>
            <p:cNvGrpSpPr/>
            <p:nvPr/>
          </p:nvGrpSpPr>
          <p:grpSpPr>
            <a:xfrm>
              <a:off x="5410080" y="990720"/>
              <a:ext cx="990720" cy="990360"/>
              <a:chOff x="5410080" y="990720"/>
              <a:chExt cx="990720" cy="990360"/>
            </a:xfrm>
          </p:grpSpPr>
          <p:sp>
            <p:nvSpPr>
              <p:cNvPr id="112" name=""/>
              <p:cNvSpPr/>
              <p:nvPr/>
            </p:nvSpPr>
            <p:spPr>
              <a:xfrm>
                <a:off x="5410080" y="990720"/>
                <a:ext cx="990720" cy="990360"/>
              </a:xfrm>
              <a:prstGeom prst="ellips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0c2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5523120" y="1006920"/>
                <a:ext cx="764280" cy="37368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>
              <a:off x="5491800" y="1371600"/>
              <a:ext cx="871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Concep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1295280" y="2438280"/>
            <a:ext cx="1981080" cy="2057400"/>
            <a:chOff x="1295280" y="2438280"/>
            <a:chExt cx="1981080" cy="2057400"/>
          </a:xfrm>
        </p:grpSpPr>
        <p:grpSp>
          <p:nvGrpSpPr>
            <p:cNvPr id="116" name=""/>
            <p:cNvGrpSpPr/>
            <p:nvPr/>
          </p:nvGrpSpPr>
          <p:grpSpPr>
            <a:xfrm>
              <a:off x="1295280" y="2438280"/>
              <a:ext cx="1981080" cy="2057400"/>
              <a:chOff x="1295280" y="2438280"/>
              <a:chExt cx="1981080" cy="2057400"/>
            </a:xfrm>
          </p:grpSpPr>
          <p:sp>
            <p:nvSpPr>
              <p:cNvPr id="117" name=""/>
              <p:cNvSpPr/>
              <p:nvPr/>
            </p:nvSpPr>
            <p:spPr>
              <a:xfrm>
                <a:off x="1295280" y="2438280"/>
                <a:ext cx="1981080" cy="2057400"/>
              </a:xfrm>
              <a:prstGeom prst="ellipse">
                <a:avLst/>
              </a:prstGeom>
              <a:gradFill rotWithShape="0">
                <a:gsLst>
                  <a:gs pos="0">
                    <a:srgbClr val="a776f0"/>
                  </a:gs>
                  <a:gs pos="100000">
                    <a:srgbClr val="694a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521720" y="2472120"/>
                <a:ext cx="1528200" cy="77652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a776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505160" y="3352680"/>
              <a:ext cx="1543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5334120" y="3962520"/>
            <a:ext cx="2286000" cy="2286000"/>
            <a:chOff x="5334120" y="3962520"/>
            <a:chExt cx="2286000" cy="2286000"/>
          </a:xfrm>
        </p:grpSpPr>
        <p:grpSp>
          <p:nvGrpSpPr>
            <p:cNvPr id="121" name=""/>
            <p:cNvGrpSpPr/>
            <p:nvPr/>
          </p:nvGrpSpPr>
          <p:grpSpPr>
            <a:xfrm>
              <a:off x="5334120" y="3962520"/>
              <a:ext cx="2286000" cy="2286000"/>
              <a:chOff x="5334120" y="3962520"/>
              <a:chExt cx="2286000" cy="2286000"/>
            </a:xfrm>
          </p:grpSpPr>
          <p:sp>
            <p:nvSpPr>
              <p:cNvPr id="122" name=""/>
              <p:cNvSpPr/>
              <p:nvPr/>
            </p:nvSpPr>
            <p:spPr>
              <a:xfrm>
                <a:off x="5334120" y="396252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fa8228"/>
                  </a:gs>
                  <a:gs pos="100000">
                    <a:srgbClr val="7f421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5595480" y="4000320"/>
                <a:ext cx="1763280" cy="86256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a822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5768640" y="4953240"/>
              <a:ext cx="160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agram</a:t>
            </a:r>
            <a:br>
              <a:rPr sz="3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werPoint 2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rot="13770000">
            <a:off x="4996800" y="3798360"/>
            <a:ext cx="1103400" cy="21744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50000">
                <a:srgbClr val="c8c8c8"/>
              </a:gs>
              <a:gs pos="100000">
                <a:srgbClr val="969696"/>
              </a:gs>
            </a:gsLst>
            <a:lin ang="13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rot="20856000">
            <a:off x="2743200" y="3276360"/>
            <a:ext cx="1146240" cy="19836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50000">
                <a:srgbClr val="cbcbcb"/>
              </a:gs>
              <a:gs pos="100000">
                <a:srgbClr val="969696"/>
              </a:gs>
            </a:gsLst>
            <a:lin ang="614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rot="18394200">
            <a:off x="5142600" y="2019600"/>
            <a:ext cx="685800" cy="15084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50000">
                <a:srgbClr val="dedede"/>
              </a:gs>
              <a:gs pos="100000">
                <a:srgbClr val="969696"/>
              </a:gs>
            </a:gsLst>
            <a:lin ang="86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3809880" y="2057400"/>
            <a:ext cx="1828800" cy="1828800"/>
            <a:chOff x="3809880" y="2057400"/>
            <a:chExt cx="1828800" cy="1828800"/>
          </a:xfrm>
        </p:grpSpPr>
        <p:grpSp>
          <p:nvGrpSpPr>
            <p:cNvPr id="130" name=""/>
            <p:cNvGrpSpPr/>
            <p:nvPr/>
          </p:nvGrpSpPr>
          <p:grpSpPr>
            <a:xfrm>
              <a:off x="3809880" y="2057400"/>
              <a:ext cx="1828800" cy="1828800"/>
              <a:chOff x="3809880" y="2057400"/>
              <a:chExt cx="1828800" cy="1828800"/>
            </a:xfrm>
          </p:grpSpPr>
          <p:sp>
            <p:nvSpPr>
              <p:cNvPr id="131" name=""/>
              <p:cNvSpPr/>
              <p:nvPr/>
            </p:nvSpPr>
            <p:spPr>
              <a:xfrm>
                <a:off x="3809880" y="2057400"/>
                <a:ext cx="1828800" cy="1828800"/>
              </a:xfrm>
              <a:prstGeom prst="ellipse">
                <a:avLst/>
              </a:prstGeom>
              <a:gradFill rotWithShape="0">
                <a:gsLst>
                  <a:gs pos="0">
                    <a:srgbClr val="33cc33"/>
                  </a:gs>
                  <a:gs pos="100000">
                    <a:srgbClr val="0c310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018680" y="2087640"/>
                <a:ext cx="1410840" cy="69012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33cc3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3" name=""/>
            <p:cNvSpPr/>
            <p:nvPr/>
          </p:nvSpPr>
          <p:spPr>
            <a:xfrm>
              <a:off x="4001400" y="285264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5410080" y="990720"/>
            <a:ext cx="990720" cy="990360"/>
            <a:chOff x="5410080" y="990720"/>
            <a:chExt cx="990720" cy="990360"/>
          </a:xfrm>
        </p:grpSpPr>
        <p:grpSp>
          <p:nvGrpSpPr>
            <p:cNvPr id="135" name=""/>
            <p:cNvGrpSpPr/>
            <p:nvPr/>
          </p:nvGrpSpPr>
          <p:grpSpPr>
            <a:xfrm>
              <a:off x="5410080" y="990720"/>
              <a:ext cx="990720" cy="990360"/>
              <a:chOff x="5410080" y="990720"/>
              <a:chExt cx="990720" cy="990360"/>
            </a:xfrm>
          </p:grpSpPr>
          <p:sp>
            <p:nvSpPr>
              <p:cNvPr id="136" name=""/>
              <p:cNvSpPr/>
              <p:nvPr/>
            </p:nvSpPr>
            <p:spPr>
              <a:xfrm>
                <a:off x="5410080" y="990720"/>
                <a:ext cx="990720" cy="990360"/>
              </a:xfrm>
              <a:prstGeom prst="ellips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0c2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523120" y="1006920"/>
                <a:ext cx="764280" cy="37368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8" name=""/>
            <p:cNvSpPr/>
            <p:nvPr/>
          </p:nvSpPr>
          <p:spPr>
            <a:xfrm>
              <a:off x="5491800" y="1371600"/>
              <a:ext cx="871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Concep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1295280" y="2438280"/>
            <a:ext cx="1981080" cy="2057400"/>
            <a:chOff x="1295280" y="2438280"/>
            <a:chExt cx="1981080" cy="2057400"/>
          </a:xfrm>
        </p:grpSpPr>
        <p:grpSp>
          <p:nvGrpSpPr>
            <p:cNvPr id="140" name=""/>
            <p:cNvGrpSpPr/>
            <p:nvPr/>
          </p:nvGrpSpPr>
          <p:grpSpPr>
            <a:xfrm>
              <a:off x="1295280" y="2438280"/>
              <a:ext cx="1981080" cy="2057400"/>
              <a:chOff x="1295280" y="2438280"/>
              <a:chExt cx="1981080" cy="2057400"/>
            </a:xfrm>
          </p:grpSpPr>
          <p:sp>
            <p:nvSpPr>
              <p:cNvPr id="141" name=""/>
              <p:cNvSpPr/>
              <p:nvPr/>
            </p:nvSpPr>
            <p:spPr>
              <a:xfrm>
                <a:off x="1295280" y="2438280"/>
                <a:ext cx="1981080" cy="2057400"/>
              </a:xfrm>
              <a:prstGeom prst="ellipse">
                <a:avLst/>
              </a:prstGeom>
              <a:gradFill rotWithShape="0">
                <a:gsLst>
                  <a:gs pos="0">
                    <a:srgbClr val="a776f0"/>
                  </a:gs>
                  <a:gs pos="100000">
                    <a:srgbClr val="694a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521720" y="2472120"/>
                <a:ext cx="1528200" cy="77652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a776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3" name=""/>
            <p:cNvSpPr/>
            <p:nvPr/>
          </p:nvSpPr>
          <p:spPr>
            <a:xfrm>
              <a:off x="1505160" y="3352680"/>
              <a:ext cx="1543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5334120" y="3962520"/>
            <a:ext cx="2286000" cy="2286000"/>
            <a:chOff x="5334120" y="3962520"/>
            <a:chExt cx="2286000" cy="2286000"/>
          </a:xfrm>
        </p:grpSpPr>
        <p:grpSp>
          <p:nvGrpSpPr>
            <p:cNvPr id="145" name=""/>
            <p:cNvGrpSpPr/>
            <p:nvPr/>
          </p:nvGrpSpPr>
          <p:grpSpPr>
            <a:xfrm>
              <a:off x="5334120" y="3962520"/>
              <a:ext cx="2286000" cy="2286000"/>
              <a:chOff x="5334120" y="3962520"/>
              <a:chExt cx="2286000" cy="2286000"/>
            </a:xfrm>
          </p:grpSpPr>
          <p:sp>
            <p:nvSpPr>
              <p:cNvPr id="146" name=""/>
              <p:cNvSpPr/>
              <p:nvPr/>
            </p:nvSpPr>
            <p:spPr>
              <a:xfrm>
                <a:off x="5334120" y="396252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fa8228"/>
                  </a:gs>
                  <a:gs pos="100000">
                    <a:srgbClr val="7f421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5595480" y="4000320"/>
                <a:ext cx="1763280" cy="86256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a822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8" name=""/>
            <p:cNvSpPr/>
            <p:nvPr/>
          </p:nvSpPr>
          <p:spPr>
            <a:xfrm>
              <a:off x="5768640" y="4953240"/>
              <a:ext cx="160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1828800" y="4572000"/>
            <a:ext cx="914400" cy="15228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343400" y="3962520"/>
            <a:ext cx="762120" cy="11412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886360" y="6353280"/>
            <a:ext cx="1219320" cy="15228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686560" y="2038320"/>
            <a:ext cx="457200" cy="7632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6T06:37:49Z</dcterms:created>
  <dc:creator>Sung Ha, Park</dc:creator>
  <dc:description/>
  <dc:language>en-US</dc:language>
  <cp:lastModifiedBy>DugCheun Kang</cp:lastModifiedBy>
  <dcterms:modified xsi:type="dcterms:W3CDTF">2004-11-09T01:16:25Z</dcterms:modified>
  <cp:revision>97</cp:revision>
  <dc:subject/>
  <dc:title>Contents Design</dc:title>
</cp:coreProperties>
</file>