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9D3-0079-485D-B4BA-6E49E626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197-52EA-49FE-8C4C-8925B89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65A-0FD1-439A-9E7E-9DE0AFED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83F-BFAF-441A-A0D9-B6E8C759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FAB-CDAB-4374-A017-6513DF5A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3AA-C81A-45BB-A715-224CB6E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D92-6B70-48E6-9F76-4ED9B4DF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BF5-2580-4294-9808-AD3A016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A89-9568-474F-BDC9-813324C5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9CF-0816-4623-9595-9A79BDBF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2F9-3EC5-4A3A-A6F1-C943C79C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3A1-C2DC-4596-8DE7-D06342A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D5B-D0FA-47B7-A469-20317621EB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66880" y="1828800"/>
            <a:ext cx="3886200" cy="3886200"/>
            <a:chOff x="2666880" y="1828800"/>
            <a:chExt cx="3886200" cy="3886200"/>
          </a:xfrm>
        </p:grpSpPr>
        <p:sp>
          <p:nvSpPr>
            <p:cNvPr id="42" name=""/>
            <p:cNvSpPr/>
            <p:nvPr/>
          </p:nvSpPr>
          <p:spPr>
            <a:xfrm>
              <a:off x="2666880" y="1828800"/>
              <a:ext cx="3886200" cy="3886200"/>
            </a:xfrm>
            <a:prstGeom prst="flowChartSummingJunction">
              <a:avLst/>
            </a:prstGeom>
            <a:gradFill rotWithShape="0">
              <a:gsLst>
                <a:gs pos="0">
                  <a:srgbClr val="4996e3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afcef7"/>
              </a:solidFill>
              <a:miter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71640" y="2390760"/>
              <a:ext cx="1516320" cy="141948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108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4505760" y="377100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54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0800000">
              <a:off x="3112560" y="372456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3198600" y="2357640"/>
              <a:ext cx="148248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bbd7f3"/>
                </a:gs>
                <a:gs pos="100000">
                  <a:srgbClr val="4996e3"/>
                </a:gs>
              </a:gsLst>
              <a:lin ang="16200000"/>
            </a:gradFill>
            <a:ln w="9360">
              <a:solidFill>
                <a:srgbClr val="afcef7"/>
              </a:solidFill>
              <a:round/>
            </a:ln>
            <a:effectLst>
              <a:outerShdw dist="17819" dir="2700000" blurRad="0" rotWithShape="0">
                <a:srgbClr val="687b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2743200"/>
            <a:ext cx="1981440" cy="1981080"/>
          </a:xfrm>
          <a:prstGeom prst="flowChartOr">
            <a:avLst/>
          </a:prstGeom>
          <a:gradFill rotWithShape="0">
            <a:gsLst>
              <a:gs pos="0">
                <a:srgbClr val="2b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77353" dir="4837521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6424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6596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6596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0384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74000" y="35812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535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1295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0339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267080" y="3419640"/>
            <a:ext cx="609840" cy="609480"/>
            <a:chOff x="4267080" y="3419640"/>
            <a:chExt cx="609840" cy="609480"/>
          </a:xfrm>
        </p:grpSpPr>
        <p:sp>
          <p:nvSpPr>
            <p:cNvPr id="58" name=""/>
            <p:cNvSpPr/>
            <p:nvPr/>
          </p:nvSpPr>
          <p:spPr>
            <a:xfrm>
              <a:off x="4267080" y="341964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36560" y="3429720"/>
              <a:ext cx="470520" cy="230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1828800"/>
            <a:ext cx="3886200" cy="3886200"/>
            <a:chOff x="2666880" y="1828800"/>
            <a:chExt cx="3886200" cy="3886200"/>
          </a:xfrm>
        </p:grpSpPr>
        <p:sp>
          <p:nvSpPr>
            <p:cNvPr id="62" name=""/>
            <p:cNvSpPr/>
            <p:nvPr/>
          </p:nvSpPr>
          <p:spPr>
            <a:xfrm>
              <a:off x="2666880" y="1828800"/>
              <a:ext cx="3886200" cy="3886200"/>
            </a:xfrm>
            <a:prstGeom prst="flowChartSummingJunction">
              <a:avLst/>
            </a:prstGeom>
            <a:gradFill rotWithShape="0">
              <a:gsLst>
                <a:gs pos="0">
                  <a:srgbClr val="70bbee"/>
                </a:gs>
                <a:gs pos="50000">
                  <a:srgbClr val="e8f3fb"/>
                </a:gs>
                <a:gs pos="100000">
                  <a:srgbClr val="70bbee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1640" y="2390760"/>
              <a:ext cx="1516320" cy="141948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4505760" y="377100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3112560" y="3724560"/>
              <a:ext cx="151596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200000">
              <a:off x="3198600" y="2357640"/>
              <a:ext cx="1482480" cy="1419120"/>
            </a:xfrm>
            <a:custGeom>
              <a:avLst/>
              <a:gdLst/>
              <a:ahLst/>
              <a:rect l="l" t="t" r="r" b="b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70bbe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581280" y="2743200"/>
            <a:ext cx="1981440" cy="1981080"/>
          </a:xfrm>
          <a:prstGeom prst="flowChartOr">
            <a:avLst/>
          </a:prstGeom>
          <a:gradFill rotWithShape="0">
            <a:gsLst>
              <a:gs pos="0">
                <a:srgbClr val="002035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77353" dir="4837521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280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5960" y="30733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6596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03840" y="4038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2760" y="358128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9ec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535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663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2952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76f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0339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267080" y="3419640"/>
            <a:ext cx="609840" cy="609480"/>
            <a:chOff x="4267080" y="3419640"/>
            <a:chExt cx="609840" cy="609480"/>
          </a:xfrm>
        </p:grpSpPr>
        <p:sp>
          <p:nvSpPr>
            <p:cNvPr id="77" name=""/>
            <p:cNvSpPr/>
            <p:nvPr/>
          </p:nvSpPr>
          <p:spPr>
            <a:xfrm>
              <a:off x="4267080" y="341964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3d3d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36560" y="3429720"/>
              <a:ext cx="470520" cy="2300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4:15Z</dcterms:modified>
  <cp:revision>92</cp:revision>
  <dc:subject/>
  <dc:title>Contents Design</dc:title>
</cp:coreProperties>
</file>