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67D-184E-4CB0-863C-853D74CD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4B9-A382-46DA-BC59-2746688E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1F6-67AB-441A-8CF0-39D9C074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334-20C8-46CE-AC51-4342A882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E39-095F-4D21-AEAF-09DE3237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9D8-9946-49BC-A23B-AF57305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35A-FE42-4C27-B47A-20867F2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F8E-F3E6-462A-8FFF-2BA4902E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A12-F031-49B3-A62C-35CBF07D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2D0-A2B0-4BAB-8A38-C28180A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207-D1D2-4810-AC90-CB2E7FA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AFB-4B70-48F9-88C2-6E66C85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0623-7B2B-46DA-BE71-2C70384DAB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666880" y="1828800"/>
            <a:ext cx="3886200" cy="3886200"/>
            <a:chOff x="2666880" y="1828800"/>
            <a:chExt cx="3886200" cy="3886200"/>
          </a:xfrm>
        </p:grpSpPr>
        <p:sp>
          <p:nvSpPr>
            <p:cNvPr id="42" name=""/>
            <p:cNvSpPr/>
            <p:nvPr/>
          </p:nvSpPr>
          <p:spPr>
            <a:xfrm>
              <a:off x="2666880" y="1828800"/>
              <a:ext cx="3886200" cy="3886200"/>
            </a:xfrm>
            <a:prstGeom prst="flowChartSummingJunction">
              <a:avLst/>
            </a:prstGeom>
            <a:gradFill rotWithShape="0">
              <a:gsLst>
                <a:gs pos="0">
                  <a:srgbClr val="4996e3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fcef7"/>
              </a:solidFill>
              <a:miter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571640" y="2390760"/>
              <a:ext cx="1516320" cy="141948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7f3"/>
                </a:gs>
                <a:gs pos="100000">
                  <a:srgbClr val="4996e3"/>
                </a:gs>
              </a:gsLst>
              <a:lin ang="10800000"/>
            </a:gradFill>
            <a:ln w="9360">
              <a:solidFill>
                <a:srgbClr val="afcef7"/>
              </a:solidFill>
              <a:round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400000">
              <a:off x="4505760" y="3771000"/>
              <a:ext cx="151596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7f3"/>
                </a:gs>
                <a:gs pos="100000">
                  <a:srgbClr val="4996e3"/>
                </a:gs>
              </a:gsLst>
              <a:lin ang="5400000"/>
            </a:gradFill>
            <a:ln w="9360">
              <a:solidFill>
                <a:srgbClr val="afcef7"/>
              </a:solidFill>
              <a:round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0800000">
              <a:off x="3112560" y="3724560"/>
              <a:ext cx="151596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7f3"/>
                </a:gs>
                <a:gs pos="100000">
                  <a:srgbClr val="4996e3"/>
                </a:gs>
              </a:gsLst>
              <a:lin ang="0"/>
            </a:gradFill>
            <a:ln w="9360">
              <a:solidFill>
                <a:srgbClr val="afcef7"/>
              </a:solidFill>
              <a:round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3198600" y="2357640"/>
              <a:ext cx="148248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7f3"/>
                </a:gs>
                <a:gs pos="100000">
                  <a:srgbClr val="4996e3"/>
                </a:gs>
              </a:gsLst>
              <a:lin ang="16200000"/>
            </a:gradFill>
            <a:ln w="9360">
              <a:solidFill>
                <a:srgbClr val="afcef7"/>
              </a:solidFill>
              <a:round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2743200"/>
            <a:ext cx="1981440" cy="1981080"/>
          </a:xfrm>
          <a:prstGeom prst="flowChartOr">
            <a:avLst/>
          </a:prstGeom>
          <a:gradFill rotWithShape="0">
            <a:gsLst>
              <a:gs pos="0">
                <a:srgbClr val="2b00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77353" dir="4837521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64240" y="30733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65960" y="30733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65960" y="4038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03840" y="4038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74000" y="35812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535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1295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0339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267080" y="3419640"/>
            <a:ext cx="609840" cy="609480"/>
            <a:chOff x="4267080" y="3419640"/>
            <a:chExt cx="609840" cy="609480"/>
          </a:xfrm>
        </p:grpSpPr>
        <p:sp>
          <p:nvSpPr>
            <p:cNvPr id="58" name=""/>
            <p:cNvSpPr/>
            <p:nvPr/>
          </p:nvSpPr>
          <p:spPr>
            <a:xfrm>
              <a:off x="4267080" y="341964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13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36560" y="3429720"/>
              <a:ext cx="470520" cy="2300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66880" y="1828800"/>
            <a:ext cx="3886200" cy="3886200"/>
            <a:chOff x="2666880" y="1828800"/>
            <a:chExt cx="3886200" cy="3886200"/>
          </a:xfrm>
        </p:grpSpPr>
        <p:sp>
          <p:nvSpPr>
            <p:cNvPr id="62" name=""/>
            <p:cNvSpPr/>
            <p:nvPr/>
          </p:nvSpPr>
          <p:spPr>
            <a:xfrm>
              <a:off x="2666880" y="1828800"/>
              <a:ext cx="3886200" cy="3886200"/>
            </a:xfrm>
            <a:prstGeom prst="flowChartSummingJunction">
              <a:avLst/>
            </a:prstGeom>
            <a:gradFill rotWithShape="0">
              <a:gsLst>
                <a:gs pos="0">
                  <a:srgbClr val="70bbee"/>
                </a:gs>
                <a:gs pos="50000">
                  <a:srgbClr val="e8f3fb"/>
                </a:gs>
                <a:gs pos="100000">
                  <a:srgbClr val="70bbee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1640" y="2390760"/>
              <a:ext cx="1516320" cy="141948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70bbee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4505760" y="3771000"/>
              <a:ext cx="151596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70bbee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3112560" y="3724560"/>
              <a:ext cx="151596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70bbee"/>
                </a:gs>
              </a:gsLst>
              <a:lin ang="162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3198600" y="2357640"/>
              <a:ext cx="148248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70bbe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581280" y="2743200"/>
            <a:ext cx="1981440" cy="1981080"/>
          </a:xfrm>
          <a:prstGeom prst="flowChartOr">
            <a:avLst/>
          </a:prstGeom>
          <a:gradFill rotWithShape="0">
            <a:gsLst>
              <a:gs pos="0">
                <a:srgbClr val="002035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77353" dir="4837521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2800" y="30733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65960" y="30733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65960" y="4038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03840" y="4038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2760" y="35812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9ec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535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663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295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76f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0339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267080" y="3419640"/>
            <a:ext cx="609840" cy="609480"/>
            <a:chOff x="4267080" y="3419640"/>
            <a:chExt cx="609840" cy="609480"/>
          </a:xfrm>
        </p:grpSpPr>
        <p:sp>
          <p:nvSpPr>
            <p:cNvPr id="77" name=""/>
            <p:cNvSpPr/>
            <p:nvPr/>
          </p:nvSpPr>
          <p:spPr>
            <a:xfrm>
              <a:off x="4267080" y="341964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3d3d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36560" y="3429720"/>
              <a:ext cx="470520" cy="2300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4:15Z</dcterms:modified>
  <cp:revision>92</cp:revision>
  <dc:subject/>
  <dc:title>Contents Design</dc:title>
</cp:coreProperties>
</file>