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57F0-91EC-43ED-94E4-FE70192D8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1CEB-A3E0-4EBE-80E0-83BED1577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60CD-3DCC-4609-9821-DF87AB6CA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1F57-1A69-4CE6-9A2C-D045D7F37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B319-E761-422B-BB18-D9CECEFAB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DF8C-112B-41A6-85D1-217AD8B22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5774-C6A4-4BB6-AB13-CA28576D0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0487-7A9D-4058-9AA1-AAA735A2E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483F-71A0-42D1-8CBB-7095A2E00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B120-13CC-4811-9D17-241B6DA8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3F56-39D9-490C-9665-A87C6CB9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5A7C-3585-45E1-9905-8EC97FFE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23457-ADB1-4F6C-8D6B-8C99E1C88AE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5000"/>
          </a:bodyPr>
          <a:p>
            <a:pPr marL="85680" indent="-85680">
              <a:spcBef>
                <a:spcPts val="400"/>
              </a:spcBef>
              <a:buClr>
                <a:srgbClr val="66c5f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185760" indent="-7128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285480" indent="-56880">
              <a:spcBef>
                <a:spcPts val="400"/>
              </a:spcBef>
              <a:buClr>
                <a:srgbClr val="a01dd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399960" indent="-56880">
              <a:spcBef>
                <a:spcPts val="400"/>
              </a:spcBef>
              <a:buClr>
                <a:srgbClr val="c0c0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4" marL="514080" indent="-56880">
              <a:spcBef>
                <a:spcPts val="4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20924400">
            <a:off x="3200400" y="5028840"/>
            <a:ext cx="5029200" cy="1219320"/>
          </a:xfrm>
          <a:prstGeom prst="ellipse">
            <a:avLst/>
          </a:prstGeom>
          <a:gradFill rotWithShape="0">
            <a:gsLst>
              <a:gs pos="0">
                <a:srgbClr val="003399">
                  <a:alpha val="50196"/>
                </a:srgbClr>
              </a:gs>
              <a:gs pos="100000">
                <a:srgbClr val="000000">
                  <a:alpha val="50196"/>
                </a:srgbClr>
              </a:gs>
            </a:gsLst>
            <a:lin ang="1147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ubPieSlice"/>
          <p:cNvSpPr/>
          <p:nvPr/>
        </p:nvSpPr>
        <p:spPr>
          <a:xfrm rot="21058200">
            <a:off x="914400" y="1219320"/>
            <a:ext cx="6262560" cy="4937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5292" y="978"/>
                </a:moveTo>
                <a:arcTo wR="10800" hR="10800" stAng="-3925396" swAng="-21579535"/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868686"/>
              </a:gs>
            </a:gsLst>
            <a:lin ang="86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ubPieSlice"/>
          <p:cNvSpPr/>
          <p:nvPr/>
        </p:nvSpPr>
        <p:spPr>
          <a:xfrm rot="19858800">
            <a:off x="1349280" y="1731600"/>
            <a:ext cx="6154920" cy="4275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418" y="8824"/>
                </a:moveTo>
                <a:arcTo wR="10800" hR="10800" stAng="-632473" swAng="-2802050"/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373c3"/>
              </a:gs>
              <a:gs pos="100000">
                <a:srgbClr val="b58def"/>
              </a:gs>
            </a:gsLst>
            <a:lin ang="98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ubPieSlice"/>
          <p:cNvSpPr/>
          <p:nvPr/>
        </p:nvSpPr>
        <p:spPr>
          <a:xfrm rot="19868400">
            <a:off x="1336320" y="1711080"/>
            <a:ext cx="6156360" cy="4303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495" y="18378"/>
                </a:moveTo>
                <a:arcTo wR="10800" hR="10800" stAng="2673686" swAng="-3313194"/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93b7fe"/>
              </a:gs>
            </a:gsLst>
            <a:lin ang="98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ubPieSlice"/>
          <p:cNvSpPr/>
          <p:nvPr/>
        </p:nvSpPr>
        <p:spPr>
          <a:xfrm rot="19868400">
            <a:off x="1346040" y="1688760"/>
            <a:ext cx="6156360" cy="4305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1080" y="21596"/>
                </a:moveTo>
                <a:arcTo wR="10800" hR="10800" stAng="5310713" swAng="-2656710"/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3cccc"/>
              </a:gs>
              <a:gs pos="100000">
                <a:srgbClr val="76dcdc"/>
              </a:gs>
            </a:gsLst>
            <a:lin ang="98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ubPieSlice"/>
          <p:cNvSpPr/>
          <p:nvPr/>
        </p:nvSpPr>
        <p:spPr>
          <a:xfrm rot="19868400">
            <a:off x="1342800" y="1719000"/>
            <a:ext cx="6156360" cy="429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771" y="1800"/>
                </a:moveTo>
                <a:arcTo wR="10800" hR="10800" stAng="-3386310" swAng="-2305901"/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a0c33d"/>
              </a:gs>
              <a:gs pos="100000">
                <a:srgbClr val="bbd477"/>
              </a:gs>
            </a:gsLst>
            <a:lin ang="98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ubPieSlice"/>
          <p:cNvSpPr/>
          <p:nvPr/>
        </p:nvSpPr>
        <p:spPr>
          <a:xfrm rot="19868400">
            <a:off x="1317600" y="1714320"/>
            <a:ext cx="6227640" cy="4271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833" y="43"/>
                </a:moveTo>
                <a:arcTo wR="10800" hR="10800" stAng="-5708134" swAng="-2416860"/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86262"/>
              </a:gs>
              <a:gs pos="100000">
                <a:srgbClr val="33cccc"/>
              </a:gs>
            </a:gsLst>
            <a:lin ang="152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ubPieSlice"/>
          <p:cNvSpPr/>
          <p:nvPr/>
        </p:nvSpPr>
        <p:spPr>
          <a:xfrm rot="19868400">
            <a:off x="1325520" y="1720440"/>
            <a:ext cx="6189840" cy="4253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097" y="3230"/>
                </a:moveTo>
                <a:arcTo wR="10800" hR="10800" stAng="-8129882" swAng="-3188406"/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4c73c0"/>
              </a:gs>
            </a:gsLst>
            <a:lin ang="98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ubPieSlice"/>
          <p:cNvSpPr/>
          <p:nvPr/>
        </p:nvSpPr>
        <p:spPr>
          <a:xfrm rot="19868400">
            <a:off x="1364760" y="1740960"/>
            <a:ext cx="6140520" cy="4253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394" y="19495"/>
                </a:moveTo>
                <a:arcTo wR="10800" hR="10800" stAng="7582659" swAng="-2520510"/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81ac00"/>
              </a:gs>
            </a:gsLst>
            <a:lin ang="98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40840" y="183348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88400" y="183348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279120" y="282420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17000" y="434808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21720" y="518652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97840" y="518652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9733400">
            <a:off x="3169800" y="3015720"/>
            <a:ext cx="2568600" cy="1582920"/>
          </a:xfrm>
          <a:prstGeom prst="ellipse">
            <a:avLst/>
          </a:prstGeom>
          <a:gradFill rotWithShape="0">
            <a:gsLst>
              <a:gs pos="0">
                <a:srgbClr val="000d29"/>
              </a:gs>
              <a:gs pos="50000">
                <a:srgbClr val="003399"/>
              </a:gs>
              <a:gs pos="100000">
                <a:srgbClr val="000d29"/>
              </a:gs>
            </a:gsLst>
            <a:lin ang="1536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9729800">
            <a:off x="2744640" y="2743200"/>
            <a:ext cx="3357720" cy="2085840"/>
          </a:xfrm>
          <a:custGeom>
            <a:avLst/>
            <a:gdLst>
              <a:gd name="textAreaLeft" fmla="*/ 0 w 3357720"/>
              <a:gd name="textAreaRight" fmla="*/ 3358080 w 3357720"/>
              <a:gd name="textAreaTop" fmla="*/ 0 h 2085840"/>
              <a:gd name="textAreaBottom" fmla="*/ 2086200 h 2085840"/>
            </a:gdLst>
            <a:ahLst/>
            <a:rect l="textAreaLeft" t="textAreaTop" r="textAreaRight" b="textAreaBottom"/>
            <a:pathLst>
              <a:path w="21600" h="21600">
                <a:moveTo>
                  <a:pt x="3484" y="7087"/>
                </a:moveTo>
                <a:arcTo wR="-8204" hR="-8204" stAng="-9185484" swAng="-18199330"/>
                <a:lnTo>
                  <a:pt x="12006" y="21532"/>
                </a:lnTo>
                <a:arcTo wR="10800" hR="10800" stAng="5015186" swAng="18199330"/>
                <a:lnTo>
                  <a:pt x="22838" y="16910"/>
                </a:lnTo>
                <a:lnTo>
                  <a:pt x="17464" y="18665"/>
                </a:lnTo>
                <a:lnTo>
                  <a:pt x="15708" y="13291"/>
                </a:lnTo>
                <a:close/>
              </a:path>
            </a:pathLst>
          </a:custGeom>
          <a:gradFill rotWithShape="0">
            <a:gsLst>
              <a:gs pos="0">
                <a:srgbClr val="feb382"/>
              </a:gs>
              <a:gs pos="100000">
                <a:srgbClr val="ff6600"/>
              </a:gs>
            </a:gsLst>
            <a:lin ang="15372000"/>
          </a:gra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70400" y="3540240"/>
            <a:ext cx="195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83440" y="411948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45200" y="267192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65560" y="470520"/>
            <a:ext cx="7734600" cy="6762600"/>
            <a:chOff x="565560" y="470520"/>
            <a:chExt cx="7734600" cy="6762600"/>
          </a:xfrm>
        </p:grpSpPr>
        <p:sp>
          <p:nvSpPr>
            <p:cNvPr id="64" name=""/>
            <p:cNvSpPr/>
            <p:nvPr/>
          </p:nvSpPr>
          <p:spPr>
            <a:xfrm rot="20924400">
              <a:off x="3200400" y="5028840"/>
              <a:ext cx="5029200" cy="12193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8235"/>
                  </a:srgbClr>
                </a:gs>
                <a:gs pos="100000">
                  <a:srgbClr val="000000">
                    <a:alpha val="50196"/>
                  </a:srgbClr>
                </a:gs>
              </a:gsLst>
              <a:lin ang="1147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PubPieSlice"/>
            <p:cNvSpPr/>
            <p:nvPr/>
          </p:nvSpPr>
          <p:spPr>
            <a:xfrm rot="21058200">
              <a:off x="914400" y="1219320"/>
              <a:ext cx="6262560" cy="4937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292" y="978"/>
                  </a:moveTo>
                  <a:arcTo wR="10800" hR="10800" stAng="-3925396" swAng="-21579535"/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93b7fe"/>
                </a:gs>
              </a:gsLst>
              <a:lin ang="86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PubPieSlice"/>
            <p:cNvSpPr/>
            <p:nvPr/>
          </p:nvSpPr>
          <p:spPr>
            <a:xfrm rot="19858800">
              <a:off x="1349280" y="1731600"/>
              <a:ext cx="6154920" cy="4275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418" y="8824"/>
                  </a:moveTo>
                  <a:arcTo wR="10800" hR="10800" stAng="-632473" swAng="-2802050"/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53a6"/>
                </a:gs>
                <a:gs pos="100000">
                  <a:srgbClr val="0066cc"/>
                </a:gs>
              </a:gsLst>
              <a:lin ang="98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PubPieSlice"/>
            <p:cNvSpPr/>
            <p:nvPr/>
          </p:nvSpPr>
          <p:spPr>
            <a:xfrm rot="19868400">
              <a:off x="1336320" y="1711080"/>
              <a:ext cx="6156360" cy="4303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8495" y="18378"/>
                  </a:moveTo>
                  <a:arcTo wR="10800" hR="10800" stAng="2673686" swAng="-3313194"/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93b7fe"/>
                </a:gs>
              </a:gsLst>
              <a:lin ang="983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PubPieSlice"/>
            <p:cNvSpPr/>
            <p:nvPr/>
          </p:nvSpPr>
          <p:spPr>
            <a:xfrm rot="19868400">
              <a:off x="1346040" y="1688760"/>
              <a:ext cx="6156360" cy="4305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080" y="21596"/>
                  </a:moveTo>
                  <a:arcTo wR="10800" hR="10800" stAng="5310713" swAng="-2656710"/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5498dc"/>
                </a:gs>
              </a:gsLst>
              <a:lin ang="983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PubPieSlice"/>
            <p:cNvSpPr/>
            <p:nvPr/>
          </p:nvSpPr>
          <p:spPr>
            <a:xfrm rot="19868400">
              <a:off x="1342800" y="1719000"/>
              <a:ext cx="6156360" cy="4292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771" y="1800"/>
                  </a:moveTo>
                  <a:arcTo wR="10800" hR="10800" stAng="-3386310" swAng="-2305901"/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5aa7f4"/>
                </a:gs>
                <a:gs pos="100000">
                  <a:srgbClr val="8bc0f6"/>
                </a:gs>
              </a:gsLst>
              <a:lin ang="983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PubPieSlice"/>
            <p:cNvSpPr/>
            <p:nvPr/>
          </p:nvSpPr>
          <p:spPr>
            <a:xfrm rot="19868400">
              <a:off x="1317600" y="1714320"/>
              <a:ext cx="6227640" cy="4271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9833" y="43"/>
                  </a:moveTo>
                  <a:arcTo wR="10800" hR="10800" stAng="-5708134" swAng="-2416860"/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3162"/>
                </a:gs>
                <a:gs pos="100000">
                  <a:srgbClr val="0066cc"/>
                </a:gs>
              </a:gsLst>
              <a:lin ang="1523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PubPieSlice"/>
            <p:cNvSpPr/>
            <p:nvPr/>
          </p:nvSpPr>
          <p:spPr>
            <a:xfrm rot="19868400">
              <a:off x="1325520" y="1720440"/>
              <a:ext cx="6189840" cy="4253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3097" y="3230"/>
                  </a:moveTo>
                  <a:arcTo wR="10800" hR="10800" stAng="-8129882" swAng="-3188406"/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5aa7f4"/>
                </a:gs>
                <a:gs pos="100000">
                  <a:srgbClr val="437db7"/>
                </a:gs>
              </a:gsLst>
              <a:lin ang="983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PubPieSlice"/>
            <p:cNvSpPr/>
            <p:nvPr/>
          </p:nvSpPr>
          <p:spPr>
            <a:xfrm rot="19868400">
              <a:off x="1364760" y="1740960"/>
              <a:ext cx="6140520" cy="4253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4394" y="19495"/>
                  </a:moveTo>
                  <a:arcTo wR="10800" hR="10800" stAng="7582659" swAng="-2520510"/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6ac"/>
                </a:gs>
              </a:gsLst>
              <a:lin ang="983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840840" y="1833480"/>
              <a:ext cx="7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288400" y="1833480"/>
              <a:ext cx="7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279120" y="2824200"/>
              <a:ext cx="7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517000" y="4348080"/>
              <a:ext cx="7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221720" y="5186520"/>
              <a:ext cx="7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697840" y="5186520"/>
              <a:ext cx="7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2447280" y="2025000"/>
              <a:ext cx="3952440" cy="3522600"/>
              <a:chOff x="2447280" y="2025000"/>
              <a:chExt cx="3952440" cy="3522600"/>
            </a:xfrm>
          </p:grpSpPr>
          <p:sp>
            <p:nvSpPr>
              <p:cNvPr id="80" name=""/>
              <p:cNvSpPr/>
              <p:nvPr/>
            </p:nvSpPr>
            <p:spPr>
              <a:xfrm rot="19733400">
                <a:off x="3169800" y="3015720"/>
                <a:ext cx="2568600" cy="1582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19729800">
                <a:off x="2744640" y="2743200"/>
                <a:ext cx="3357720" cy="2085840"/>
              </a:xfrm>
              <a:custGeom>
                <a:avLst/>
                <a:gdLst>
                  <a:gd name="textAreaLeft" fmla="*/ 0 w 3357720"/>
                  <a:gd name="textAreaRight" fmla="*/ 3358080 w 3357720"/>
                  <a:gd name="textAreaTop" fmla="*/ 0 h 2085840"/>
                  <a:gd name="textAreaBottom" fmla="*/ 2086200 h 2085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484" y="7087"/>
                    </a:moveTo>
                    <a:arcTo wR="-8204" hR="-8204" stAng="-9185484" swAng="-18199330"/>
                    <a:lnTo>
                      <a:pt x="12006" y="21532"/>
                    </a:lnTo>
                    <a:arcTo wR="10800" hR="10800" stAng="5015186" swAng="18199330"/>
                    <a:lnTo>
                      <a:pt x="22838" y="16910"/>
                    </a:lnTo>
                    <a:lnTo>
                      <a:pt x="17464" y="18665"/>
                    </a:lnTo>
                    <a:lnTo>
                      <a:pt x="15708" y="1329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3e5fe"/>
                  </a:gs>
                  <a:gs pos="100000">
                    <a:srgbClr val="66ccff"/>
                  </a:gs>
                </a:gsLst>
                <a:lin ang="15372000"/>
              </a:gradFill>
              <a:ln w="0">
                <a:noFill/>
              </a:ln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470400" y="3539880"/>
                <a:ext cx="195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1783440" y="4119480"/>
              <a:ext cx="7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545200" y="2671920"/>
              <a:ext cx="7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7:49Z</dcterms:created>
  <dc:creator>Sung Ha, Park</dc:creator>
  <dc:description/>
  <dc:language>en-US</dc:language>
  <cp:lastModifiedBy>Sung Ha, Park</cp:lastModifiedBy>
  <dcterms:modified xsi:type="dcterms:W3CDTF">2004-11-23T09:48:36Z</dcterms:modified>
  <cp:revision>95</cp:revision>
  <dc:subject/>
  <dc:title>Contents Design</dc:title>
</cp:coreProperties>
</file>