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7E2-962E-44D4-BF68-727566C7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F53-5535-4910-AD60-D3BB37EC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3C2-B400-4925-960D-2D9B12BB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000-4DD1-4CF5-9A5B-BC8E1B37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B6A-9604-4E6E-9FC8-3C3E0CD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5BF-A3D4-4455-8D13-8A50322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11E-0C5F-42A5-8630-6E62F5D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CE0-951F-42F8-ABBE-71071DC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C53-19E4-433D-83E4-4AD578E2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51B-C1FF-4290-9D22-9E3C45C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6ED-2046-4B41-AB9F-12B667A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403-2C15-400F-9231-50FC285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B4F4-0DCB-4E9E-8751-C492FB9C1D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924400">
            <a:off x="3200400" y="5028840"/>
            <a:ext cx="5029200" cy="1219320"/>
          </a:xfrm>
          <a:prstGeom prst="ellipse">
            <a:avLst/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0000">
                  <a:alpha val="50196"/>
                </a:srgbClr>
              </a:gs>
            </a:gsLst>
            <a:lin ang="114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 rot="21058200">
            <a:off x="914400" y="1219320"/>
            <a:ext cx="6262560" cy="493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292" y="978"/>
                </a:moveTo>
                <a:arcTo wR="10800" hR="10800" stAng="-3925396" swAng="-21579535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868686"/>
              </a:gs>
            </a:gsLst>
            <a:lin ang="8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bPieSlice"/>
          <p:cNvSpPr/>
          <p:nvPr/>
        </p:nvSpPr>
        <p:spPr>
          <a:xfrm rot="19858800">
            <a:off x="1349280" y="1731600"/>
            <a:ext cx="6154920" cy="427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418" y="8824"/>
                </a:moveTo>
                <a:arcTo wR="10800" hR="10800" stAng="-632473" swAng="-280205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373c3"/>
              </a:gs>
              <a:gs pos="100000">
                <a:srgbClr val="b58def"/>
              </a:gs>
            </a:gsLst>
            <a:lin ang="98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ubPieSlice"/>
          <p:cNvSpPr/>
          <p:nvPr/>
        </p:nvSpPr>
        <p:spPr>
          <a:xfrm rot="19868400">
            <a:off x="1336320" y="1711080"/>
            <a:ext cx="6156360" cy="43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495" y="18378"/>
                </a:moveTo>
                <a:arcTo wR="10800" hR="10800" stAng="2673686" swAng="-3313194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93b7fe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ubPieSlice"/>
          <p:cNvSpPr/>
          <p:nvPr/>
        </p:nvSpPr>
        <p:spPr>
          <a:xfrm rot="19868400">
            <a:off x="1346040" y="1688760"/>
            <a:ext cx="6156360" cy="430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080" y="21596"/>
                </a:moveTo>
                <a:arcTo wR="10800" hR="10800" stAng="5310713" swAng="-265671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76dcdc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ubPieSlice"/>
          <p:cNvSpPr/>
          <p:nvPr/>
        </p:nvSpPr>
        <p:spPr>
          <a:xfrm rot="19868400">
            <a:off x="1342800" y="1719000"/>
            <a:ext cx="6156360" cy="429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771" y="1800"/>
                </a:moveTo>
                <a:arcTo wR="10800" hR="10800" stAng="-3386310" swAng="-2305901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0c33d"/>
              </a:gs>
              <a:gs pos="100000">
                <a:srgbClr val="bbd477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ubPieSlice"/>
          <p:cNvSpPr/>
          <p:nvPr/>
        </p:nvSpPr>
        <p:spPr>
          <a:xfrm rot="19868400">
            <a:off x="1317600" y="1714320"/>
            <a:ext cx="6227640" cy="42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833" y="43"/>
                </a:moveTo>
                <a:arcTo wR="10800" hR="10800" stAng="-5708134" swAng="-241686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86262"/>
              </a:gs>
              <a:gs pos="100000">
                <a:srgbClr val="33cccc"/>
              </a:gs>
            </a:gsLst>
            <a:lin ang="152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ubPieSlice"/>
          <p:cNvSpPr/>
          <p:nvPr/>
        </p:nvSpPr>
        <p:spPr>
          <a:xfrm rot="19868400">
            <a:off x="1325520" y="1720440"/>
            <a:ext cx="618984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7" y="3230"/>
                </a:moveTo>
                <a:arcTo wR="10800" hR="10800" stAng="-8129882" swAng="-3188406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4c73c0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ubPieSlice"/>
          <p:cNvSpPr/>
          <p:nvPr/>
        </p:nvSpPr>
        <p:spPr>
          <a:xfrm rot="19868400">
            <a:off x="1364760" y="1740960"/>
            <a:ext cx="6140520" cy="42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94" y="19495"/>
                </a:moveTo>
                <a:arcTo wR="10800" hR="10800" stAng="7582659" swAng="-2520510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81ac00"/>
              </a:gs>
            </a:gsLst>
            <a:lin ang="98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40840" y="1833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88400" y="1833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79120" y="2824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17000" y="43480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21720" y="518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97840" y="5186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9733400">
            <a:off x="3169800" y="3015720"/>
            <a:ext cx="2568600" cy="1582920"/>
          </a:xfrm>
          <a:prstGeom prst="ellipse">
            <a:avLst/>
          </a:prstGeom>
          <a:gradFill rotWithShape="0">
            <a:gsLst>
              <a:gs pos="0">
                <a:srgbClr val="000d29"/>
              </a:gs>
              <a:gs pos="50000">
                <a:srgbClr val="003399"/>
              </a:gs>
              <a:gs pos="100000">
                <a:srgbClr val="000d29"/>
              </a:gs>
            </a:gsLst>
            <a:lin ang="153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729800">
            <a:off x="2744640" y="2743200"/>
            <a:ext cx="3357720" cy="2085840"/>
          </a:xfrm>
          <a:custGeom>
            <a:avLst/>
            <a:gdLst>
              <a:gd name="textAreaLeft" fmla="*/ 0 w 3357720"/>
              <a:gd name="textAreaRight" fmla="*/ 3358080 w 3357720"/>
              <a:gd name="textAreaTop" fmla="*/ 0 h 2085840"/>
              <a:gd name="textAreaBottom" fmla="*/ 2086200 h 2085840"/>
            </a:gdLst>
            <a:ahLst/>
            <a:rect l="textAreaLeft" t="textAreaTop" r="textAreaRight" b="textAreaBottom"/>
            <a:pathLst>
              <a:path w="21600" h="21600">
                <a:moveTo>
                  <a:pt x="3484" y="7087"/>
                </a:moveTo>
                <a:arcTo wR="-8204" hR="-8204" stAng="-9185484" swAng="-18199330"/>
                <a:lnTo>
                  <a:pt x="12006" y="21532"/>
                </a:lnTo>
                <a:arcTo wR="10800" hR="10800" stAng="5015186" swAng="18199330"/>
                <a:lnTo>
                  <a:pt x="22838" y="16910"/>
                </a:lnTo>
                <a:lnTo>
                  <a:pt x="17464" y="18665"/>
                </a:lnTo>
                <a:lnTo>
                  <a:pt x="15708" y="13291"/>
                </a:lnTo>
                <a:close/>
              </a:path>
            </a:pathLst>
          </a:custGeom>
          <a:gradFill rotWithShape="0">
            <a:gsLst>
              <a:gs pos="0">
                <a:srgbClr val="feb382"/>
              </a:gs>
              <a:gs pos="100000">
                <a:srgbClr val="ff6600"/>
              </a:gs>
            </a:gsLst>
            <a:lin ang="15372000"/>
          </a:gra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70400" y="354024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3440" y="4119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45200" y="2671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5560" y="470520"/>
            <a:ext cx="7734600" cy="6762600"/>
            <a:chOff x="565560" y="470520"/>
            <a:chExt cx="7734600" cy="6762600"/>
          </a:xfrm>
        </p:grpSpPr>
        <p:sp>
          <p:nvSpPr>
            <p:cNvPr id="64" name=""/>
            <p:cNvSpPr/>
            <p:nvPr/>
          </p:nvSpPr>
          <p:spPr>
            <a:xfrm rot="20924400">
              <a:off x="3200400" y="5028840"/>
              <a:ext cx="5029200" cy="1219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8235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1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PubPieSlice"/>
            <p:cNvSpPr/>
            <p:nvPr/>
          </p:nvSpPr>
          <p:spPr>
            <a:xfrm rot="21058200">
              <a:off x="914400" y="1219320"/>
              <a:ext cx="6262560" cy="4937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92" y="978"/>
                  </a:moveTo>
                  <a:arcTo wR="10800" hR="10800" stAng="-3925396" swAng="-21579535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3b7fe"/>
                </a:gs>
              </a:gsLst>
              <a:lin ang="8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PubPieSlice"/>
            <p:cNvSpPr/>
            <p:nvPr/>
          </p:nvSpPr>
          <p:spPr>
            <a:xfrm rot="19858800">
              <a:off x="1349280" y="1731600"/>
              <a:ext cx="6154920" cy="427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18" y="8824"/>
                  </a:moveTo>
                  <a:arcTo wR="10800" hR="10800" stAng="-632473" swAng="-280205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3a6"/>
                </a:gs>
                <a:gs pos="100000">
                  <a:srgbClr val="0066cc"/>
                </a:gs>
              </a:gsLst>
              <a:lin ang="9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PubPieSlice"/>
            <p:cNvSpPr/>
            <p:nvPr/>
          </p:nvSpPr>
          <p:spPr>
            <a:xfrm rot="19868400">
              <a:off x="1336320" y="1711080"/>
              <a:ext cx="6156360" cy="430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95" y="18378"/>
                  </a:moveTo>
                  <a:arcTo wR="10800" hR="10800" stAng="2673686" swAng="-3313194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3b7fe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PubPieSlice"/>
            <p:cNvSpPr/>
            <p:nvPr/>
          </p:nvSpPr>
          <p:spPr>
            <a:xfrm rot="19868400">
              <a:off x="1346040" y="1688760"/>
              <a:ext cx="6156360" cy="430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80" y="21596"/>
                  </a:moveTo>
                  <a:arcTo wR="10800" hR="10800" stAng="5310713" swAng="-265671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498dc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PubPieSlice"/>
            <p:cNvSpPr/>
            <p:nvPr/>
          </p:nvSpPr>
          <p:spPr>
            <a:xfrm rot="19868400">
              <a:off x="1342800" y="1719000"/>
              <a:ext cx="6156360" cy="429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771" y="1800"/>
                  </a:moveTo>
                  <a:arcTo wR="10800" hR="10800" stAng="-3386310" swAng="-2305901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8bc0f6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PubPieSlice"/>
            <p:cNvSpPr/>
            <p:nvPr/>
          </p:nvSpPr>
          <p:spPr>
            <a:xfrm rot="19868400">
              <a:off x="1317600" y="1714320"/>
              <a:ext cx="6227640" cy="427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833" y="43"/>
                  </a:moveTo>
                  <a:arcTo wR="10800" hR="10800" stAng="-5708134" swAng="-241686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100000">
                  <a:srgbClr val="0066cc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PubPieSlice"/>
            <p:cNvSpPr/>
            <p:nvPr/>
          </p:nvSpPr>
          <p:spPr>
            <a:xfrm rot="19868400">
              <a:off x="1325520" y="1720440"/>
              <a:ext cx="6189840" cy="425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097" y="3230"/>
                  </a:moveTo>
                  <a:arcTo wR="10800" hR="10800" stAng="-8129882" swAng="-3188406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437db7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PubPieSlice"/>
            <p:cNvSpPr/>
            <p:nvPr/>
          </p:nvSpPr>
          <p:spPr>
            <a:xfrm rot="19868400">
              <a:off x="1364760" y="1740960"/>
              <a:ext cx="6140520" cy="425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394" y="19495"/>
                  </a:moveTo>
                  <a:arcTo wR="10800" hR="10800" stAng="7582659" swAng="-2520510"/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6ac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40840" y="1833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8400" y="1833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79120" y="2824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17000" y="43480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21720" y="51865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97840" y="51865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47280" y="2025000"/>
              <a:ext cx="3952440" cy="3522600"/>
              <a:chOff x="2447280" y="2025000"/>
              <a:chExt cx="3952440" cy="3522600"/>
            </a:xfrm>
          </p:grpSpPr>
          <p:sp>
            <p:nvSpPr>
              <p:cNvPr id="80" name=""/>
              <p:cNvSpPr/>
              <p:nvPr/>
            </p:nvSpPr>
            <p:spPr>
              <a:xfrm rot="19733400">
                <a:off x="3169800" y="3015720"/>
                <a:ext cx="2568600" cy="158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9729800">
                <a:off x="2744640" y="2743200"/>
                <a:ext cx="3357720" cy="2085840"/>
              </a:xfrm>
              <a:custGeom>
                <a:avLst/>
                <a:gdLst>
                  <a:gd name="textAreaLeft" fmla="*/ 0 w 3357720"/>
                  <a:gd name="textAreaRight" fmla="*/ 3358080 w 3357720"/>
                  <a:gd name="textAreaTop" fmla="*/ 0 h 2085840"/>
                  <a:gd name="textAreaBottom" fmla="*/ 2086200 h 208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484" y="7087"/>
                    </a:moveTo>
                    <a:arcTo wR="-8204" hR="-8204" stAng="-9185484" swAng="-18199330"/>
                    <a:lnTo>
                      <a:pt x="12006" y="21532"/>
                    </a:lnTo>
                    <a:arcTo wR="10800" hR="10800" stAng="5015186" swAng="18199330"/>
                    <a:lnTo>
                      <a:pt x="22838" y="16910"/>
                    </a:lnTo>
                    <a:lnTo>
                      <a:pt x="17464" y="18665"/>
                    </a:lnTo>
                    <a:lnTo>
                      <a:pt x="15708" y="132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e5fe"/>
                  </a:gs>
                  <a:gs pos="100000">
                    <a:srgbClr val="66ccff"/>
                  </a:gs>
                </a:gsLst>
                <a:lin ang="15372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70400" y="3539880"/>
                <a:ext cx="195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783440" y="4119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45200" y="267192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8:36Z</dcterms:modified>
  <cp:revision>95</cp:revision>
  <dc:subject/>
  <dc:title>Contents Design</dc:title>
</cp:coreProperties>
</file>