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0CD-E5BC-4193-82F7-5DD71C87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CDD-E348-4CC0-BC8D-0B7B6B8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225-9E53-4DF8-BC5D-F82BCCE5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BA7-1485-4980-B65C-DF5C80FD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1ED-39AE-48B8-AAF3-0B7D5D7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4F3-F8D4-45F2-A233-474226EC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854-1DE7-4CCA-8D49-4A48A706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2A2-A0D3-4178-92F5-30AF0D7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283-8F8C-4079-8282-9D87CB5C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88-0145-4D85-90F0-4FAD558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2D4-242B-4E09-BF62-E13D8FF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A52-0E91-49F0-84B4-ECAAE64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00E-DE22-4C77-AC75-3E6F38AB08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05e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24400">
            <a:off x="3200400" y="495252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205e6c">
                  <a:alpha val="48235"/>
                </a:srgbClr>
              </a:gs>
              <a:gs pos="100000">
                <a:srgbClr val="000000">
                  <a:alpha val="50196"/>
                </a:srgbClr>
              </a:gs>
            </a:gsLst>
            <a:lin ang="11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 rot="21058200">
            <a:off x="914400" y="1143000"/>
            <a:ext cx="6262560" cy="493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292" y="978"/>
                </a:moveTo>
                <a:arcTo wR="10800" hR="10800" stAng="-3925396" swAng="-21579535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8b8b8b"/>
              </a:gs>
            </a:gsLst>
            <a:lin ang="8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bPieSlice"/>
          <p:cNvSpPr/>
          <p:nvPr/>
        </p:nvSpPr>
        <p:spPr>
          <a:xfrm rot="19858800">
            <a:off x="1350720" y="1636200"/>
            <a:ext cx="6153120" cy="427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8824"/>
                </a:moveTo>
                <a:arcTo wR="10800" hR="10800" stAng="-632473" swAng="-402918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44e62"/>
              </a:gs>
              <a:gs pos="100000">
                <a:srgbClr val="aea2cc"/>
              </a:gs>
            </a:gsLst>
            <a:lin ang="152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ubPieSlice"/>
          <p:cNvSpPr/>
          <p:nvPr/>
        </p:nvSpPr>
        <p:spPr>
          <a:xfrm rot="19868400">
            <a:off x="1338120" y="1634760"/>
            <a:ext cx="6154920" cy="430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95" y="18378"/>
                </a:moveTo>
                <a:arcTo wR="10800" hR="10800" stAng="2673686" swAng="-362034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4b676"/>
              </a:gs>
              <a:gs pos="100000">
                <a:srgbClr val="bacfa7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ubPieSlice"/>
          <p:cNvSpPr/>
          <p:nvPr/>
        </p:nvSpPr>
        <p:spPr>
          <a:xfrm rot="19868400">
            <a:off x="1318680" y="1638360"/>
            <a:ext cx="6226200" cy="42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2" y="246"/>
                </a:moveTo>
                <a:arcTo wR="10800" hR="10800" stAng="-4664835" swAng="-3460159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26403f"/>
              </a:gs>
              <a:gs pos="100000">
                <a:srgbClr val="73c1bf"/>
              </a:gs>
            </a:gsLst>
            <a:lin ang="152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ubPieSlice"/>
          <p:cNvSpPr/>
          <p:nvPr/>
        </p:nvSpPr>
        <p:spPr>
          <a:xfrm rot="19868400">
            <a:off x="1325520" y="1644120"/>
            <a:ext cx="619128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7" y="3230"/>
                </a:moveTo>
                <a:arcTo wR="10800" hR="10800" stAng="-8129882" swAng="-383867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06690"/>
              </a:gs>
              <a:gs pos="100000">
                <a:srgbClr val="499bd9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ubPieSlice"/>
          <p:cNvSpPr/>
          <p:nvPr/>
        </p:nvSpPr>
        <p:spPr>
          <a:xfrm rot="19868400">
            <a:off x="1365120" y="1665000"/>
            <a:ext cx="6140520" cy="42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319" y="21311"/>
                </a:moveTo>
                <a:arcTo wR="10800" hR="10800" stAng="6196766" swAng="-3580927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cbe34"/>
              </a:gs>
              <a:gs pos="100000">
                <a:srgbClr val="e8e2a8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536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2760" y="1752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0560" y="274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6280" y="44956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8880" y="5257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7280" y="4267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733400">
            <a:off x="3169800" y="2939760"/>
            <a:ext cx="2568600" cy="1582560"/>
          </a:xfrm>
          <a:prstGeom prst="ellipse">
            <a:avLst/>
          </a:prstGeom>
          <a:gradFill rotWithShape="0">
            <a:gsLst>
              <a:gs pos="0">
                <a:srgbClr val="1b2900"/>
              </a:gs>
              <a:gs pos="50000">
                <a:srgbClr val="669900"/>
              </a:gs>
              <a:gs pos="100000">
                <a:srgbClr val="1b2900"/>
              </a:gs>
            </a:gsLst>
            <a:lin ang="153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29800">
            <a:off x="2744640" y="2666520"/>
            <a:ext cx="3357720" cy="208620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2086200"/>
              <a:gd name="textAreaBottom" fmla="*/ 2086560 h 2086200"/>
            </a:gdLst>
            <a:ahLst/>
            <a:rect l="textAreaLeft" t="textAreaTop" r="textAreaRight" b="textAreaBottom"/>
            <a:pathLst>
              <a:path w="21600" h="21600">
                <a:moveTo>
                  <a:pt x="3484" y="7087"/>
                </a:moveTo>
                <a:arcTo wR="-8204" hR="-8204" stAng="-9185484" swAng="-18199330"/>
                <a:lnTo>
                  <a:pt x="12006" y="21532"/>
                </a:lnTo>
                <a:arcTo wR="10800" hR="10800" stAng="5015186" swAng="18199330"/>
                <a:lnTo>
                  <a:pt x="22838" y="16910"/>
                </a:lnTo>
                <a:lnTo>
                  <a:pt x="17464" y="18665"/>
                </a:lnTo>
                <a:lnTo>
                  <a:pt x="15708" y="13291"/>
                </a:lnTo>
                <a:close/>
              </a:path>
            </a:pathLst>
          </a:custGeom>
          <a:gradFill rotWithShape="0">
            <a:gsLst>
              <a:gs pos="0">
                <a:srgbClr val="fee582"/>
              </a:gs>
              <a:gs pos="100000">
                <a:srgbClr val="ffcc00"/>
              </a:gs>
            </a:gsLst>
            <a:lin ang="15372000"/>
          </a:gradFill>
          <a:ln w="0">
            <a:noFill/>
          </a:ln>
          <a:effectLst>
            <a:outerShdw dist="180599" dir="3039742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0400" y="346392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924400">
            <a:off x="3200400" y="495252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000000">
                  <a:alpha val="50196"/>
                </a:srgbClr>
              </a:gs>
            </a:gsLst>
            <a:lin ang="11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ubPieSlice"/>
          <p:cNvSpPr/>
          <p:nvPr/>
        </p:nvSpPr>
        <p:spPr>
          <a:xfrm rot="21058200">
            <a:off x="914400" y="1143000"/>
            <a:ext cx="6262560" cy="493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292" y="978"/>
                </a:moveTo>
                <a:arcTo wR="10800" hR="10800" stAng="-3925396" swAng="-21579535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26d27c"/>
              </a:gs>
            </a:gsLst>
            <a:lin ang="8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ubPieSlice"/>
          <p:cNvSpPr/>
          <p:nvPr/>
        </p:nvSpPr>
        <p:spPr>
          <a:xfrm rot="19858800">
            <a:off x="1349280" y="1636200"/>
            <a:ext cx="6154920" cy="427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8824"/>
                </a:moveTo>
                <a:arcTo wR="10800" hR="10800" stAng="-632473" swAng="-402918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916c"/>
              </a:gs>
              <a:gs pos="100000">
                <a:srgbClr val="00cc99"/>
              </a:gs>
            </a:gsLst>
            <a:lin ang="152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ubPieSlice"/>
          <p:cNvSpPr/>
          <p:nvPr/>
        </p:nvSpPr>
        <p:spPr>
          <a:xfrm rot="19868400">
            <a:off x="1336680" y="1634760"/>
            <a:ext cx="6156360" cy="430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95" y="18378"/>
                </a:moveTo>
                <a:arcTo wR="10800" hR="10800" stAng="2673686" swAng="-362034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4eea5"/>
              </a:gs>
              <a:gs pos="100000">
                <a:srgbClr val="60c689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ubPieSlice"/>
          <p:cNvSpPr/>
          <p:nvPr/>
        </p:nvSpPr>
        <p:spPr>
          <a:xfrm rot="19868400">
            <a:off x="1317600" y="1638000"/>
            <a:ext cx="6227640" cy="42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2" y="246"/>
                </a:moveTo>
                <a:arcTo wR="10800" hR="10800" stAng="-4664835" swAng="-3460159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35432"/>
              </a:gs>
              <a:gs pos="100000">
                <a:srgbClr val="ccff99"/>
              </a:gs>
            </a:gsLst>
            <a:lin ang="152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ubPieSlice"/>
          <p:cNvSpPr/>
          <p:nvPr/>
        </p:nvSpPr>
        <p:spPr>
          <a:xfrm rot="19868400">
            <a:off x="1325520" y="1644120"/>
            <a:ext cx="618984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7" y="3230"/>
                </a:moveTo>
                <a:arcTo wR="10800" hR="10800" stAng="-8129882" swAng="-3838678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69844"/>
              </a:gs>
              <a:gs pos="100000">
                <a:srgbClr val="9ae567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ubPieSlice"/>
          <p:cNvSpPr/>
          <p:nvPr/>
        </p:nvSpPr>
        <p:spPr>
          <a:xfrm rot="19868400">
            <a:off x="1365120" y="1665000"/>
            <a:ext cx="6140520" cy="42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319" y="21311"/>
                </a:moveTo>
                <a:arcTo wR="10800" hR="10800" stAng="6196766" swAng="-3580927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1c804"/>
              </a:gs>
              <a:gs pos="100000">
                <a:srgbClr val="c0e89b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36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2760" y="1752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79120" y="274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6280" y="44956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8880" y="5257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7280" y="4267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47280" y="1948680"/>
            <a:ext cx="3952440" cy="3522600"/>
            <a:chOff x="2447280" y="1948680"/>
            <a:chExt cx="3952440" cy="3522600"/>
          </a:xfrm>
        </p:grpSpPr>
        <p:sp>
          <p:nvSpPr>
            <p:cNvPr id="73" name=""/>
            <p:cNvSpPr/>
            <p:nvPr/>
          </p:nvSpPr>
          <p:spPr>
            <a:xfrm rot="19733400">
              <a:off x="3169800" y="2939400"/>
              <a:ext cx="2568600" cy="158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729800">
              <a:off x="2744640" y="2666880"/>
              <a:ext cx="3357720" cy="2085840"/>
            </a:xfrm>
            <a:custGeom>
              <a:avLst/>
              <a:gdLst>
                <a:gd name="textAreaLeft" fmla="*/ 0 w 3357720"/>
                <a:gd name="textAreaRight" fmla="*/ 3358080 w 335772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84" y="7087"/>
                  </a:moveTo>
                  <a:arcTo wR="-8204" hR="-8204" stAng="-9185484" swAng="-18199330"/>
                  <a:lnTo>
                    <a:pt x="12006" y="21532"/>
                  </a:lnTo>
                  <a:arcTo wR="10800" hR="10800" stAng="5015186" swAng="18199330"/>
                  <a:lnTo>
                    <a:pt x="22838" y="16910"/>
                  </a:lnTo>
                  <a:lnTo>
                    <a:pt x="17464" y="18665"/>
                  </a:lnTo>
                  <a:lnTo>
                    <a:pt x="15708" y="13291"/>
                  </a:lnTo>
                  <a:close/>
                </a:path>
              </a:pathLst>
            </a:custGeom>
            <a:gradFill rotWithShape="0">
              <a:gsLst>
                <a:gs pos="0">
                  <a:srgbClr val="005757"/>
                </a:gs>
                <a:gs pos="100000">
                  <a:srgbClr val="009999"/>
                </a:gs>
              </a:gsLst>
              <a:lin ang="15372000"/>
            </a:gradFill>
            <a:ln w="0">
              <a:noFill/>
            </a:ln>
            <a:effectLst>
              <a:outerShdw dist="180599" dir="3039742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70400" y="3463560"/>
              <a:ext cx="195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9:33Z</dcterms:modified>
  <cp:revision>94</cp:revision>
  <dc:subject/>
  <dc:title>Contents Design</dc:title>
</cp:coreProperties>
</file>