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032-75EE-4187-BA56-ABD2F83F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54C-CFDA-42F6-8F2B-C0D60EA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79D-D5DA-4DE9-A9B3-B83BB678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A18-23BE-4BCC-BB58-3E85FB62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B33-4DA7-4489-95C6-EE46983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6D8-8125-4762-9386-0A29DFD3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1CE-5431-4545-BE30-6DD6110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716-DE64-40F4-A2F4-412ABD5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DA6-666D-43F3-9D32-ACBD631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F45-CC47-48A0-8440-7C168A8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571-9D25-4B58-BA92-5F6EF45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677-73DE-4F9A-AA03-B60C0B8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11D1-47FA-4AB3-AF1C-243824640E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476712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601600">
            <a:off x="1636560" y="265392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01600">
            <a:off x="1693440" y="249192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01600">
            <a:off x="1608120" y="2477520"/>
            <a:ext cx="570132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0602200">
            <a:off x="1586520" y="250884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601600">
            <a:off x="1617840" y="248904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20602200">
            <a:off x="1599480" y="249696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601600">
            <a:off x="3153960" y="320652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69600" y="3429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74720" y="2514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51240" y="2971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505320"/>
            <a:ext cx="1295280" cy="171108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539200">
            <a:off x="1611720" y="2506680"/>
            <a:ext cx="625824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76840" y="39862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51240" y="39625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8400" y="472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3640" y="4572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601600">
            <a:off x="3255840" y="3458880"/>
            <a:ext cx="2586240" cy="109044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38156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44960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fefefe">
                  <a:alpha val="50196"/>
                </a:srgbClr>
              </a:gs>
              <a:gs pos="100000">
                <a:srgbClr val="292929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601600">
            <a:off x="1636560" y="233640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50000">
                <a:srgbClr val="f1c0e5"/>
              </a:gs>
              <a:gs pos="100000">
                <a:srgbClr val="cc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601600">
            <a:off x="1692000" y="217476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e151b4"/>
              </a:gs>
              <a:gs pos="100000">
                <a:srgbClr val="8e337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601600">
            <a:off x="1609560" y="216000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c85078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20602200">
            <a:off x="1586520" y="219132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dc56c2"/>
              </a:gs>
              <a:gs pos="100000">
                <a:srgbClr val="eeb1e2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601600">
            <a:off x="1614600" y="217224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dc76ba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rot="20602200">
            <a:off x="1598040" y="217944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db8383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601600">
            <a:off x="315432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70d59"/>
              </a:gs>
              <a:gs pos="50000">
                <a:srgbClr val="98179b"/>
              </a:gs>
              <a:gs pos="100000">
                <a:srgbClr val="570d5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50160" y="3111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4920" y="21970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31440" y="26542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3187800"/>
            <a:ext cx="1295280" cy="171108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ec2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539200">
            <a:off x="1610640" y="218952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eaeb1"/>
              </a:gs>
            </a:gsLst>
            <a:lin ang="145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76840" y="366876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bd5c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31440" y="3645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78960" y="4406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73840" y="4254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601600">
            <a:off x="3254400" y="314172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06404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7:26Z</dcterms:modified>
  <cp:revision>94</cp:revision>
  <dc:subject/>
  <dc:title>Contents Design</dc:title>
</cp:coreProperties>
</file>