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7252-B24D-476B-B49F-C9EEC86F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061A-55E0-47C0-BE4E-9E74AB17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DC66-991D-4403-ADC0-90A73A7D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741A-41F6-4458-8EF3-4CBD9183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FA9-CF4F-48B9-AD46-8F26D8C8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996-DB3C-46E7-8329-802EAF1C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E60-9BD1-43AF-9548-C5F6A564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248-C3A2-48A4-AAC4-3841FD74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346-4D3F-45E6-B538-DF7A4D82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379-8FBF-4FD6-83B3-7CF19622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5C5F-2821-4CA9-BF01-358872A0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6FA-CA82-4374-B2B6-A5324519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6CF2-C1A6-43C5-98FB-1CEEB17701C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62320" y="476712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003399">
                  <a:alpha val="52156"/>
                </a:srgbClr>
              </a:gs>
              <a:gs pos="100000">
                <a:srgbClr val="2929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601600">
            <a:off x="1636560" y="265392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bdbdbd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0601600">
            <a:off x="1693440" y="249192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2791bb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601600">
            <a:off x="1610280" y="2477520"/>
            <a:ext cx="5698440" cy="292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395" y="2248"/>
                </a:moveTo>
                <a:arcTo wR="10800" hR="10800" stAng="-3141777" swAng="5155523"/>
                <a:lnTo>
                  <a:pt x="10800" y="10800"/>
                </a:lnTo>
                <a:close/>
              </a:path>
              <a:path fill="none" w="21600" h="21600">
                <a:moveTo>
                  <a:pt x="17395" y="2248"/>
                </a:moveTo>
                <a:arcTo wR="10800" hR="10800" stAng="-3141777" swAng="515552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rot="20602200">
            <a:off x="1659600" y="2476800"/>
            <a:ext cx="5644080" cy="295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28" y="12048"/>
                </a:moveTo>
                <a:arcTo wR="10800" hR="10800" stAng="398260" swAng="5586891"/>
                <a:lnTo>
                  <a:pt x="10800" y="10800"/>
                </a:lnTo>
                <a:close/>
              </a:path>
              <a:path fill="none" w="21600" h="21600">
                <a:moveTo>
                  <a:pt x="21528" y="12048"/>
                </a:moveTo>
                <a:arcTo wR="10800" hR="10800" stAng="398260" swAng="5586891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0601600">
            <a:off x="1615320" y="2489400"/>
            <a:ext cx="568152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12" y="1119"/>
                </a:moveTo>
                <a:arcTo wR="10800" hR="10800" stAng="-6979025" swAng="4153635"/>
                <a:lnTo>
                  <a:pt x="10800" y="10800"/>
                </a:lnTo>
                <a:close/>
              </a:path>
              <a:path fill="none" w="21600" h="21600">
                <a:moveTo>
                  <a:pt x="6012" y="1119"/>
                </a:moveTo>
                <a:arcTo wR="10800" hR="10800" stAng="-6979025" swAng="4153635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rot="20602200">
            <a:off x="1625400" y="2484000"/>
            <a:ext cx="5702040" cy="2932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6" y="828"/>
                </a:moveTo>
                <a:arcTo wR="10800" hR="10800" stAng="-4045467" swAng="5794864"/>
                <a:lnTo>
                  <a:pt x="10800" y="10800"/>
                </a:lnTo>
                <a:close/>
              </a:path>
              <a:path fill="none" w="21600" h="21600">
                <a:moveTo>
                  <a:pt x="14946" y="828"/>
                </a:moveTo>
                <a:arcTo wR="10800" hR="10800" stAng="-4045467" swAng="5794864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88000" y="3924360"/>
            <a:ext cx="1754280" cy="1778040"/>
          </a:xfrm>
          <a:custGeom>
            <a:avLst/>
            <a:gdLst/>
            <a:ahLst/>
            <a:rect l="l" t="t" r="r" b="b"/>
            <a:pathLst>
              <a:path w="1105" h="1120">
                <a:moveTo>
                  <a:pt x="9" y="888"/>
                </a:moveTo>
                <a:lnTo>
                  <a:pt x="1105" y="0"/>
                </a:lnTo>
                <a:lnTo>
                  <a:pt x="1081" y="256"/>
                </a:lnTo>
                <a:cubicBezTo>
                  <a:pt x="1014" y="373"/>
                  <a:pt x="882" y="560"/>
                  <a:pt x="705" y="704"/>
                </a:cubicBezTo>
                <a:cubicBezTo>
                  <a:pt x="528" y="848"/>
                  <a:pt x="133" y="1089"/>
                  <a:pt x="17" y="1120"/>
                </a:cubicBezTo>
                <a:cubicBezTo>
                  <a:pt x="0" y="1038"/>
                  <a:pt x="9" y="888"/>
                  <a:pt x="9" y="888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539200">
            <a:off x="1242360" y="1884600"/>
            <a:ext cx="6543720" cy="377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08" y="16758"/>
                </a:moveTo>
                <a:arcTo wR="10800" hR="10800" stAng="2008784" swAng="2800242"/>
                <a:lnTo>
                  <a:pt x="10800" y="10800"/>
                </a:lnTo>
                <a:close/>
              </a:path>
              <a:path fill="none" w="21600" h="21600">
                <a:moveTo>
                  <a:pt x="19808" y="16758"/>
                </a:moveTo>
                <a:arcTo wR="10800" hR="10800" stAng="2008784" swAng="2800242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99080" y="4292640"/>
            <a:ext cx="1028520" cy="1473120"/>
          </a:xfrm>
          <a:custGeom>
            <a:avLst/>
            <a:gdLst/>
            <a:ahLst/>
            <a:rect l="l" t="t" r="r" b="b"/>
            <a:pathLst>
              <a:path w="648" h="928">
                <a:moveTo>
                  <a:pt x="648" y="632"/>
                </a:moveTo>
                <a:lnTo>
                  <a:pt x="648" y="928"/>
                </a:lnTo>
                <a:lnTo>
                  <a:pt x="0" y="64"/>
                </a:lnTo>
                <a:lnTo>
                  <a:pt x="96" y="0"/>
                </a:lnTo>
                <a:lnTo>
                  <a:pt x="648" y="632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601600">
            <a:off x="3153960" y="320652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601600">
            <a:off x="3255840" y="3458880"/>
            <a:ext cx="2586240" cy="109044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65040" y="3886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69800" y="26668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98600" y="29718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94040" y="4191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4000" y="48769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4495680"/>
            <a:ext cx="863640" cy="1079640"/>
          </a:xfrm>
          <a:custGeom>
            <a:avLst/>
            <a:gdLst/>
            <a:ahLst/>
            <a:rect l="l" t="t" r="r" b="b"/>
            <a:pathLst>
              <a:path w="544" h="680">
                <a:moveTo>
                  <a:pt x="0" y="16"/>
                </a:moveTo>
                <a:lnTo>
                  <a:pt x="256" y="528"/>
                </a:lnTo>
                <a:lnTo>
                  <a:pt x="264" y="680"/>
                </a:lnTo>
                <a:lnTo>
                  <a:pt x="448" y="624"/>
                </a:lnTo>
                <a:lnTo>
                  <a:pt x="544" y="576"/>
                </a:lnTo>
                <a:lnTo>
                  <a:pt x="112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451944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fefefe">
                  <a:alpha val="50196"/>
                </a:srgbClr>
              </a:gs>
              <a:gs pos="100000">
                <a:srgbClr val="292929">
                  <a:alpha val="7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0601600">
            <a:off x="1672920" y="2408400"/>
            <a:ext cx="5686200" cy="3016080"/>
          </a:xfrm>
          <a:prstGeom prst="ellipse">
            <a:avLst/>
          </a:prstGeom>
          <a:gradFill rotWithShape="0">
            <a:gsLst>
              <a:gs pos="0">
                <a:srgbClr val="0b3827"/>
              </a:gs>
              <a:gs pos="50000">
                <a:srgbClr val="11553b"/>
              </a:gs>
              <a:gs pos="100000">
                <a:srgbClr val="0b38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0601600">
            <a:off x="1692000" y="224460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2791bb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0601600">
            <a:off x="1610280" y="2229840"/>
            <a:ext cx="5698440" cy="292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395" y="2248"/>
                </a:moveTo>
                <a:arcTo wR="10800" hR="10800" stAng="-3141777" swAng="5155523"/>
                <a:lnTo>
                  <a:pt x="10800" y="10800"/>
                </a:lnTo>
                <a:close/>
              </a:path>
              <a:path fill="none" w="21600" h="21600">
                <a:moveTo>
                  <a:pt x="17395" y="2248"/>
                </a:moveTo>
                <a:arcTo wR="10800" hR="10800" stAng="-3141777" swAng="5155523"/>
              </a:path>
            </a:pathLst>
          </a:custGeom>
          <a:gradFill rotWithShape="0">
            <a:gsLst>
              <a:gs pos="0">
                <a:srgbClr val="156b40"/>
              </a:gs>
              <a:gs pos="100000">
                <a:srgbClr val="115a36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rot="20602200">
            <a:off x="1658520" y="2229840"/>
            <a:ext cx="5644080" cy="29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28" y="12048"/>
                </a:moveTo>
                <a:arcTo wR="10800" hR="10800" stAng="398260" swAng="5586891"/>
                <a:lnTo>
                  <a:pt x="10800" y="10800"/>
                </a:lnTo>
                <a:close/>
              </a:path>
              <a:path fill="none" w="21600" h="21600">
                <a:moveTo>
                  <a:pt x="21528" y="12048"/>
                </a:moveTo>
                <a:arcTo wR="10800" hR="10800" stAng="398260" swAng="5586891"/>
              </a:path>
            </a:pathLst>
          </a:custGeom>
          <a:gradFill rotWithShape="0">
            <a:gsLst>
              <a:gs pos="0">
                <a:srgbClr val="84b509"/>
              </a:gs>
              <a:gs pos="100000">
                <a:srgbClr val="95be2c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601600">
            <a:off x="1616400" y="2242440"/>
            <a:ext cx="568152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87" y="1342"/>
                </a:moveTo>
                <a:arcTo wR="10800" hR="10800" stAng="-7131749" swAng="4032112"/>
                <a:lnTo>
                  <a:pt x="10800" y="10800"/>
                </a:lnTo>
                <a:close/>
              </a:path>
              <a:path fill="none" w="21600" h="21600">
                <a:moveTo>
                  <a:pt x="5587" y="1342"/>
                </a:moveTo>
                <a:arcTo wR="10800" hR="10800" stAng="-7131749" swAng="4032112"/>
              </a:path>
            </a:pathLst>
          </a:custGeom>
          <a:gradFill rotWithShape="0">
            <a:gsLst>
              <a:gs pos="0">
                <a:srgbClr val="339966"/>
              </a:gs>
              <a:gs pos="100000">
                <a:srgbClr val="2b8156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rot="20602200">
            <a:off x="1626480" y="2240640"/>
            <a:ext cx="5699160" cy="292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74" y="719"/>
                </a:moveTo>
                <a:arcTo wR="10800" hR="10800" stAng="-4138599" swAng="5887996"/>
                <a:lnTo>
                  <a:pt x="10800" y="10800"/>
                </a:lnTo>
                <a:close/>
              </a:path>
              <a:path fill="none" w="21600" h="21600">
                <a:moveTo>
                  <a:pt x="14674" y="719"/>
                </a:moveTo>
                <a:arcTo wR="10800" hR="10800" stAng="-4138599" swAng="5887996"/>
              </a:path>
            </a:pathLst>
          </a:custGeom>
          <a:gradFill rotWithShape="0">
            <a:gsLst>
              <a:gs pos="0">
                <a:srgbClr val="2c980a"/>
              </a:gs>
              <a:gs pos="100000">
                <a:srgbClr val="34b20c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88000" y="3676680"/>
            <a:ext cx="1754280" cy="1778040"/>
          </a:xfrm>
          <a:custGeom>
            <a:avLst/>
            <a:gdLst/>
            <a:ahLst/>
            <a:rect l="l" t="t" r="r" b="b"/>
            <a:pathLst>
              <a:path w="1105" h="1120">
                <a:moveTo>
                  <a:pt x="9" y="888"/>
                </a:moveTo>
                <a:lnTo>
                  <a:pt x="1105" y="0"/>
                </a:lnTo>
                <a:lnTo>
                  <a:pt x="1081" y="256"/>
                </a:lnTo>
                <a:cubicBezTo>
                  <a:pt x="1014" y="373"/>
                  <a:pt x="882" y="560"/>
                  <a:pt x="705" y="704"/>
                </a:cubicBezTo>
                <a:cubicBezTo>
                  <a:pt x="528" y="848"/>
                  <a:pt x="133" y="1089"/>
                  <a:pt x="17" y="1120"/>
                </a:cubicBezTo>
                <a:cubicBezTo>
                  <a:pt x="0" y="1038"/>
                  <a:pt x="9" y="888"/>
                  <a:pt x="9" y="888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8acf8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0539200">
            <a:off x="1242360" y="1636920"/>
            <a:ext cx="6543720" cy="377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08" y="16758"/>
                </a:moveTo>
                <a:arcTo wR="10800" hR="10800" stAng="2008784" swAng="2800242"/>
                <a:lnTo>
                  <a:pt x="10800" y="10800"/>
                </a:lnTo>
                <a:close/>
              </a:path>
              <a:path fill="none" w="21600" h="21600">
                <a:moveTo>
                  <a:pt x="19808" y="16758"/>
                </a:moveTo>
                <a:arcTo wR="10800" hR="10800" stAng="2008784" swAng="2800242"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99080" y="4044960"/>
            <a:ext cx="1028520" cy="1473120"/>
          </a:xfrm>
          <a:custGeom>
            <a:avLst/>
            <a:gdLst/>
            <a:ahLst/>
            <a:rect l="l" t="t" r="r" b="b"/>
            <a:pathLst>
              <a:path w="648" h="928">
                <a:moveTo>
                  <a:pt x="648" y="632"/>
                </a:moveTo>
                <a:lnTo>
                  <a:pt x="648" y="928"/>
                </a:lnTo>
                <a:lnTo>
                  <a:pt x="0" y="64"/>
                </a:lnTo>
                <a:lnTo>
                  <a:pt x="96" y="0"/>
                </a:lnTo>
                <a:lnTo>
                  <a:pt x="648" y="632"/>
                </a:lnTo>
                <a:close/>
              </a:path>
            </a:pathLst>
          </a:custGeom>
          <a:gradFill rotWithShape="0">
            <a:gsLst>
              <a:gs pos="0">
                <a:srgbClr val="1c6006"/>
              </a:gs>
              <a:gs pos="100000">
                <a:srgbClr val="34b20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20601600">
            <a:off x="3154320" y="2958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50000">
                <a:srgbClr val="c0d8c0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65040" y="36385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69800" y="2419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98600" y="2724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94040" y="39434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4000" y="46292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4248000"/>
            <a:ext cx="838080" cy="1079640"/>
          </a:xfrm>
          <a:custGeom>
            <a:avLst/>
            <a:gdLst/>
            <a:ahLst/>
            <a:rect l="l" t="t" r="r" b="b"/>
            <a:pathLst>
              <a:path w="544" h="680">
                <a:moveTo>
                  <a:pt x="0" y="16"/>
                </a:moveTo>
                <a:lnTo>
                  <a:pt x="256" y="528"/>
                </a:lnTo>
                <a:lnTo>
                  <a:pt x="264" y="680"/>
                </a:lnTo>
                <a:lnTo>
                  <a:pt x="448" y="624"/>
                </a:lnTo>
                <a:lnTo>
                  <a:pt x="544" y="576"/>
                </a:lnTo>
                <a:lnTo>
                  <a:pt x="112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20601600">
            <a:off x="3257640" y="3209760"/>
            <a:ext cx="2587680" cy="111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Sung Ha, Park</cp:lastModifiedBy>
  <dcterms:modified xsi:type="dcterms:W3CDTF">2004-11-23T09:46:55Z</dcterms:modified>
  <cp:revision>94</cp:revision>
  <dc:subject/>
  <dc:title>Contents Design</dc:title>
</cp:coreProperties>
</file>