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A89-DCC3-4013-BFC8-4A99C5F2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F61-0420-4DE1-AD28-21E73CAC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B35-BF94-4252-ADF3-6804EFE1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ED3-DF6A-4E57-8368-B23EC0E9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276-BF3F-4DF9-89B9-9F2F632F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671-4246-4AB8-8D54-D5ECBE56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848-F86C-452E-8061-EF4096EE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346-D210-4CED-BA39-2B6E77F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9D7-CB14-46CC-B15E-BD21448E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9CF-2FA7-463A-A1F1-25B1426C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2C3-DE6E-4087-9213-263F4E04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62B-C9CE-4510-94DE-821CA1C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3C17-A6BF-4345-A95C-BF86C77281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476712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3399">
                  <a:alpha val="52156"/>
                </a:srgbClr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601600">
            <a:off x="1636560" y="265392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bdbdb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601600">
            <a:off x="1693440" y="249192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01600">
            <a:off x="1610280" y="2477520"/>
            <a:ext cx="5698440" cy="29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0602200">
            <a:off x="1659600" y="2476800"/>
            <a:ext cx="5644080" cy="29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601600">
            <a:off x="1615320" y="2489400"/>
            <a:ext cx="568152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12" y="1119"/>
                </a:moveTo>
                <a:arcTo wR="10800" hR="10800" stAng="-6979025" swAng="4153635"/>
                <a:lnTo>
                  <a:pt x="10800" y="10800"/>
                </a:lnTo>
                <a:close/>
              </a:path>
              <a:path fill="none" w="21600" h="21600">
                <a:moveTo>
                  <a:pt x="6012" y="1119"/>
                </a:moveTo>
                <a:arcTo wR="10800" hR="10800" stAng="-6979025" swAng="4153635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20602200">
            <a:off x="1625400" y="2484000"/>
            <a:ext cx="5702040" cy="293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6" y="828"/>
                </a:moveTo>
                <a:arcTo wR="10800" hR="10800" stAng="-4045467" swAng="5794864"/>
                <a:lnTo>
                  <a:pt x="10800" y="10800"/>
                </a:lnTo>
                <a:close/>
              </a:path>
              <a:path fill="none" w="21600" h="21600">
                <a:moveTo>
                  <a:pt x="14946" y="828"/>
                </a:moveTo>
                <a:arcTo wR="10800" hR="10800" stAng="-4045467" swAng="5794864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88000" y="392436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539200">
            <a:off x="1242360" y="1884600"/>
            <a:ext cx="6543720" cy="37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99080" y="4292640"/>
            <a:ext cx="102852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601600">
            <a:off x="3153960" y="320652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601600">
            <a:off x="3255840" y="3458880"/>
            <a:ext cx="2586240" cy="109044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5040" y="3886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9800" y="2666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98600" y="29718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94040" y="4191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4000" y="4876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449568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51944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fefefe">
                  <a:alpha val="50196"/>
                </a:srgbClr>
              </a:gs>
              <a:gs pos="100000">
                <a:srgbClr val="292929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601600">
            <a:off x="1672920" y="2408400"/>
            <a:ext cx="5686200" cy="3016080"/>
          </a:xfrm>
          <a:prstGeom prst="ellipse">
            <a:avLst/>
          </a:prstGeom>
          <a:gradFill rotWithShape="0">
            <a:gsLst>
              <a:gs pos="0">
                <a:srgbClr val="0b3827"/>
              </a:gs>
              <a:gs pos="50000">
                <a:srgbClr val="11553b"/>
              </a:gs>
              <a:gs pos="100000">
                <a:srgbClr val="0b38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601600">
            <a:off x="1692000" y="22446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601600">
            <a:off x="1610280" y="2229840"/>
            <a:ext cx="5698440" cy="29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gradFill rotWithShape="0">
            <a:gsLst>
              <a:gs pos="0">
                <a:srgbClr val="156b40"/>
              </a:gs>
              <a:gs pos="100000">
                <a:srgbClr val="115a3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20602200">
            <a:off x="1658520" y="2229840"/>
            <a:ext cx="564408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84b509"/>
              </a:gs>
              <a:gs pos="100000">
                <a:srgbClr val="95be2c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601600">
            <a:off x="1616400" y="2242440"/>
            <a:ext cx="568152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87" y="1342"/>
                </a:moveTo>
                <a:arcTo wR="10800" hR="10800" stAng="-7131749" swAng="4032112"/>
                <a:lnTo>
                  <a:pt x="10800" y="10800"/>
                </a:lnTo>
                <a:close/>
              </a:path>
              <a:path fill="none" w="21600" h="21600">
                <a:moveTo>
                  <a:pt x="5587" y="1342"/>
                </a:moveTo>
                <a:arcTo wR="10800" hR="10800" stAng="-7131749" swAng="4032112"/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2b8156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rot="20602200">
            <a:off x="1626480" y="2240640"/>
            <a:ext cx="5699160" cy="292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74" y="719"/>
                </a:moveTo>
                <a:arcTo wR="10800" hR="10800" stAng="-4138599" swAng="5887996"/>
                <a:lnTo>
                  <a:pt x="10800" y="10800"/>
                </a:lnTo>
                <a:close/>
              </a:path>
              <a:path fill="none" w="21600" h="21600">
                <a:moveTo>
                  <a:pt x="14674" y="719"/>
                </a:moveTo>
                <a:arcTo wR="10800" hR="10800" stAng="-4138599" swAng="5887996"/>
              </a:path>
            </a:pathLst>
          </a:custGeom>
          <a:gradFill rotWithShape="0">
            <a:gsLst>
              <a:gs pos="0">
                <a:srgbClr val="2c980a"/>
              </a:gs>
              <a:gs pos="100000">
                <a:srgbClr val="34b20c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88000" y="367668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8acf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0539200">
            <a:off x="1242360" y="1636920"/>
            <a:ext cx="6543720" cy="37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9080" y="4044960"/>
            <a:ext cx="102852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1c6006"/>
              </a:gs>
              <a:gs pos="100000">
                <a:srgbClr val="34b20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20601600">
            <a:off x="3154320" y="2958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50000">
                <a:srgbClr val="c0d8c0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65040" y="36385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9800" y="2419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98600" y="2724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94040" y="39434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4000" y="4629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248000"/>
            <a:ext cx="83808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601600">
            <a:off x="3257640" y="3209760"/>
            <a:ext cx="2587680" cy="111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6:55Z</dcterms:modified>
  <cp:revision>94</cp:revision>
  <dc:subject/>
  <dc:title>Contents Design</dc:title>
</cp:coreProperties>
</file>