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12B-7A11-40FB-9739-727C087E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245-B5E2-4DA8-8332-A8E04C4E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919-40C2-4F83-A77A-72EA9644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9AF-23F3-43FE-90D6-0A862155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328-7A73-41C9-9BC5-7720A34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02E0-F87D-4E53-A24A-0ED2978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2E5-CD47-4F12-A8D4-4039E4B0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C49-C6AE-4B0F-9176-1E980D23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D24-39D7-46AA-892A-DAEE0883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5E0-C00A-4C20-AAB0-7D448F9C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0DD-E146-46D9-9578-D0C72621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22AF-8D4A-4DA3-90EB-958C6497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0CCB-3935-432B-B594-0D70DB2A91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63760" y="4384800"/>
            <a:ext cx="5560920" cy="1325520"/>
          </a:xfrm>
          <a:prstGeom prst="ellipse">
            <a:avLst/>
          </a:prstGeom>
          <a:gradFill rotWithShape="0">
            <a:gsLst>
              <a:gs pos="0">
                <a:srgbClr val="003399">
                  <a:alpha val="53333"/>
                </a:srgbClr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601600">
            <a:off x="1638360" y="2271600"/>
            <a:ext cx="57610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601600">
            <a:off x="1693440" y="210960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01600">
            <a:off x="1551600" y="2046240"/>
            <a:ext cx="5739120" cy="300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09" y="13289"/>
                </a:moveTo>
                <a:arcTo wR="10800" hR="10800" stAng="799406" swAng="3764869"/>
                <a:lnTo>
                  <a:pt x="10800" y="10800"/>
                </a:lnTo>
                <a:close/>
              </a:path>
              <a:path fill="none" w="21600" h="21600">
                <a:moveTo>
                  <a:pt x="21309" y="13289"/>
                </a:moveTo>
                <a:arcTo wR="10800" hR="10800" stAng="799406" swAng="3764869"/>
              </a:path>
            </a:pathLst>
          </a:custGeom>
          <a:gradFill rotWithShape="0">
            <a:gsLst>
              <a:gs pos="0">
                <a:srgbClr val="6fc5e3"/>
              </a:gs>
              <a:gs pos="100000">
                <a:srgbClr val="467c8f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601600">
            <a:off x="1587240" y="2107440"/>
            <a:ext cx="569556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95" y="3540"/>
                </a:moveTo>
                <a:arcTo wR="10800" hR="10800" stAng="-2534474" swAng="3904670"/>
                <a:lnTo>
                  <a:pt x="10800" y="10800"/>
                </a:lnTo>
                <a:close/>
              </a:path>
              <a:path fill="none" w="21600" h="21600">
                <a:moveTo>
                  <a:pt x="18795" y="3540"/>
                </a:moveTo>
                <a:arcTo wR="10800" hR="10800" stAng="-2534474" swAng="3904670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20602200">
            <a:off x="1587600" y="2133360"/>
            <a:ext cx="5666760" cy="2885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26" y="6318"/>
                </a:moveTo>
                <a:arcTo wR="10800" hR="10800" stAng="-1471213" swAng="4291937"/>
                <a:lnTo>
                  <a:pt x="10800" y="10800"/>
                </a:lnTo>
                <a:close/>
              </a:path>
              <a:path fill="none" w="21600" h="21600">
                <a:moveTo>
                  <a:pt x="20626" y="6318"/>
                </a:moveTo>
                <a:arcTo wR="10800" hR="10800" stAng="-1471213" swAng="4291937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601600">
            <a:off x="1593000" y="2098800"/>
            <a:ext cx="5684400" cy="291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60" y="194"/>
                </a:moveTo>
                <a:arcTo wR="10800" hR="10800" stAng="-6053132" swAng="3519554"/>
                <a:lnTo>
                  <a:pt x="10800" y="10800"/>
                </a:lnTo>
                <a:close/>
              </a:path>
              <a:path fill="none" w="21600" h="21600">
                <a:moveTo>
                  <a:pt x="8760" y="194"/>
                </a:moveTo>
                <a:arcTo wR="10800" hR="10800" stAng="-6053132" swAng="3519554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20602200">
            <a:off x="1575360" y="2100600"/>
            <a:ext cx="5755680" cy="293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96" y="91"/>
                </a:moveTo>
                <a:arcTo wR="10800" hR="10800" stAng="-4954330" swAng="3685162"/>
                <a:lnTo>
                  <a:pt x="10800" y="10800"/>
                </a:lnTo>
                <a:close/>
              </a:path>
              <a:path fill="none" w="21600" h="21600">
                <a:moveTo>
                  <a:pt x="12196" y="91"/>
                </a:moveTo>
                <a:arcTo wR="10800" hR="10800" stAng="-4954330" swAng="3685162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3680" y="29703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76520" y="22096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27320" y="26668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22400" y="38098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43000" y="4417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19120" y="4037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156120" y="2622240"/>
            <a:ext cx="2529000" cy="1792080"/>
            <a:chOff x="3156120" y="2622240"/>
            <a:chExt cx="2529000" cy="1792080"/>
          </a:xfrm>
        </p:grpSpPr>
        <p:sp>
          <p:nvSpPr>
            <p:cNvPr id="57" name=""/>
            <p:cNvSpPr/>
            <p:nvPr/>
          </p:nvSpPr>
          <p:spPr>
            <a:xfrm rot="20601600">
              <a:off x="3278160" y="2924280"/>
              <a:ext cx="2284560" cy="1187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0601600">
              <a:off x="3362400" y="3147480"/>
              <a:ext cx="2192760" cy="966600"/>
            </a:xfrm>
            <a:prstGeom prst="ellipse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6480" y="45673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efefe">
                  <a:alpha val="47058"/>
                </a:srgbClr>
              </a:gs>
              <a:gs pos="100000">
                <a:srgbClr val="292929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601600">
            <a:off x="1620720" y="24537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62430c"/>
              </a:gs>
              <a:gs pos="50000">
                <a:srgbClr val="c08418"/>
              </a:gs>
              <a:gs pos="100000">
                <a:srgbClr val="6243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601600">
            <a:off x="1676160" y="231624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9933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601600">
            <a:off x="1550160" y="2248560"/>
            <a:ext cx="5742000" cy="300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09" y="13289"/>
                </a:moveTo>
                <a:arcTo wR="10800" hR="10800" stAng="799406" swAng="3764869"/>
                <a:lnTo>
                  <a:pt x="10800" y="10800"/>
                </a:lnTo>
                <a:close/>
              </a:path>
              <a:path fill="none" w="21600" h="21600">
                <a:moveTo>
                  <a:pt x="21309" y="13289"/>
                </a:moveTo>
                <a:arcTo wR="10800" hR="10800" stAng="799406" swAng="3764869"/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814000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601600">
            <a:off x="1595160" y="2291760"/>
            <a:ext cx="5699160" cy="29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75" y="3518"/>
                </a:moveTo>
                <a:arcTo wR="10800" hR="10800" stAng="-2544005" swAng="3914202"/>
                <a:lnTo>
                  <a:pt x="10800" y="10800"/>
                </a:lnTo>
                <a:close/>
              </a:path>
              <a:path fill="none" w="21600" h="21600">
                <a:moveTo>
                  <a:pt x="18775" y="3518"/>
                </a:moveTo>
                <a:arcTo wR="10800" hR="10800" stAng="-2544005" swAng="3914202"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rot="20602200">
            <a:off x="1570320" y="2315880"/>
            <a:ext cx="5666760" cy="2885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626" y="6318"/>
                </a:moveTo>
                <a:arcTo wR="10800" hR="10800" stAng="-1471213" swAng="4291937"/>
                <a:lnTo>
                  <a:pt x="10800" y="10800"/>
                </a:lnTo>
                <a:close/>
              </a:path>
              <a:path fill="none" w="21600" h="21600">
                <a:moveTo>
                  <a:pt x="20626" y="6318"/>
                </a:moveTo>
                <a:arcTo wR="10800" hR="10800" stAng="-1471213" swAng="4291937"/>
              </a:path>
            </a:pathLst>
          </a:custGeom>
          <a:gradFill rotWithShape="0">
            <a:gsLst>
              <a:gs pos="0">
                <a:srgbClr val="965a24"/>
              </a:gs>
              <a:gs pos="100000">
                <a:srgbClr val="a57245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601600">
            <a:off x="1575360" y="2281680"/>
            <a:ext cx="5688720" cy="291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04" y="104"/>
                </a:moveTo>
                <a:arcTo wR="10800" hR="10800" stAng="-5877806" swAng="3465896"/>
                <a:lnTo>
                  <a:pt x="10800" y="10800"/>
                </a:lnTo>
                <a:close/>
              </a:path>
              <a:path fill="none" w="21600" h="21600">
                <a:moveTo>
                  <a:pt x="9304" y="104"/>
                </a:moveTo>
                <a:arcTo wR="10800" hR="10800" stAng="-5877806" swAng="3465896"/>
              </a:path>
            </a:pathLst>
          </a:cu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rot="20602200">
            <a:off x="1558080" y="2283840"/>
            <a:ext cx="5756400" cy="29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56" y="86"/>
                </a:moveTo>
                <a:arcTo wR="10800" hR="10800" stAng="-4967120" swAng="3697952"/>
                <a:lnTo>
                  <a:pt x="10800" y="10800"/>
                </a:lnTo>
                <a:close/>
              </a:path>
              <a:path fill="none" w="21600" h="21600">
                <a:moveTo>
                  <a:pt x="12156" y="86"/>
                </a:moveTo>
                <a:arcTo wR="10800" hR="10800" stAng="-4967120" swAng="3697952"/>
              </a:path>
            </a:pathLst>
          </a:custGeom>
          <a:gradFill rotWithShape="0">
            <a:gsLst>
              <a:gs pos="0">
                <a:srgbClr val="c09900"/>
              </a:gs>
              <a:gs pos="100000">
                <a:srgbClr val="ffcc00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86600" y="31528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39080" y="23922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1680" y="2849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760" y="3992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5560" y="46004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1680" y="42195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138840" y="2804400"/>
            <a:ext cx="2530440" cy="1792440"/>
            <a:chOff x="3138840" y="2804400"/>
            <a:chExt cx="2530440" cy="1792440"/>
          </a:xfrm>
        </p:grpSpPr>
        <p:sp>
          <p:nvSpPr>
            <p:cNvPr id="75" name=""/>
            <p:cNvSpPr/>
            <p:nvPr/>
          </p:nvSpPr>
          <p:spPr>
            <a:xfrm rot="20601600">
              <a:off x="3260880" y="3106440"/>
              <a:ext cx="2286000" cy="1187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50000">
                  <a:srgbClr val="d8ccc0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0601600">
              <a:off x="3345120" y="3330360"/>
              <a:ext cx="2194200" cy="966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Sung Ha, Park</cp:lastModifiedBy>
  <dcterms:modified xsi:type="dcterms:W3CDTF">2004-11-23T09:47:47Z</dcterms:modified>
  <cp:revision>94</cp:revision>
  <dc:subject/>
  <dc:title>Contents Design</dc:title>
</cp:coreProperties>
</file>