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F1B-9328-48B4-A484-00337DD6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0F3-C5A6-4BD6-9B08-E9F5308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B71-9C33-480D-91D4-989A95CE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947-1D83-4DEE-B5B9-5C4B194C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5C5-E4D9-484E-A312-960D6ACA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AC3-2A0B-48C1-9551-977DC67D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FE8-3D3A-4E0C-8CE6-ACF6EEC4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3B1-178B-4E82-82F7-0BA2A81C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6D6-1173-4BCC-B993-D1FF001C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BD3-6E92-46B0-A476-F0E6DF4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E6D-F472-48C6-ABAB-DE9B610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807-E21D-4296-A031-A922DEC0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980-2306-4F06-A6FF-084594872D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62320" y="1447920"/>
            <a:ext cx="4724280" cy="4724280"/>
            <a:chOff x="2362320" y="1447920"/>
            <a:chExt cx="4724280" cy="4724280"/>
          </a:xfrm>
        </p:grpSpPr>
        <p:sp>
          <p:nvSpPr>
            <p:cNvPr id="43" name=""/>
            <p:cNvSpPr/>
            <p:nvPr/>
          </p:nvSpPr>
          <p:spPr>
            <a:xfrm>
              <a:off x="2362320" y="1447920"/>
              <a:ext cx="4724280" cy="4701960"/>
            </a:xfrm>
            <a:prstGeom prst="ellipse">
              <a:avLst/>
            </a:prstGeom>
            <a:gradFill rotWithShape="0">
              <a:gsLst>
                <a:gs pos="0">
                  <a:srgbClr val="65d7a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  <a:effectLst>
              <a:outerShdw dist="271956" dir="224495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24" y="1836"/>
                  </a:moveTo>
                  <a:arcTo wR="10800" hR="10800" stAng="-3365862" swAng="-3988502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c9ed"/>
                </a:gs>
                <a:gs pos="100000">
                  <a:srgbClr val="bce8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43"/>
                  </a:moveTo>
                  <a:arcTo wR="10800" hR="10800" stAng="13793" swAng="-3426752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d4e2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45" y="19750"/>
                  </a:moveTo>
                  <a:arcTo wR="10800" hR="10800" stAng="3357783" swAng="-3355873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58def"/>
                </a:gs>
                <a:gs pos="100000">
                  <a:srgbClr val="6d55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24" y="19517"/>
                  </a:moveTo>
                  <a:arcTo wR="10800" hR="10800" stAng="7570916" swAng="-4216156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5a1f9"/>
                </a:gs>
                <a:gs pos="100000">
                  <a:srgbClr val="a0c5f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81"/>
                  </a:moveTo>
                  <a:arcTo wR="10800" hR="10800" stAng="10774206" swAng="-3251805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bab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505320" y="2573280"/>
              <a:ext cx="2322360" cy="2284560"/>
              <a:chOff x="3505320" y="2573280"/>
              <a:chExt cx="2322360" cy="228456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787560" y="2851200"/>
                <a:ext cx="1752480" cy="1723680"/>
                <a:chOff x="3787560" y="2851200"/>
                <a:chExt cx="1752480" cy="17236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787560" y="2851200"/>
                  <a:ext cx="1752480" cy="172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a1f9"/>
                    </a:gs>
                    <a:gs pos="100000">
                      <a:srgbClr val="18263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987720" y="2879640"/>
                  <a:ext cx="1351800" cy="65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5a1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505320" y="2573280"/>
                <a:ext cx="2322360" cy="2284560"/>
              </a:xfrm>
              <a:custGeom>
                <a:avLst/>
                <a:gdLst>
                  <a:gd name="textAreaLeft" fmla="*/ 0 w 2322360"/>
                  <a:gd name="textAreaRight" fmla="*/ 2322720 w 2322360"/>
                  <a:gd name="textAreaTop" fmla="*/ 0 h 2284560"/>
                  <a:gd name="textAreaBottom" fmla="*/ 2284920 h 228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672" y="11590"/>
                    </a:moveTo>
                    <a:arcTo wR="-8166" hR="-8166" stAng="10466915" swAng="-17054942"/>
                    <a:lnTo>
                      <a:pt x="14458" y="20961"/>
                    </a:lnTo>
                    <a:arcTo wR="10800" hR="10800" stAng="4211972" swAng="17054942"/>
                    <a:lnTo>
                      <a:pt x="24237" y="9494"/>
                    </a:lnTo>
                    <a:lnTo>
                      <a:pt x="20627" y="13881"/>
                    </a:lnTo>
                    <a:lnTo>
                      <a:pt x="16240" y="10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c7654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64680" y="3472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345200" y="1973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5400" y="28735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3120" y="43718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5200" y="5272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7280" y="43718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7280" y="2797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362320" y="1447920"/>
            <a:ext cx="4724280" cy="4724280"/>
            <a:chOff x="2362320" y="1447920"/>
            <a:chExt cx="4724280" cy="4724280"/>
          </a:xfrm>
        </p:grpSpPr>
        <p:sp>
          <p:nvSpPr>
            <p:cNvPr id="63" name=""/>
            <p:cNvSpPr/>
            <p:nvPr/>
          </p:nvSpPr>
          <p:spPr>
            <a:xfrm>
              <a:off x="2362320" y="1447920"/>
              <a:ext cx="4724280" cy="4702320"/>
            </a:xfrm>
            <a:prstGeom prst="ellipse">
              <a:avLst/>
            </a:prstGeom>
            <a:gradFill rotWithShape="0">
              <a:gsLst>
                <a:gs pos="0">
                  <a:srgbClr val="ccbe34"/>
                </a:gs>
                <a:gs pos="100000">
                  <a:srgbClr val="f0ecc6"/>
                </a:gs>
              </a:gsLst>
              <a:lin ang="5400000"/>
            </a:gradFill>
            <a:ln w="0">
              <a:noFill/>
            </a:ln>
            <a:effectLst>
              <a:outerShdw dist="206639" dir="255173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24" y="1836"/>
                  </a:moveTo>
                  <a:arcTo wR="10800" hR="10800" stAng="-3365862" swAng="-427413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0e590"/>
                </a:gs>
                <a:gs pos="100000">
                  <a:srgbClr val="f8f3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43"/>
                  </a:moveTo>
                  <a:arcTo wR="10800" hR="10800" stAng="13793" swAng="-3426752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0a020"/>
                </a:gs>
                <a:gs pos="100000">
                  <a:srgbClr val="f6e6c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45" y="19750"/>
                  </a:moveTo>
                  <a:arcTo wR="10800" hR="10800" stAng="3357783" swAng="-3355873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fe29a"/>
                </a:gs>
                <a:gs pos="100000">
                  <a:srgbClr val="7273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24" y="19517"/>
                  </a:moveTo>
                  <a:arcTo wR="10800" hR="10800" stAng="7570916" swAng="-4216156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2b67c"/>
                </a:gs>
                <a:gs pos="50000">
                  <a:srgbClr val="c59f6c"/>
                </a:gs>
                <a:gs pos="100000">
                  <a:srgbClr val="e2b6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81"/>
                  </a:moveTo>
                  <a:arcTo wR="10800" hR="10800" stAng="10774206" swAng="-3251805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5daa5"/>
                </a:gs>
                <a:gs pos="100000">
                  <a:srgbClr val="aaca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45200" y="1972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5400" y="2872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93120" y="4372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5200" y="5272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7280" y="4372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7280" y="2797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581280" y="2647800"/>
              <a:ext cx="2322720" cy="2285280"/>
              <a:chOff x="3581280" y="2647800"/>
              <a:chExt cx="2322720" cy="22852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3863880" y="2925720"/>
                <a:ext cx="1752840" cy="1724400"/>
                <a:chOff x="3863880" y="2925720"/>
                <a:chExt cx="1752840" cy="17244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863880" y="2925720"/>
                  <a:ext cx="1752840" cy="172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0c313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064040" y="2954160"/>
                  <a:ext cx="1352160" cy="650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581280" y="2647800"/>
                <a:ext cx="2322720" cy="2285280"/>
              </a:xfrm>
              <a:custGeom>
                <a:avLst/>
                <a:gdLst>
                  <a:gd name="textAreaLeft" fmla="*/ 0 w 2322720"/>
                  <a:gd name="textAreaRight" fmla="*/ 2323080 w 2322720"/>
                  <a:gd name="textAreaTop" fmla="*/ 0 h 2285280"/>
                  <a:gd name="textAreaBottom" fmla="*/ 2285640 h 228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71" y="8386"/>
                    </a:moveTo>
                    <a:arcTo wR="-8097" hR="-8097" stAng="-9759291" swAng="-17510773"/>
                    <a:lnTo>
                      <a:pt x="11648" y="21567"/>
                    </a:lnTo>
                    <a:arcTo wR="10800" hR="10800" stAng="5129936" swAng="17510773"/>
                    <a:lnTo>
                      <a:pt x="23686" y="14825"/>
                    </a:lnTo>
                    <a:lnTo>
                      <a:pt x="18611" y="17484"/>
                    </a:lnTo>
                    <a:lnTo>
                      <a:pt x="15952" y="124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b29a"/>
                  </a:gs>
                  <a:gs pos="100000">
                    <a:srgbClr val="a24d14"/>
                  </a:gs>
                </a:gsLst>
                <a:lin ang="13500000"/>
              </a:gra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41000" y="35474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19T01:51:23Z</dcterms:modified>
  <cp:revision>93</cp:revision>
  <dc:subject/>
  <dc:title>Contents Design</dc:title>
</cp:coreProperties>
</file>