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4449-8103-4EEB-9AD9-638147DD6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955B-F1E1-4FC1-B4D7-609B7201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573D-33AE-47FE-965D-0F1F93268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1ABF-A1D2-48E0-B810-27528289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237D-24CA-45E2-A3DA-A9244838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7476-7265-489D-8142-6C3ECA39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BF8F-C6F2-4D19-A384-B24D7D5C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6F2B-DDE9-4DF9-BD67-0C0A3FEA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DB2A-E4DE-4F51-AD46-5C76FC6E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CF5C-4023-4BCF-9CF4-25F0AA61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FC49-167E-453A-834F-8ED55CB2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8B16-0C4C-4A79-965E-E5810A4A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C2C9-02B6-4EFF-95E6-68D240C2A70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362320" y="1447920"/>
            <a:ext cx="4724280" cy="4724280"/>
            <a:chOff x="2362320" y="1447920"/>
            <a:chExt cx="4724280" cy="4724280"/>
          </a:xfrm>
        </p:grpSpPr>
        <p:sp>
          <p:nvSpPr>
            <p:cNvPr id="43" name=""/>
            <p:cNvSpPr/>
            <p:nvPr/>
          </p:nvSpPr>
          <p:spPr>
            <a:xfrm>
              <a:off x="2362320" y="1447920"/>
              <a:ext cx="4724280" cy="4701960"/>
            </a:xfrm>
            <a:prstGeom prst="ellipse">
              <a:avLst/>
            </a:prstGeom>
            <a:gradFill rotWithShape="0">
              <a:gsLst>
                <a:gs pos="0">
                  <a:srgbClr val="65d7a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  <a:effectLst>
              <a:outerShdw dist="271956" dir="224495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PubPieSlice"/>
            <p:cNvSpPr/>
            <p:nvPr/>
          </p:nvSpPr>
          <p:spPr>
            <a:xfrm>
              <a:off x="2362320" y="1447920"/>
              <a:ext cx="4724280" cy="472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824" y="1836"/>
                  </a:moveTo>
                  <a:arcTo wR="10800" hR="10800" stAng="-3365862" swAng="-3988502"/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7c9ed"/>
                </a:gs>
                <a:gs pos="100000">
                  <a:srgbClr val="bce8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PubPieSlice"/>
            <p:cNvSpPr/>
            <p:nvPr/>
          </p:nvSpPr>
          <p:spPr>
            <a:xfrm>
              <a:off x="2362320" y="1447920"/>
              <a:ext cx="4724280" cy="472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43"/>
                  </a:moveTo>
                  <a:arcTo wR="10800" hR="10800" stAng="13793" swAng="-3426752"/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d4e2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PubPieSlice"/>
            <p:cNvSpPr/>
            <p:nvPr/>
          </p:nvSpPr>
          <p:spPr>
            <a:xfrm>
              <a:off x="2362320" y="1447920"/>
              <a:ext cx="4724280" cy="472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845" y="19750"/>
                  </a:moveTo>
                  <a:arcTo wR="10800" hR="10800" stAng="3357783" swAng="-3355873"/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b58def"/>
                </a:gs>
                <a:gs pos="100000">
                  <a:srgbClr val="6d559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PubPieSlice"/>
            <p:cNvSpPr/>
            <p:nvPr/>
          </p:nvSpPr>
          <p:spPr>
            <a:xfrm>
              <a:off x="2362320" y="1447920"/>
              <a:ext cx="4724280" cy="472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424" y="19517"/>
                  </a:moveTo>
                  <a:arcTo wR="10800" hR="10800" stAng="7570916" swAng="-4216156"/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5a1f9"/>
                </a:gs>
                <a:gs pos="100000">
                  <a:srgbClr val="a0c5f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PubPieSlice"/>
            <p:cNvSpPr/>
            <p:nvPr/>
          </p:nvSpPr>
          <p:spPr>
            <a:xfrm>
              <a:off x="2362320" y="1447920"/>
              <a:ext cx="4724280" cy="472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81"/>
                  </a:moveTo>
                  <a:arcTo wR="10800" hR="10800" stAng="10774206" swAng="-3251805"/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4baba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3505320" y="2573280"/>
              <a:ext cx="2322360" cy="2284560"/>
              <a:chOff x="3505320" y="2573280"/>
              <a:chExt cx="2322360" cy="2284560"/>
            </a:xfrm>
          </p:grpSpPr>
          <p:grpSp>
            <p:nvGrpSpPr>
              <p:cNvPr id="50" name=""/>
              <p:cNvGrpSpPr/>
              <p:nvPr/>
            </p:nvGrpSpPr>
            <p:grpSpPr>
              <a:xfrm>
                <a:off x="3787560" y="2851200"/>
                <a:ext cx="1752480" cy="1723680"/>
                <a:chOff x="3787560" y="2851200"/>
                <a:chExt cx="1752480" cy="172368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3787560" y="2851200"/>
                  <a:ext cx="1752480" cy="172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a1f9"/>
                    </a:gs>
                    <a:gs pos="100000">
                      <a:srgbClr val="18263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3987720" y="2879640"/>
                  <a:ext cx="1351800" cy="650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5a1f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" name=""/>
              <p:cNvSpPr/>
              <p:nvPr/>
            </p:nvSpPr>
            <p:spPr>
              <a:xfrm>
                <a:off x="3505320" y="2573280"/>
                <a:ext cx="2322360" cy="2284560"/>
              </a:xfrm>
              <a:custGeom>
                <a:avLst/>
                <a:gdLst>
                  <a:gd name="textAreaLeft" fmla="*/ 0 w 2322360"/>
                  <a:gd name="textAreaRight" fmla="*/ 2322720 w 2322360"/>
                  <a:gd name="textAreaTop" fmla="*/ 0 h 2284560"/>
                  <a:gd name="textAreaBottom" fmla="*/ 2284920 h 228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672" y="11590"/>
                    </a:moveTo>
                    <a:arcTo wR="-8166" hR="-8166" stAng="10466915" swAng="-17054942"/>
                    <a:lnTo>
                      <a:pt x="14458" y="20961"/>
                    </a:lnTo>
                    <a:arcTo wR="10800" hR="10800" stAng="4211972" swAng="17054942"/>
                    <a:lnTo>
                      <a:pt x="24237" y="9494"/>
                    </a:lnTo>
                    <a:lnTo>
                      <a:pt x="20627" y="13881"/>
                    </a:lnTo>
                    <a:lnTo>
                      <a:pt x="16240" y="102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c7654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964680" y="347256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4345200" y="1973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945400" y="28735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793120" y="43718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345200" y="52722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97280" y="43718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897280" y="27972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362320" y="1447920"/>
            <a:ext cx="4724280" cy="4724280"/>
            <a:chOff x="2362320" y="1447920"/>
            <a:chExt cx="4724280" cy="4724280"/>
          </a:xfrm>
        </p:grpSpPr>
        <p:sp>
          <p:nvSpPr>
            <p:cNvPr id="63" name=""/>
            <p:cNvSpPr/>
            <p:nvPr/>
          </p:nvSpPr>
          <p:spPr>
            <a:xfrm>
              <a:off x="2362320" y="1447920"/>
              <a:ext cx="4724280" cy="4702320"/>
            </a:xfrm>
            <a:prstGeom prst="ellipse">
              <a:avLst/>
            </a:prstGeom>
            <a:gradFill rotWithShape="0">
              <a:gsLst>
                <a:gs pos="0">
                  <a:srgbClr val="ccbe34"/>
                </a:gs>
                <a:gs pos="100000">
                  <a:srgbClr val="f0ecc6"/>
                </a:gs>
              </a:gsLst>
              <a:lin ang="5400000"/>
            </a:gradFill>
            <a:ln w="0">
              <a:noFill/>
            </a:ln>
            <a:effectLst>
              <a:outerShdw dist="206639" dir="255173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PubPieSlice"/>
            <p:cNvSpPr/>
            <p:nvPr/>
          </p:nvSpPr>
          <p:spPr>
            <a:xfrm>
              <a:off x="2362320" y="1447920"/>
              <a:ext cx="4724280" cy="472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824" y="1836"/>
                  </a:moveTo>
                  <a:arcTo wR="10800" hR="10800" stAng="-3365862" swAng="-4274130"/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0e590"/>
                </a:gs>
                <a:gs pos="100000">
                  <a:srgbClr val="f8f3d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PubPieSlice"/>
            <p:cNvSpPr/>
            <p:nvPr/>
          </p:nvSpPr>
          <p:spPr>
            <a:xfrm>
              <a:off x="2362320" y="1447920"/>
              <a:ext cx="4724280" cy="472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43"/>
                  </a:moveTo>
                  <a:arcTo wR="10800" hR="10800" stAng="13793" swAng="-3426752"/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e0a020"/>
                </a:gs>
                <a:gs pos="100000">
                  <a:srgbClr val="f6e6c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PubPieSlice"/>
            <p:cNvSpPr/>
            <p:nvPr/>
          </p:nvSpPr>
          <p:spPr>
            <a:xfrm>
              <a:off x="2362320" y="1447920"/>
              <a:ext cx="4724280" cy="472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845" y="19750"/>
                  </a:moveTo>
                  <a:arcTo wR="10800" hR="10800" stAng="3357783" swAng="-3355873"/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fe29a"/>
                </a:gs>
                <a:gs pos="100000">
                  <a:srgbClr val="7273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PubPieSlice"/>
            <p:cNvSpPr/>
            <p:nvPr/>
          </p:nvSpPr>
          <p:spPr>
            <a:xfrm>
              <a:off x="2362320" y="1447920"/>
              <a:ext cx="4724280" cy="472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424" y="19517"/>
                  </a:moveTo>
                  <a:arcTo wR="10800" hR="10800" stAng="7570916" swAng="-4216156"/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e2b67c"/>
                </a:gs>
                <a:gs pos="50000">
                  <a:srgbClr val="c59f6c"/>
                </a:gs>
                <a:gs pos="100000">
                  <a:srgbClr val="e2b6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PubPieSlice"/>
            <p:cNvSpPr/>
            <p:nvPr/>
          </p:nvSpPr>
          <p:spPr>
            <a:xfrm>
              <a:off x="2362320" y="1447920"/>
              <a:ext cx="4724280" cy="472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81"/>
                  </a:moveTo>
                  <a:arcTo wR="10800" hR="10800" stAng="10774206" swAng="-3251805"/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5daa5"/>
                </a:gs>
                <a:gs pos="100000">
                  <a:srgbClr val="aaca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345200" y="1972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5400" y="2872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93120" y="43722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345200" y="52722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97280" y="43722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97280" y="2797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3581280" y="2647800"/>
              <a:ext cx="2322720" cy="2285280"/>
              <a:chOff x="3581280" y="2647800"/>
              <a:chExt cx="2322720" cy="228528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3863880" y="2925720"/>
                <a:ext cx="1752840" cy="1724400"/>
                <a:chOff x="3863880" y="2925720"/>
                <a:chExt cx="1752840" cy="172440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3863880" y="2925720"/>
                  <a:ext cx="1752840" cy="172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0c313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064040" y="2954160"/>
                  <a:ext cx="1352160" cy="6508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cc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" name=""/>
              <p:cNvSpPr/>
              <p:nvPr/>
            </p:nvSpPr>
            <p:spPr>
              <a:xfrm>
                <a:off x="3581280" y="2647800"/>
                <a:ext cx="2322720" cy="2285280"/>
              </a:xfrm>
              <a:custGeom>
                <a:avLst/>
                <a:gdLst>
                  <a:gd name="textAreaLeft" fmla="*/ 0 w 2322720"/>
                  <a:gd name="textAreaRight" fmla="*/ 2323080 w 2322720"/>
                  <a:gd name="textAreaTop" fmla="*/ 0 h 2285280"/>
                  <a:gd name="textAreaBottom" fmla="*/ 2285640 h 228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071" y="8386"/>
                    </a:moveTo>
                    <a:arcTo wR="-8097" hR="-8097" stAng="-9759291" swAng="-17510773"/>
                    <a:lnTo>
                      <a:pt x="11648" y="21567"/>
                    </a:lnTo>
                    <a:arcTo wR="10800" hR="10800" stAng="5129936" swAng="17510773"/>
                    <a:lnTo>
                      <a:pt x="23686" y="14825"/>
                    </a:lnTo>
                    <a:lnTo>
                      <a:pt x="18611" y="17484"/>
                    </a:lnTo>
                    <a:lnTo>
                      <a:pt x="15952" y="124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b29a"/>
                  </a:gs>
                  <a:gs pos="100000">
                    <a:srgbClr val="a24d14"/>
                  </a:gs>
                </a:gsLst>
                <a:lin ang="13500000"/>
              </a:gradFill>
              <a:ln w="0">
                <a:noFill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041000" y="35474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DugCheun Kang</cp:lastModifiedBy>
  <dcterms:modified xsi:type="dcterms:W3CDTF">2004-11-19T01:51:23Z</dcterms:modified>
  <cp:revision>93</cp:revision>
  <dc:subject/>
  <dc:title>Contents Design</dc:title>
</cp:coreProperties>
</file>