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FF8-9D1F-4430-AB93-92EBEF4A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901-22AF-4F7F-BDE0-F6F2D624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ABE-ED3F-48E5-8F90-06696E69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D18-730E-406C-BC3C-3F59AF17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6E4-7D03-4CC7-BBB7-4C81C433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7C7-F3C8-402C-8A63-C2E279DC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414-5E23-4641-A6F6-856FCF7A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810-ECE6-48B0-8952-E2CA70E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D5F-B09C-43D3-ACE9-08CDCD6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F27-33AC-469F-A2C6-48F3367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DDB-7B82-4638-9D4B-24292E19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98E-3106-40EB-AC2F-59BABEA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2AD8-E3C3-4038-B34F-AD4737F8DC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1523880"/>
            <a:ext cx="4495320" cy="4514760"/>
            <a:chOff x="2133720" y="1523880"/>
            <a:chExt cx="4495320" cy="4514760"/>
          </a:xfrm>
        </p:grpSpPr>
        <p:sp>
          <p:nvSpPr>
            <p:cNvPr id="43" name="Puzzle3"/>
            <p:cNvSpPr/>
            <p:nvPr/>
          </p:nvSpPr>
          <p:spPr>
            <a:xfrm>
              <a:off x="4322880" y="1523880"/>
              <a:ext cx="1766880" cy="2399400"/>
            </a:xfrm>
            <a:prstGeom prst="pie">
              <a:avLst/>
            </a:prstGeom>
            <a:gradFill rotWithShape="0">
              <a:gsLst>
                <a:gs pos="0">
                  <a:srgbClr val="fe9d5c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Puzzle2"/>
            <p:cNvSpPr/>
            <p:nvPr/>
          </p:nvSpPr>
          <p:spPr>
            <a:xfrm>
              <a:off x="3808800" y="327168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ee68a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Puzzle4"/>
            <p:cNvSpPr/>
            <p:nvPr/>
          </p:nvSpPr>
          <p:spPr>
            <a:xfrm>
              <a:off x="2717280" y="3244680"/>
              <a:ext cx="1700280" cy="279396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Puzzle1"/>
            <p:cNvSpPr/>
            <p:nvPr/>
          </p:nvSpPr>
          <p:spPr>
            <a:xfrm>
              <a:off x="2133720" y="224964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325560" y="4038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523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571500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1523880"/>
            <a:ext cx="4495320" cy="4514760"/>
            <a:chOff x="2133720" y="1523880"/>
            <a:chExt cx="4495320" cy="4514760"/>
          </a:xfrm>
        </p:grpSpPr>
        <p:sp>
          <p:nvSpPr>
            <p:cNvPr id="53" name="Puzzle3"/>
            <p:cNvSpPr/>
            <p:nvPr/>
          </p:nvSpPr>
          <p:spPr>
            <a:xfrm>
              <a:off x="4322880" y="1523880"/>
              <a:ext cx="1766880" cy="2399400"/>
            </a:xfrm>
            <a:prstGeom prst="pie">
              <a:avLst/>
            </a:prstGeom>
            <a:gradFill rotWithShape="0">
              <a:gsLst>
                <a:gs pos="0">
                  <a:srgbClr val="5cbddd"/>
                </a:gs>
                <a:gs pos="100000">
                  <a:srgbClr val="0099cc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3808800" y="327168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bdc3f9"/>
                </a:gs>
                <a:gs pos="100000">
                  <a:srgbClr val="717ef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2717280" y="3244680"/>
              <a:ext cx="1700280" cy="2793960"/>
            </a:xfrm>
            <a:prstGeom prst="pie">
              <a:avLst/>
            </a:prstGeom>
            <a:gradFill rotWithShape="0">
              <a:gsLst>
                <a:gs pos="0">
                  <a:srgbClr val="fec97b"/>
                </a:gs>
                <a:gs pos="100000">
                  <a:srgbClr val="ff9900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2133720" y="224964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75752f"/>
                </a:gs>
                <a:gs pos="100000">
                  <a:srgbClr val="ffff66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325560" y="4038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1523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571500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49Z</dcterms:modified>
  <cp:revision>92</cp:revision>
  <dc:subject/>
  <dc:title>Contents Design</dc:title>
</cp:coreProperties>
</file>