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11B-9565-4B01-AAD7-A198E024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59A-1335-44DB-9252-DAC8884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10B-6583-44F7-89BD-5944979C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BF0-E522-4BC9-B8E3-1EE5DED9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307-698B-4EBC-B216-6D1E14A7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C32-7B21-48FC-8B3A-308C506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934-A360-43E8-8767-256A44A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BA6-3523-4A91-98EF-642FDB7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4C7-FEC7-4B96-AD29-AEAA9588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DB2-194B-42DF-B878-A7701A1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943-EF28-4C0A-BA1B-A80420D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3BA-65C3-4D00-8DFF-87B6F717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D9B-9F60-49C6-8B2B-98BC0D1E5A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3d2e"/>
            </a:gs>
            <a:gs pos="100000">
              <a:srgbClr val="1a86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4080" y="1420560"/>
            <a:ext cx="7002000" cy="4662720"/>
            <a:chOff x="1144080" y="1420560"/>
            <a:chExt cx="7002000" cy="4662720"/>
          </a:xfrm>
        </p:grpSpPr>
        <p:sp>
          <p:nvSpPr>
            <p:cNvPr id="43" name=""/>
            <p:cNvSpPr/>
            <p:nvPr/>
          </p:nvSpPr>
          <p:spPr>
            <a:xfrm>
              <a:off x="3720960" y="4429080"/>
              <a:ext cx="2467080" cy="77148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3600000">
              <a:off x="2542680" y="4173120"/>
              <a:ext cx="246564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200000">
              <a:off x="2214000" y="2873160"/>
              <a:ext cx="246528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838600" y="1999800"/>
              <a:ext cx="246672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4400000">
              <a:off x="4089240" y="2295360"/>
              <a:ext cx="246528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000000">
              <a:off x="4419720" y="3509280"/>
              <a:ext cx="2467080" cy="7718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524400" y="2590920"/>
              <a:ext cx="2057400" cy="2057400"/>
              <a:chOff x="3524400" y="2590920"/>
              <a:chExt cx="2057400" cy="2057400"/>
            </a:xfrm>
          </p:grpSpPr>
          <p:sp>
            <p:nvSpPr>
              <p:cNvPr id="50" name=""/>
              <p:cNvSpPr/>
              <p:nvPr/>
            </p:nvSpPr>
            <p:spPr>
              <a:xfrm>
                <a:off x="3524400" y="259092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59480" y="2624760"/>
                <a:ext cx="158724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325560" y="44197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1880" y="274320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4080" y="2590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8800" y="44956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57150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4840" y="1523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3505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fe29a"/>
                  </a:solidFill>
                  <a:latin typeface="Arial"/>
                </a:rPr>
                <a:t>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0960" y="4429080"/>
            <a:ext cx="2467080" cy="77148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600000">
            <a:off x="2542680" y="4173120"/>
            <a:ext cx="246564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200000">
            <a:off x="2214000" y="2873160"/>
            <a:ext cx="246528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838600" y="1999800"/>
            <a:ext cx="246672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4400000">
            <a:off x="4089240" y="2295360"/>
            <a:ext cx="246528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000000">
            <a:off x="4419720" y="3509280"/>
            <a:ext cx="2467080" cy="7718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05320" y="2590920"/>
            <a:ext cx="2057400" cy="2057400"/>
            <a:chOff x="3505320" y="2590920"/>
            <a:chExt cx="2057400" cy="2057400"/>
          </a:xfrm>
        </p:grpSpPr>
        <p:sp>
          <p:nvSpPr>
            <p:cNvPr id="67" name=""/>
            <p:cNvSpPr/>
            <p:nvPr/>
          </p:nvSpPr>
          <p:spPr>
            <a:xfrm>
              <a:off x="3505320" y="259092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40400" y="2624760"/>
              <a:ext cx="1587240" cy="7765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325560" y="44197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880" y="2743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4080" y="25909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8800" y="44956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57150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840" y="15238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505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53Z</dcterms:modified>
  <cp:revision>92</cp:revision>
  <dc:subject/>
  <dc:title>Contents Design</dc:title>
</cp:coreProperties>
</file>