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F49C-C73E-4BBF-BA4C-9D1C7967C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6840" y="55332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3AC7-07EF-43DC-B1C9-30D193D8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08816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08816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60D5-2E29-4B3B-A7BA-46BB08D66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853000" y="5334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49160" y="5334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6840" y="5533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2853000" y="5533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249160" y="5533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154B-426F-41B1-95A7-0559D2B55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FFBD-7C4C-489E-BAD7-57A32643B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6840" y="5334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7E5B-4B85-4FD9-9944-D74BB33F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B8CE-59C8-430E-B722-B6934A17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08816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41CD-6D99-4ABB-A73A-50B1C849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4766-D522-458F-BE43-93C0E8D1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4191120"/>
            <a:ext cx="5410080" cy="56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C518-9D2B-46C7-AB8C-656872BF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08816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0A77-17F0-46AD-AFC3-B64C3D90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6840" y="5334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2EB5-CBF5-42B1-B3F7-A30100F0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08816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08816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F85A-621D-4451-ADC3-36FAFF20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08816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55332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29AC-25E4-4DC0-8AA6-ACADB0E4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6840" y="55332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2795-4F9D-4EEE-84EC-22815620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08816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684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08816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1B76-5C8B-4A6E-B710-43AD1B89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2853000" y="5334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249160" y="5334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6840" y="5533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2853000" y="5533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249160" y="5533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82CC-F5A1-4C1A-9C88-F627E69E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6004-5EB8-46F9-97A1-F9A352F9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08816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5522-1F51-453C-AC39-24103CFD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662D-7104-4D45-BC05-28BD6A15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4191120"/>
            <a:ext cx="5410080" cy="56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17D8-56C4-4AE0-BF65-78CB2A2B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8816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7DB7-52AE-4CD2-A06B-FD45C76F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8816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08816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9F4D-1443-4B8D-86EE-B4A1F4EC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8816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55332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D981-5118-4BB9-BDEA-E87C7475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2960" y="692280"/>
            <a:ext cx="9144360" cy="6165720"/>
            <a:chOff x="-12960" y="692280"/>
            <a:chExt cx="9144360" cy="6165720"/>
          </a:xfrm>
        </p:grpSpPr>
        <p:sp>
          <p:nvSpPr>
            <p:cNvPr id="1" name=""/>
            <p:cNvSpPr/>
            <p:nvPr/>
          </p:nvSpPr>
          <p:spPr>
            <a:xfrm>
              <a:off x="2324160" y="711360"/>
              <a:ext cx="68072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24160" y="711360"/>
              <a:ext cx="68072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324160" y="711360"/>
              <a:ext cx="6456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324160" y="711360"/>
              <a:ext cx="54086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324160" y="711360"/>
              <a:ext cx="4424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324160" y="711360"/>
              <a:ext cx="3432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24160" y="711360"/>
              <a:ext cx="2559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324160" y="711360"/>
              <a:ext cx="16905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324160" y="711360"/>
              <a:ext cx="81612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2416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24160" y="711360"/>
              <a:ext cx="68072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324160" y="711360"/>
              <a:ext cx="68072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324160" y="711360"/>
              <a:ext cx="6807240" cy="300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324160" y="711360"/>
              <a:ext cx="68072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92560" y="733320"/>
              <a:ext cx="6738840" cy="207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24160" y="711360"/>
              <a:ext cx="68072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24160" y="711360"/>
              <a:ext cx="68072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324160" y="711360"/>
              <a:ext cx="68072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324160" y="711360"/>
              <a:ext cx="68072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324160" y="711360"/>
              <a:ext cx="68072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324160" y="711360"/>
              <a:ext cx="68072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>
              <a:off x="-12600" y="712800"/>
              <a:ext cx="2340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>
              <a:off x="-12600" y="692280"/>
              <a:ext cx="234000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-12960" y="733320"/>
              <a:ext cx="231948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>
              <a:off x="382680" y="735120"/>
              <a:ext cx="19288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>
              <a:off x="1029960" y="749160"/>
              <a:ext cx="1282680" cy="6108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flipH="1">
              <a:off x="1679400" y="735120"/>
              <a:ext cx="6411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>
              <a:off x="-12600" y="692280"/>
              <a:ext cx="234000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>
              <a:off x="-12960" y="739800"/>
              <a:ext cx="229716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>
              <a:off x="-12600" y="712800"/>
              <a:ext cx="234000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>
              <a:off x="-12600" y="747720"/>
              <a:ext cx="227808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>
              <a:off x="-12600" y="735120"/>
              <a:ext cx="232416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>
              <a:off x="-12600" y="692280"/>
              <a:ext cx="2340000" cy="19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34" name=""/>
            <p:cNvGrpSpPr/>
            <p:nvPr/>
          </p:nvGrpSpPr>
          <p:grpSpPr>
            <a:xfrm>
              <a:off x="-12600" y="3274920"/>
              <a:ext cx="9143640" cy="1936440"/>
              <a:chOff x="-12600" y="3274920"/>
              <a:chExt cx="9143640" cy="1936440"/>
            </a:xfrm>
          </p:grpSpPr>
          <p:sp>
            <p:nvSpPr>
              <p:cNvPr id="35" name=""/>
              <p:cNvSpPr/>
              <p:nvPr/>
            </p:nvSpPr>
            <p:spPr>
              <a:xfrm>
                <a:off x="-12600" y="521136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-12600" y="449640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-12600" y="3850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-12600" y="3274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39" name=""/>
            <p:cNvSpPr/>
            <p:nvPr/>
          </p:nvSpPr>
          <p:spPr>
            <a:xfrm>
              <a:off x="-12600" y="27828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flipV="1">
              <a:off x="-12600" y="2309400"/>
              <a:ext cx="914400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-12600" y="1876320"/>
              <a:ext cx="9144000" cy="14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-12600" y="1531800"/>
              <a:ext cx="91026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>
              <a:off x="-12600" y="1238400"/>
              <a:ext cx="914400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-12600" y="1049400"/>
              <a:ext cx="914400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-12600" y="885600"/>
              <a:ext cx="914400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000" y="826920"/>
              <a:ext cx="91044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12600" y="7650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 flipH="1">
            <a:off x="-12600" y="712800"/>
            <a:ext cx="2340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-12600" y="712800"/>
            <a:ext cx="2340000" cy="3492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-12600" y="692280"/>
            <a:ext cx="2340000" cy="1965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2600" y="765000"/>
            <a:ext cx="9144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12600" y="0"/>
            <a:ext cx="9156600" cy="1600200"/>
          </a:xfrm>
          <a:custGeom>
            <a:avLst/>
            <a:gdLst/>
            <a:ahLst/>
            <a:rect l="l" t="t" r="r" b="b"/>
            <a:pathLst>
              <a:path w="5768" h="1008">
                <a:moveTo>
                  <a:pt x="0" y="0"/>
                </a:moveTo>
                <a:lnTo>
                  <a:pt x="0" y="688"/>
                </a:lnTo>
                <a:cubicBezTo>
                  <a:pt x="72" y="682"/>
                  <a:pt x="776" y="535"/>
                  <a:pt x="2008" y="492"/>
                </a:cubicBezTo>
                <a:cubicBezTo>
                  <a:pt x="3240" y="449"/>
                  <a:pt x="4792" y="608"/>
                  <a:pt x="5768" y="1008"/>
                </a:cubicBezTo>
                <a:lnTo>
                  <a:pt x="5768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533e"/>
              </a:gs>
              <a:gs pos="100000">
                <a:srgbClr val="36846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2600" y="-12600"/>
            <a:ext cx="9156600" cy="1353960"/>
          </a:xfrm>
          <a:custGeom>
            <a:avLst/>
            <a:gdLst/>
            <a:ahLst/>
            <a:rect l="l" t="t" r="r" b="b"/>
            <a:pathLst>
              <a:path w="5768" h="848">
                <a:moveTo>
                  <a:pt x="0" y="0"/>
                </a:moveTo>
                <a:lnTo>
                  <a:pt x="0" y="767"/>
                </a:lnTo>
                <a:cubicBezTo>
                  <a:pt x="72" y="760"/>
                  <a:pt x="879" y="496"/>
                  <a:pt x="2104" y="448"/>
                </a:cubicBezTo>
                <a:cubicBezTo>
                  <a:pt x="3330" y="401"/>
                  <a:pt x="4792" y="472"/>
                  <a:pt x="5768" y="848"/>
                </a:cubicBezTo>
                <a:lnTo>
                  <a:pt x="5760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68463"/>
              </a:gs>
              <a:gs pos="100000">
                <a:srgbClr val="22533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0120" y="115920"/>
            <a:ext cx="1079280" cy="792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-12600" y="333360"/>
            <a:ext cx="1439640" cy="1203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174680" y="404640"/>
            <a:ext cx="649440" cy="543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1"/>
          </p:nvPr>
        </p:nvSpPr>
        <p:spPr>
          <a:xfrm>
            <a:off x="45684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533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533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2"/>
          </p:nvPr>
        </p:nvSpPr>
        <p:spPr>
          <a:xfrm>
            <a:off x="3124080" y="6428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533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533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3"/>
          </p:nvPr>
        </p:nvSpPr>
        <p:spPr>
          <a:xfrm>
            <a:off x="655272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533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F415-404E-4C3A-83DA-24B085AF5E2C}" type="slidenum">
              <a:rPr b="0" lang="en-US" sz="1400" spc="-1" strike="noStrike">
                <a:solidFill>
                  <a:srgbClr val="33533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2240" y="692280"/>
            <a:ext cx="9093600" cy="6165720"/>
            <a:chOff x="12240" y="692280"/>
            <a:chExt cx="9093600" cy="6165720"/>
          </a:xfrm>
        </p:grpSpPr>
        <p:sp>
          <p:nvSpPr>
            <p:cNvPr id="99" name=""/>
            <p:cNvSpPr/>
            <p:nvPr/>
          </p:nvSpPr>
          <p:spPr>
            <a:xfrm flipH="1">
              <a:off x="12600" y="711360"/>
              <a:ext cx="67694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2600" y="711360"/>
              <a:ext cx="67694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361800" y="711360"/>
              <a:ext cx="6420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1403640" y="711360"/>
              <a:ext cx="5378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382480" y="711360"/>
              <a:ext cx="43995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368880" y="711360"/>
              <a:ext cx="34131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237200" y="711360"/>
              <a:ext cx="25448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5101200" y="711360"/>
              <a:ext cx="16808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5970600" y="711360"/>
              <a:ext cx="8114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8204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2600" y="711360"/>
              <a:ext cx="67694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2600" y="711360"/>
              <a:ext cx="67694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2600" y="711360"/>
              <a:ext cx="6769440" cy="300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2600" y="711360"/>
              <a:ext cx="67694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2600" y="733320"/>
              <a:ext cx="6701400" cy="207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12600" y="711360"/>
              <a:ext cx="67694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12600" y="711360"/>
              <a:ext cx="67694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2600" y="711360"/>
              <a:ext cx="67694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12600" y="711360"/>
              <a:ext cx="67694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2600" y="711360"/>
              <a:ext cx="67694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2600" y="711360"/>
              <a:ext cx="67694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79160" y="712800"/>
              <a:ext cx="23266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79160" y="692280"/>
              <a:ext cx="232668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99320" y="733320"/>
              <a:ext cx="230652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94640" y="735120"/>
              <a:ext cx="19180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93560" y="749160"/>
              <a:ext cx="1275480" cy="6108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85640" y="735120"/>
              <a:ext cx="6375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79160" y="692280"/>
              <a:ext cx="232668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21640" y="739800"/>
              <a:ext cx="228420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79160" y="712800"/>
              <a:ext cx="232668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40360" y="747720"/>
              <a:ext cx="226512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94280" y="735120"/>
              <a:ext cx="231120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79160" y="692280"/>
              <a:ext cx="2326680" cy="19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12600" y="3274920"/>
              <a:ext cx="9092880" cy="1936440"/>
              <a:chOff x="12600" y="3274920"/>
              <a:chExt cx="9092880" cy="1936440"/>
            </a:xfrm>
          </p:grpSpPr>
          <p:sp>
            <p:nvSpPr>
              <p:cNvPr id="133" name=""/>
              <p:cNvSpPr/>
              <p:nvPr/>
            </p:nvSpPr>
            <p:spPr>
              <a:xfrm flipH="1">
                <a:off x="12600" y="521136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12600" y="449640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15840" y="385092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15840" y="327492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 flipH="1">
              <a:off x="12240" y="278280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12240" y="2309400"/>
              <a:ext cx="90932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12240" y="1876320"/>
              <a:ext cx="9093240" cy="14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53640" y="1531800"/>
              <a:ext cx="90518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12240" y="1238400"/>
              <a:ext cx="909324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12240" y="1049400"/>
              <a:ext cx="909324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12240" y="885600"/>
              <a:ext cx="909324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2600" y="826920"/>
              <a:ext cx="90536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2240" y="76500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533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533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533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5338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533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C24B-08A2-49D1-9484-74E1A3F925DB}" type="slidenum">
              <a:rPr b="0" lang="en-US" sz="1200" spc="-1" strike="noStrike">
                <a:solidFill>
                  <a:srgbClr val="33533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60" y="0"/>
            <a:ext cx="9143640" cy="2158920"/>
            <a:chOff x="360" y="0"/>
            <a:chExt cx="9143640" cy="2158920"/>
          </a:xfrm>
        </p:grpSpPr>
        <p:sp>
          <p:nvSpPr>
            <p:cNvPr id="150" name=""/>
            <p:cNvSpPr/>
            <p:nvPr/>
          </p:nvSpPr>
          <p:spPr>
            <a:xfrm flipH="1">
              <a:off x="360" y="0"/>
              <a:ext cx="9142560" cy="2158920"/>
            </a:xfrm>
            <a:custGeom>
              <a:avLst/>
              <a:gdLst/>
              <a:ahLst/>
              <a:rect l="l" t="t" r="r" b="b"/>
              <a:pathLst>
                <a:path w="5768" h="1360">
                  <a:moveTo>
                    <a:pt x="0" y="0"/>
                  </a:moveTo>
                  <a:lnTo>
                    <a:pt x="0" y="616"/>
                  </a:lnTo>
                  <a:cubicBezTo>
                    <a:pt x="72" y="608"/>
                    <a:pt x="264" y="510"/>
                    <a:pt x="1496" y="460"/>
                  </a:cubicBezTo>
                  <a:cubicBezTo>
                    <a:pt x="2728" y="411"/>
                    <a:pt x="4632" y="672"/>
                    <a:pt x="5768" y="1360"/>
                  </a:cubicBezTo>
                  <a:lnTo>
                    <a:pt x="576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533e"/>
                </a:gs>
                <a:gs pos="100000">
                  <a:srgbClr val="3684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12240" y="0"/>
              <a:ext cx="9131400" cy="1752480"/>
            </a:xfrm>
            <a:custGeom>
              <a:avLst/>
              <a:gdLst/>
              <a:ahLst/>
              <a:rect l="l" t="t" r="r" b="b"/>
              <a:pathLst>
                <a:path w="5761" h="1104">
                  <a:moveTo>
                    <a:pt x="0" y="0"/>
                  </a:moveTo>
                  <a:lnTo>
                    <a:pt x="0" y="632"/>
                  </a:lnTo>
                  <a:cubicBezTo>
                    <a:pt x="72" y="625"/>
                    <a:pt x="401" y="504"/>
                    <a:pt x="1521" y="448"/>
                  </a:cubicBezTo>
                  <a:cubicBezTo>
                    <a:pt x="2641" y="392"/>
                    <a:pt x="4505" y="504"/>
                    <a:pt x="5761" y="1104"/>
                  </a:cubicBezTo>
                  <a:lnTo>
                    <a:pt x="5760" y="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68463"/>
                </a:gs>
                <a:gs pos="100000">
                  <a:srgbClr val="2253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638680" y="3124080"/>
            <a:ext cx="2448000" cy="2044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7020000" y="4005360"/>
            <a:ext cx="2124000" cy="1774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6227640" y="4869000"/>
            <a:ext cx="1619280" cy="1352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4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5338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304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3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533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533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533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33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533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33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33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33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5.wmf"/><Relationship Id="rId5" Type="http://schemas.openxmlformats.org/officeDocument/2006/relationships/image" Target="../media/image7.png"/><Relationship Id="rId6" Type="http://schemas.openxmlformats.org/officeDocument/2006/relationships/image" Target="../media/image5.wmf"/><Relationship Id="rId7" Type="http://schemas.openxmlformats.org/officeDocument/2006/relationships/image" Target="../media/image8.png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4181400"/>
            <a:ext cx="5333760" cy="101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335338"/>
                </a:solidFill>
                <a:latin typeface="Verdana"/>
              </a:rPr>
              <a:t>Template</a:t>
            </a:r>
            <a:endParaRPr b="1" lang="en-US" sz="76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761760" y="5334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www.themegallery.com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688320" y="3714840"/>
            <a:ext cx="297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5338"/>
                </a:solidFill>
                <a:latin typeface="Arial"/>
              </a:rPr>
              <a:t>PowerPoint</a:t>
            </a:r>
            <a:endParaRPr b="0" lang="en-US" sz="40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990720" y="2438280"/>
            <a:ext cx="7016760" cy="2971800"/>
            <a:chOff x="990720" y="2438280"/>
            <a:chExt cx="7016760" cy="2971800"/>
          </a:xfrm>
        </p:grpSpPr>
        <p:sp>
          <p:nvSpPr>
            <p:cNvPr id="343" name=""/>
            <p:cNvSpPr/>
            <p:nvPr/>
          </p:nvSpPr>
          <p:spPr>
            <a:xfrm>
              <a:off x="2976840" y="3174840"/>
              <a:ext cx="465120" cy="532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2f86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91440" y="3174840"/>
              <a:ext cx="463320" cy="5320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68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6846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68463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516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1d4735"/>
                </a:gs>
                <a:gs pos="50000">
                  <a:srgbClr val="368463"/>
                </a:gs>
                <a:gs pos="100000">
                  <a:srgbClr val="1d473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180120" y="258444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368463">
                    <a:alpha val="0"/>
                  </a:srgbClr>
                </a:gs>
                <a:gs pos="100000">
                  <a:srgbClr val="22533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43840" y="2660760"/>
              <a:ext cx="155556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81ec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481ece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21040" y="25686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26106f"/>
                </a:gs>
                <a:gs pos="50000">
                  <a:srgbClr val="481ece"/>
                </a:gs>
                <a:gs pos="100000">
                  <a:srgbClr val="26106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22480" y="25718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481ece">
                    <a:alpha val="0"/>
                  </a:srgbClr>
                </a:gs>
                <a:gs pos="100000">
                  <a:srgbClr val="2d12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06720" y="265572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1231920" y="2678040"/>
              <a:ext cx="1503360" cy="1511280"/>
              <a:chOff x="1231920" y="2678040"/>
              <a:chExt cx="1503360" cy="1511280"/>
            </a:xfrm>
          </p:grpSpPr>
          <p:sp>
            <p:nvSpPr>
              <p:cNvPr id="356" name=""/>
              <p:cNvSpPr/>
              <p:nvPr/>
            </p:nvSpPr>
            <p:spPr>
              <a:xfrm>
                <a:off x="12319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2506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2664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3482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f86b1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153d51"/>
                </a:gs>
                <a:gs pos="100000">
                  <a:srgbClr val="2f86b1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370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19485f"/>
                </a:gs>
                <a:gs pos="50000">
                  <a:srgbClr val="2f86b1"/>
                </a:gs>
                <a:gs pos="100000">
                  <a:srgbClr val="1948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638520" y="2577960"/>
              <a:ext cx="1725840" cy="1733760"/>
            </a:xfrm>
            <a:prstGeom prst="ellipse">
              <a:avLst/>
            </a:prstGeom>
            <a:gradFill rotWithShape="0">
              <a:gsLst>
                <a:gs pos="0">
                  <a:srgbClr val="2f86b1">
                    <a:alpha val="0"/>
                  </a:srgbClr>
                </a:gs>
                <a:gs pos="100000">
                  <a:srgbClr val="1d5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22760" y="2660760"/>
              <a:ext cx="155412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3748320" y="2678040"/>
              <a:ext cx="1503360" cy="1511280"/>
              <a:chOff x="3748320" y="2678040"/>
              <a:chExt cx="1503360" cy="1511280"/>
            </a:xfrm>
          </p:grpSpPr>
          <p:sp>
            <p:nvSpPr>
              <p:cNvPr id="366" name=""/>
              <p:cNvSpPr/>
              <p:nvPr/>
            </p:nvSpPr>
            <p:spPr>
              <a:xfrm>
                <a:off x="37483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7670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7828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646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6272280" y="2678040"/>
              <a:ext cx="1505160" cy="1511280"/>
              <a:chOff x="6272280" y="2678040"/>
              <a:chExt cx="1505160" cy="1511280"/>
            </a:xfrm>
          </p:grpSpPr>
          <p:sp>
            <p:nvSpPr>
              <p:cNvPr id="371" name=""/>
              <p:cNvSpPr/>
              <p:nvPr/>
            </p:nvSpPr>
            <p:spPr>
              <a:xfrm>
                <a:off x="6272280" y="267804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291360" y="2686320"/>
                <a:ext cx="14691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06840" y="270072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88920" y="273960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1035000" y="493380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d7e4be"/>
            </a:solidFill>
            <a:ln w="2844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5338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5496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d7e4be"/>
            </a:solidFill>
            <a:ln w="2844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5338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0804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d7e4be"/>
            </a:solidFill>
            <a:ln w="2844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5338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5998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2236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6434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/>
          <p:nvPr/>
        </p:nvSpPr>
        <p:spPr>
          <a:xfrm>
            <a:off x="9907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68463"/>
              </a:gs>
              <a:gs pos="100000">
                <a:srgbClr val="2f86b1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791320" y="34290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20876400">
            <a:off x="3138480" y="49528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070080" y="373392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090960" y="374328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108240" y="375912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200400" y="380376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88040" y="43610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20826600">
            <a:off x="1295280" y="43430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1219320" y="3352680"/>
            <a:ext cx="1371240" cy="1441080"/>
            <a:chOff x="1219320" y="3352680"/>
            <a:chExt cx="1371240" cy="1441080"/>
          </a:xfrm>
        </p:grpSpPr>
        <p:sp>
          <p:nvSpPr>
            <p:cNvPr id="392" name=""/>
            <p:cNvSpPr/>
            <p:nvPr/>
          </p:nvSpPr>
          <p:spPr>
            <a:xfrm>
              <a:off x="1219320" y="33526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236960" y="33609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250280" y="33746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321920" y="34113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99760" y="3858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1185840" y="25876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262160" y="198108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274760" y="19861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285920" y="1996920"/>
            <a:ext cx="95076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339920" y="20224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459080" y="233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45268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57508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58444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59092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627280" y="15526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64528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2f86b1"/>
              </a:gs>
              <a:gs pos="100000">
                <a:srgbClr val="29769c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2f86b1"/>
              </a:gs>
              <a:gs pos="100000">
                <a:srgbClr val="29769c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2f86b1"/>
              </a:gs>
              <a:gs pos="100000">
                <a:srgbClr val="29769c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2f86b1"/>
              </a:gs>
              <a:gs pos="100000">
                <a:srgbClr val="29769c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2f86b1"/>
              </a:gs>
              <a:gs pos="100000">
                <a:srgbClr val="29769c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2f86b1"/>
              </a:gs>
              <a:gs pos="100000">
                <a:srgbClr val="29769c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418" name="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ecfb1"/>
                </a:gs>
                <a:gs pos="100000">
                  <a:srgbClr val="d276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ecfb1"/>
                </a:gs>
                <a:gs pos="100000">
                  <a:srgbClr val="d2761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421" name="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ecfb1"/>
                </a:gs>
                <a:gs pos="100000">
                  <a:srgbClr val="d276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ecfb1"/>
                </a:gs>
                <a:gs pos="100000">
                  <a:srgbClr val="d2761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424" name="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ecfb1"/>
                </a:gs>
                <a:gs pos="100000">
                  <a:srgbClr val="d276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ecfb1"/>
                </a:gs>
                <a:gs pos="100000">
                  <a:srgbClr val="d2761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427" name="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ecfb1"/>
                </a:gs>
                <a:gs pos="100000">
                  <a:srgbClr val="d276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ecfb1"/>
                </a:gs>
                <a:gs pos="100000">
                  <a:srgbClr val="d2761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430" name="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ecfb1"/>
                </a:gs>
                <a:gs pos="100000">
                  <a:srgbClr val="d276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ecfb1"/>
                </a:gs>
                <a:gs pos="100000">
                  <a:srgbClr val="d2761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433" name="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ecfb1"/>
                </a:gs>
                <a:gs pos="100000">
                  <a:srgbClr val="d276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18796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eecfb1"/>
                </a:gs>
                <a:gs pos="100000">
                  <a:srgbClr val="d2761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6846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183c2d"/>
              </a:gs>
              <a:gs pos="100000">
                <a:srgbClr val="36846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1d4735"/>
              </a:gs>
              <a:gs pos="50000">
                <a:srgbClr val="368463"/>
              </a:gs>
              <a:gs pos="100000">
                <a:srgbClr val="1d473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68463">
                  <a:alpha val="0"/>
                </a:srgbClr>
              </a:gs>
              <a:gs pos="100000">
                <a:srgbClr val="22533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73680" y="368784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55660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6671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47100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5660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52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59084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1143000" y="198756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76480" y="199548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193760" y="405936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93760" y="2017800"/>
            <a:ext cx="2070000" cy="707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149480" y="4844880"/>
            <a:ext cx="2163600" cy="69552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729eb4"/>
              </a:gs>
              <a:gs pos="100000">
                <a:srgbClr val="f8faf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193760" y="4869000"/>
            <a:ext cx="2070000" cy="617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dafd4"/>
              </a:gs>
              <a:gs pos="100000">
                <a:srgbClr val="f8faf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1887480" y="1679400"/>
            <a:ext cx="642960" cy="642960"/>
            <a:chOff x="1887480" y="1679400"/>
            <a:chExt cx="642960" cy="642960"/>
          </a:xfrm>
        </p:grpSpPr>
        <p:sp>
          <p:nvSpPr>
            <p:cNvPr id="459" name=""/>
            <p:cNvSpPr/>
            <p:nvPr/>
          </p:nvSpPr>
          <p:spPr>
            <a:xfrm>
              <a:off x="1887480" y="1679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893960" y="1684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01880" y="168804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908360" y="1693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942200" y="1709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2027520" y="1771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219320" y="2441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198756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538440" y="199548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556080" y="405936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1f0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556080" y="2017800"/>
            <a:ext cx="2070000" cy="707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ff6d3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249800" y="167940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255920" y="1684440"/>
            <a:ext cx="622440" cy="62208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264200" y="1687680"/>
            <a:ext cx="607680" cy="6076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270320" y="1693800"/>
            <a:ext cx="577800" cy="5666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305240" y="1709640"/>
            <a:ext cx="513000" cy="460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389840" y="1771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581280" y="2441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508200" y="4844880"/>
            <a:ext cx="2163960" cy="69552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58a4ae"/>
              </a:gs>
              <a:gs pos="100000">
                <a:srgbClr val="f8faf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552840" y="4869000"/>
            <a:ext cx="2070000" cy="617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2b2bb"/>
              </a:gs>
              <a:gs pos="100000">
                <a:srgbClr val="f8faf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867280" y="198756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900760" y="199548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918040" y="405936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1e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918040" y="2017800"/>
            <a:ext cx="2070360" cy="707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3ca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611760" y="1679400"/>
            <a:ext cx="642960" cy="642960"/>
            <a:chOff x="6611760" y="1679400"/>
            <a:chExt cx="642960" cy="642960"/>
          </a:xfrm>
        </p:grpSpPr>
        <p:sp>
          <p:nvSpPr>
            <p:cNvPr id="484" name=""/>
            <p:cNvSpPr/>
            <p:nvPr/>
          </p:nvSpPr>
          <p:spPr>
            <a:xfrm>
              <a:off x="6611760" y="1679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618240" y="1684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626160" y="168804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632640" y="1693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666480" y="1709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752160" y="1771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943600" y="2441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861160" y="4844880"/>
            <a:ext cx="2163600" cy="69552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99ba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905440" y="4869000"/>
            <a:ext cx="2070000" cy="617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8dad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95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98" name="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99" name="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502" name="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</p:grpSp>
      <p:grpSp>
        <p:nvGrpSpPr>
          <p:cNvPr id="504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505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511" name="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</p:grpSp>
      <p:grpSp>
        <p:nvGrpSpPr>
          <p:cNvPr id="515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516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517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520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</p:grpSp>
      <p:sp>
        <p:nvSpPr>
          <p:cNvPr id="522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528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533" name="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534" name="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537" name="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</p:grpSp>
      <p:grpSp>
        <p:nvGrpSpPr>
          <p:cNvPr id="539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540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546" name="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</p:grpSp>
      <p:grpSp>
        <p:nvGrpSpPr>
          <p:cNvPr id="550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551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552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555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</p:grpSp>
      <p:grpSp>
        <p:nvGrpSpPr>
          <p:cNvPr id="557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558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564" name="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</p:grpSp>
      <p:sp>
        <p:nvSpPr>
          <p:cNvPr id="568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e4be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5338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e4be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5338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e4be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5338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e4be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5338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77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335338"/>
                </a:solidFill>
                <a:latin typeface="Arial"/>
              </a:endParaRPr>
            </a:p>
          </p:txBody>
        </p:sp>
        <p:cxnSp>
          <p:nvCxnSpPr>
            <p:cNvPr id="581" name=""/>
            <p:cNvCxnSpPr>
              <a:stCxn id="577" idx="3"/>
              <a:endCxn id="578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82" name=""/>
            <p:cNvCxnSpPr>
              <a:stCxn id="578" idx="3"/>
              <a:endCxn id="579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83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990720" y="2133720"/>
            <a:ext cx="6857640" cy="3428640"/>
            <a:chOff x="990720" y="2133720"/>
            <a:chExt cx="6857640" cy="3428640"/>
          </a:xfrm>
        </p:grpSpPr>
        <p:sp>
          <p:nvSpPr>
            <p:cNvPr id="586" name=""/>
            <p:cNvSpPr/>
            <p:nvPr/>
          </p:nvSpPr>
          <p:spPr>
            <a:xfrm>
              <a:off x="528552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e9e5e"/>
                </a:gs>
                <a:gs pos="100000">
                  <a:srgbClr val="d2761a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1381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72a891"/>
                </a:gs>
                <a:gs pos="100000">
                  <a:srgbClr val="368463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9907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da9c7"/>
                </a:gs>
                <a:gs pos="100000">
                  <a:srgbClr val="2f86b1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da9c7"/>
                </a:gs>
                <a:gs pos="100000">
                  <a:srgbClr val="2f86b1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a891"/>
                </a:gs>
                <a:gs pos="100000">
                  <a:srgbClr val="368463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e9e5e"/>
                </a:gs>
                <a:gs pos="100000">
                  <a:srgbClr val="d2761a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98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368463"/>
                </a:gs>
                <a:gs pos="100000">
                  <a:srgbClr val="183c2d"/>
                </a:gs>
              </a:gsLst>
              <a:lin ang="1980000"/>
            </a:gradFill>
            <a:ln w="93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599" name="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600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2292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636957"/>
                  </a:gs>
                  <a:gs pos="50000">
                    <a:srgbClr val="d7e4be"/>
                  </a:gs>
                  <a:gs pos="100000">
                    <a:srgbClr val="636957"/>
                  </a:gs>
                </a:gsLst>
                <a:lin ang="5400000"/>
              </a:gradFill>
              <a:ln w="12600">
                <a:solidFill>
                  <a:srgbClr val="d7e4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09636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636957"/>
                  </a:gs>
                  <a:gs pos="50000">
                    <a:srgbClr val="d7e4be"/>
                  </a:gs>
                  <a:gs pos="100000">
                    <a:srgbClr val="6369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2f86b1"/>
            </a:solidFill>
            <a:ln w="93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606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68756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636957"/>
                  </a:gs>
                  <a:gs pos="50000">
                    <a:srgbClr val="d7e4be"/>
                  </a:gs>
                  <a:gs pos="100000">
                    <a:srgbClr val="636957"/>
                  </a:gs>
                </a:gsLst>
                <a:lin ang="5400000"/>
              </a:gradFill>
              <a:ln w="12600">
                <a:solidFill>
                  <a:srgbClr val="d7e4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761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636957"/>
                  </a:gs>
                  <a:gs pos="50000">
                    <a:srgbClr val="d7e4be"/>
                  </a:gs>
                  <a:gs pos="100000">
                    <a:srgbClr val="6369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610" name=""/>
            <p:cNvSpPr/>
            <p:nvPr/>
          </p:nvSpPr>
          <p:spPr>
            <a:xfrm rot="3418800">
              <a:off x="4595400" y="200916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368463"/>
                </a:gs>
                <a:gs pos="100000">
                  <a:srgbClr val="183c2d"/>
                </a:gs>
              </a:gsLst>
              <a:lin ang="1980000"/>
            </a:gradFill>
            <a:ln w="93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612" name="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636957"/>
                  </a:gs>
                  <a:gs pos="50000">
                    <a:srgbClr val="d7e4be"/>
                  </a:gs>
                  <a:gs pos="100000">
                    <a:srgbClr val="636957"/>
                  </a:gs>
                </a:gsLst>
                <a:lin ang="5400000"/>
              </a:gradFill>
              <a:ln w="12600">
                <a:solidFill>
                  <a:srgbClr val="d7e4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68376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636957"/>
                  </a:gs>
                  <a:gs pos="50000">
                    <a:srgbClr val="d7e4be"/>
                  </a:gs>
                  <a:gs pos="100000">
                    <a:srgbClr val="6369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616" name="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2f86b1"/>
            </a:solidFill>
            <a:ln w="93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1135080" y="2367000"/>
          <a:ext cx="7040520" cy="3124080"/>
        </p:xfrm>
        <a:graphic>
          <a:graphicData uri="http://schemas.openxmlformats.org/drawingml/2006/table">
            <a:tbl>
              <a:tblPr/>
              <a:tblGrid>
                <a:gridCol w="1587600"/>
                <a:gridCol w="1108080"/>
                <a:gridCol w="1085760"/>
                <a:gridCol w="1084320"/>
                <a:gridCol w="1090440"/>
                <a:gridCol w="108432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5338"/>
                      </a:solidFill>
                    </a:lnR>
                    <a:lnT>
                      <a:noFill/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"/>
          <p:cNvSpPr/>
          <p:nvPr/>
        </p:nvSpPr>
        <p:spPr>
          <a:xfrm>
            <a:off x="2138400" y="4465800"/>
            <a:ext cx="5562720" cy="1325520"/>
          </a:xfrm>
          <a:prstGeom prst="ellipse">
            <a:avLst/>
          </a:prstGeom>
          <a:gradFill rotWithShape="0">
            <a:gsLst>
              <a:gs pos="0">
                <a:srgbClr val="f7f9f2"/>
              </a:gs>
              <a:gs pos="100000">
                <a:srgbClr val="b2b2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rot="20601600">
            <a:off x="1413000" y="235224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50000">
                <a:srgbClr val="adadad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rot="20601600">
            <a:off x="1469520" y="2190240"/>
            <a:ext cx="5562720" cy="29228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2791bb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20601600">
            <a:off x="1386360" y="2175840"/>
            <a:ext cx="5698440" cy="292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395" y="2248"/>
                </a:moveTo>
                <a:arcTo wR="10800" hR="10800" stAng="-3141777" swAng="5155523"/>
                <a:lnTo>
                  <a:pt x="10800" y="10800"/>
                </a:lnTo>
                <a:close/>
              </a:path>
              <a:path fill="none" w="21600" h="21600">
                <a:moveTo>
                  <a:pt x="17395" y="2248"/>
                </a:moveTo>
                <a:arcTo wR="10800" hR="10800" stAng="-3141777" swAng="5155523"/>
              </a:path>
            </a:pathLst>
          </a:custGeom>
          <a:gradFill rotWithShape="0">
            <a:gsLst>
              <a:gs pos="0">
                <a:srgbClr val="368463"/>
              </a:gs>
              <a:gs pos="100000">
                <a:srgbClr val="7eb09b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H="1" rot="20602200">
            <a:off x="1434960" y="2176200"/>
            <a:ext cx="5643360" cy="29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28" y="12048"/>
                </a:moveTo>
                <a:arcTo wR="10800" hR="10800" stAng="398260" swAng="5586891"/>
                <a:lnTo>
                  <a:pt x="10800" y="10800"/>
                </a:lnTo>
                <a:close/>
              </a:path>
              <a:path fill="none" w="21600" h="21600">
                <a:moveTo>
                  <a:pt x="21528" y="12048"/>
                </a:moveTo>
                <a:arcTo wR="10800" hR="10800" stAng="398260" swAng="5586891"/>
              </a:path>
            </a:pathLst>
          </a:custGeom>
          <a:gradFill rotWithShape="0">
            <a:gsLst>
              <a:gs pos="0">
                <a:srgbClr val="2f86b1"/>
              </a:gs>
              <a:gs pos="100000">
                <a:srgbClr val="205d7b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rot="20601600">
            <a:off x="1392840" y="2187360"/>
            <a:ext cx="568152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879" y="1186"/>
                </a:moveTo>
                <a:arcTo wR="10800" hR="10800" stAng="-7026499" swAng="4201110"/>
                <a:lnTo>
                  <a:pt x="10800" y="10800"/>
                </a:lnTo>
                <a:close/>
              </a:path>
              <a:path fill="none" w="21600" h="21600">
                <a:moveTo>
                  <a:pt x="5879" y="1186"/>
                </a:moveTo>
                <a:arcTo wR="10800" hR="10800" stAng="-7026499" swAng="4201110"/>
              </a:path>
            </a:pathLst>
          </a:custGeom>
          <a:gradFill rotWithShape="0">
            <a:gsLst>
              <a:gs pos="0">
                <a:srgbClr val="a9cabc"/>
              </a:gs>
              <a:gs pos="100000">
                <a:srgbClr val="368463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H="1" rot="20602200">
            <a:off x="1402560" y="2185920"/>
            <a:ext cx="5702040" cy="292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6" y="828"/>
                </a:moveTo>
                <a:arcTo wR="10800" hR="10800" stAng="-4045467" swAng="5794864"/>
                <a:lnTo>
                  <a:pt x="10800" y="10800"/>
                </a:lnTo>
                <a:close/>
              </a:path>
              <a:path fill="none" w="21600" h="21600">
                <a:moveTo>
                  <a:pt x="14946" y="828"/>
                </a:moveTo>
                <a:arcTo wR="10800" hR="10800" stAng="-4045467" swAng="5794864"/>
              </a:path>
            </a:pathLst>
          </a:custGeom>
          <a:gradFill rotWithShape="0">
            <a:gsLst>
              <a:gs pos="0">
                <a:srgbClr val="60360b"/>
              </a:gs>
              <a:gs pos="100000">
                <a:srgbClr val="d2761a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rot="20601600">
            <a:off x="2930400" y="290484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50000">
                <a:srgbClr val="ebebeb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921320" y="35845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826440" y="23652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2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655240" y="26701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3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140640" y="457524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5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394160" y="4178160"/>
            <a:ext cx="863640" cy="1079640"/>
          </a:xfrm>
          <a:custGeom>
            <a:avLst/>
            <a:gdLst/>
            <a:ahLst/>
            <a:rect l="l" t="t" r="r" b="b"/>
            <a:pathLst>
              <a:path w="544" h="680">
                <a:moveTo>
                  <a:pt x="0" y="16"/>
                </a:moveTo>
                <a:lnTo>
                  <a:pt x="256" y="528"/>
                </a:lnTo>
                <a:lnTo>
                  <a:pt x="264" y="680"/>
                </a:lnTo>
                <a:lnTo>
                  <a:pt x="448" y="624"/>
                </a:lnTo>
                <a:lnTo>
                  <a:pt x="544" y="576"/>
                </a:lnTo>
                <a:lnTo>
                  <a:pt x="112" y="0"/>
                </a:lnTo>
                <a:lnTo>
                  <a:pt x="0" y="16"/>
                </a:lnTo>
                <a:close/>
              </a:path>
            </a:pathLst>
          </a:custGeom>
          <a:gradFill rotWithShape="0">
            <a:gsLst>
              <a:gs pos="0">
                <a:srgbClr val="368463">
                  <a:alpha val="19215"/>
                </a:srgbClr>
              </a:gs>
              <a:gs pos="100000">
                <a:srgbClr val="78ac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356080" y="3506760"/>
            <a:ext cx="1773360" cy="1776600"/>
          </a:xfrm>
          <a:custGeom>
            <a:avLst/>
            <a:gdLst/>
            <a:ahLst/>
            <a:rect l="l" t="t" r="r" b="b"/>
            <a:pathLst>
              <a:path w="1117" h="1119">
                <a:moveTo>
                  <a:pt x="21" y="888"/>
                </a:moveTo>
                <a:lnTo>
                  <a:pt x="1117" y="0"/>
                </a:lnTo>
                <a:lnTo>
                  <a:pt x="1093" y="256"/>
                </a:lnTo>
                <a:cubicBezTo>
                  <a:pt x="1026" y="373"/>
                  <a:pt x="896" y="560"/>
                  <a:pt x="717" y="704"/>
                </a:cubicBezTo>
                <a:cubicBezTo>
                  <a:pt x="538" y="848"/>
                  <a:pt x="133" y="1088"/>
                  <a:pt x="17" y="1119"/>
                </a:cubicBezTo>
                <a:cubicBezTo>
                  <a:pt x="0" y="1037"/>
                  <a:pt x="21" y="888"/>
                  <a:pt x="21" y="888"/>
                </a:cubicBezTo>
                <a:close/>
              </a:path>
            </a:pathLst>
          </a:custGeom>
          <a:gradFill rotWithShape="0">
            <a:gsLst>
              <a:gs pos="0">
                <a:srgbClr val="481ece"/>
              </a:gs>
              <a:gs pos="100000">
                <a:srgbClr val="795bd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rot="20539200">
            <a:off x="930600" y="1466640"/>
            <a:ext cx="6542640" cy="377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808" y="16758"/>
                </a:moveTo>
                <a:arcTo wR="10800" hR="10800" stAng="2008784" swAng="2800242"/>
                <a:lnTo>
                  <a:pt x="10800" y="10800"/>
                </a:lnTo>
                <a:close/>
              </a:path>
              <a:path fill="none" w="21600" h="21600">
                <a:moveTo>
                  <a:pt x="19808" y="16758"/>
                </a:moveTo>
                <a:arcTo wR="10800" hR="10800" stAng="2008784" swAng="2800242"/>
              </a:path>
            </a:pathLst>
          </a:custGeom>
          <a:gradFill rotWithShape="0">
            <a:gsLst>
              <a:gs pos="0">
                <a:srgbClr val="291176"/>
              </a:gs>
              <a:gs pos="100000">
                <a:srgbClr val="481ece"/>
              </a:gs>
            </a:gsLst>
            <a:lin ang="11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491000" y="3983040"/>
            <a:ext cx="924120" cy="1311120"/>
          </a:xfrm>
          <a:custGeom>
            <a:avLst/>
            <a:gdLst/>
            <a:ahLst/>
            <a:rect l="l" t="t" r="r" b="b"/>
            <a:pathLst>
              <a:path w="582" h="826">
                <a:moveTo>
                  <a:pt x="582" y="572"/>
                </a:moveTo>
                <a:lnTo>
                  <a:pt x="562" y="826"/>
                </a:lnTo>
                <a:lnTo>
                  <a:pt x="0" y="42"/>
                </a:lnTo>
                <a:lnTo>
                  <a:pt x="90" y="0"/>
                </a:lnTo>
                <a:lnTo>
                  <a:pt x="582" y="572"/>
                </a:lnTo>
                <a:close/>
              </a:path>
            </a:pathLst>
          </a:custGeom>
          <a:gradFill rotWithShape="0">
            <a:gsLst>
              <a:gs pos="0">
                <a:srgbClr val="8a6fde"/>
              </a:gs>
              <a:gs pos="100000">
                <a:srgbClr val="481ec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20601600">
            <a:off x="3032280" y="3157560"/>
            <a:ext cx="2585880" cy="1090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383800" y="39006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4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7f9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53d51"/>
              </a:gs>
              <a:gs pos="50000">
                <a:srgbClr val="2f86b1"/>
              </a:gs>
              <a:gs pos="100000">
                <a:srgbClr val="153d51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651" name="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2d1282"/>
                </a:gs>
                <a:gs pos="100000">
                  <a:srgbClr val="481ece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341594"/>
                </a:gs>
                <a:gs pos="100000">
                  <a:srgbClr val="481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pic>
          <p:nvPicPr>
            <p:cNvPr id="655" name="" descr="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658" name="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1d5470"/>
                </a:gs>
                <a:gs pos="100000">
                  <a:srgbClr val="2f86b1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1607f"/>
                </a:gs>
                <a:gs pos="100000">
                  <a:srgbClr val="2f86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pic>
          <p:nvPicPr>
            <p:cNvPr id="662" name="" descr="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665" name="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22533e"/>
                </a:gs>
                <a:gs pos="100000">
                  <a:srgbClr val="368463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75f47"/>
                </a:gs>
                <a:gs pos="100000">
                  <a:srgbClr val="3684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pic>
          <p:nvPicPr>
            <p:cNvPr id="669" name="" descr="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672" name="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8faf4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844a10"/>
                </a:gs>
                <a:gs pos="100000">
                  <a:srgbClr val="d2761a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975512"/>
                </a:gs>
                <a:gs pos="100000">
                  <a:srgbClr val="d2761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pic>
          <p:nvPicPr>
            <p:cNvPr id="676" name="" descr="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828800" y="2023920"/>
            <a:ext cx="762120" cy="665280"/>
            <a:chOff x="1828800" y="2023920"/>
            <a:chExt cx="762120" cy="665280"/>
          </a:xfrm>
        </p:grpSpPr>
        <p:sp>
          <p:nvSpPr>
            <p:cNvPr id="199" name=""/>
            <p:cNvSpPr/>
            <p:nvPr/>
          </p:nvSpPr>
          <p:spPr>
            <a:xfrm>
              <a:off x="1834920" y="20350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28800" y="20239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73080" y="206316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368463"/>
                </a:gs>
                <a:gs pos="100000">
                  <a:srgbClr val="183c2d"/>
                </a:gs>
              </a:gsLst>
              <a:lin ang="13500000"/>
            </a:gradFill>
            <a:ln w="93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828800" y="2938320"/>
            <a:ext cx="761760" cy="665280"/>
            <a:chOff x="1828800" y="2938320"/>
            <a:chExt cx="761760" cy="665280"/>
          </a:xfrm>
        </p:grpSpPr>
        <p:sp>
          <p:nvSpPr>
            <p:cNvPr id="203" name=""/>
            <p:cNvSpPr/>
            <p:nvPr/>
          </p:nvSpPr>
          <p:spPr>
            <a:xfrm>
              <a:off x="1834920" y="29494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28800" y="2938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73080" y="297756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2f86b1"/>
                </a:gs>
                <a:gs pos="100000">
                  <a:srgbClr val="153d51"/>
                </a:gs>
              </a:gsLst>
              <a:lin ang="13500000"/>
            </a:gradFill>
            <a:ln w="93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438280" y="2633760"/>
            <a:ext cx="480060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32240" y="21002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027520" y="2122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38280" y="3548160"/>
            <a:ext cx="480060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32240" y="30146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027520" y="3036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828800" y="3830760"/>
            <a:ext cx="762120" cy="664920"/>
            <a:chOff x="1828800" y="3830760"/>
            <a:chExt cx="762120" cy="664920"/>
          </a:xfrm>
        </p:grpSpPr>
        <p:sp>
          <p:nvSpPr>
            <p:cNvPr id="213" name=""/>
            <p:cNvSpPr/>
            <p:nvPr/>
          </p:nvSpPr>
          <p:spPr>
            <a:xfrm>
              <a:off x="1834920" y="38419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28800" y="38307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73080" y="38700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368463"/>
                </a:gs>
                <a:gs pos="100000">
                  <a:srgbClr val="183c2d"/>
                </a:gs>
              </a:gsLst>
              <a:lin ang="13500000"/>
            </a:gradFill>
            <a:ln w="93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828800" y="4745160"/>
            <a:ext cx="761760" cy="664920"/>
            <a:chOff x="1828800" y="4745160"/>
            <a:chExt cx="761760" cy="664920"/>
          </a:xfrm>
        </p:grpSpPr>
        <p:sp>
          <p:nvSpPr>
            <p:cNvPr id="217" name=""/>
            <p:cNvSpPr/>
            <p:nvPr/>
          </p:nvSpPr>
          <p:spPr>
            <a:xfrm>
              <a:off x="1834920" y="47563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28800" y="4745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73080" y="47844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2f86b1"/>
                </a:gs>
                <a:gs pos="100000">
                  <a:srgbClr val="153d51"/>
                </a:gs>
              </a:gsLst>
              <a:lin ang="13500000"/>
            </a:gradFill>
            <a:ln w="93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438280" y="4440240"/>
            <a:ext cx="480060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32240" y="39067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27520" y="392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38280" y="5354640"/>
            <a:ext cx="480060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32240" y="4821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027520" y="4843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623880" y="5376600"/>
            <a:ext cx="516744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86b1"/>
                </a:solidFill>
                <a:latin typeface="Verdana"/>
              </a:rPr>
              <a:t>www.themegallery.com 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582480" y="4419720"/>
            <a:ext cx="48024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68463"/>
                    </a:gs>
                    <a:gs pos="100000">
                      <a:srgbClr val="000066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68463"/>
                  </a:gs>
                  <a:gs pos="100000">
                    <a:srgbClr val="000066"/>
                  </a:gs>
                </a:gsLst>
                <a:lin ang="10800000"/>
              </a:gra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28800" y="1642680"/>
            <a:ext cx="737712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5338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2f86b1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335338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2f86b1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335338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2f86b1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335338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2f86b1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335338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335338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335338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1a76d"/>
              </a:gs>
              <a:gs pos="100000">
                <a:srgbClr val="d2761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ed7cc"/>
              </a:gs>
              <a:gs pos="100000">
                <a:srgbClr val="36846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236" name="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237" name="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1a3f2f"/>
                  </a:gs>
                  <a:gs pos="100000">
                    <a:srgbClr val="36846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68463"/>
                  </a:gs>
                  <a:gs pos="100000">
                    <a:srgbClr val="a5c7b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2f86b1"/>
                </a:gs>
                <a:gs pos="100000">
                  <a:srgbClr val="153d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b5d3e2"/>
                </a:gs>
                <a:gs pos="100000">
                  <a:srgbClr val="2f86b1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f86b1">
                    <a:alpha val="48235"/>
                  </a:srgbClr>
                </a:gs>
                <a:gs pos="100000">
                  <a:srgbClr val="2569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2f86b1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1500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 rot="20241600">
            <a:off x="1391760" y="2801880"/>
            <a:ext cx="6094440" cy="242424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e6e6e6">
                  <a:alpha val="36078"/>
                </a:srgbClr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821040" y="2057400"/>
            <a:ext cx="1143000" cy="1101600"/>
          </a:xfrm>
          <a:prstGeom prst="ellipse">
            <a:avLst/>
          </a:prstGeom>
          <a:gradFill rotWithShape="0">
            <a:gsLst>
              <a:gs pos="0">
                <a:srgbClr val="368463"/>
              </a:gs>
              <a:gs pos="100000">
                <a:srgbClr val="122d2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585800" y="337500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2f86b1"/>
              </a:gs>
              <a:gs pos="100000">
                <a:srgbClr val="0e293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70240" y="484200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d2761a"/>
              </a:gs>
              <a:gs pos="100000">
                <a:srgbClr val="4a290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838760" y="429732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3f3f3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464160" y="2254320"/>
            <a:ext cx="1079640" cy="1103400"/>
          </a:xfrm>
          <a:prstGeom prst="ellipse">
            <a:avLst/>
          </a:prstGeom>
          <a:gradFill rotWithShape="0">
            <a:gsLst>
              <a:gs pos="0">
                <a:srgbClr val="481ece"/>
              </a:gs>
              <a:gs pos="100000">
                <a:srgbClr val="180a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786680" y="377028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042800" y="245268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663600" y="263520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063400" y="469260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63200" y="523080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36576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5338"/>
                </a:solidFill>
                <a:latin typeface="Arial"/>
              </a:rPr>
              <a:t>Cycle name</a:t>
            </a:r>
            <a:endParaRPr b="0" lang="en-US" sz="2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602080" y="2452680"/>
            <a:ext cx="1627200" cy="1251000"/>
          </a:xfrm>
          <a:prstGeom prst="line">
            <a:avLst/>
          </a:prstGeom>
          <a:ln w="9360">
            <a:solidFill>
              <a:srgbClr val="3353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cxnSp>
        <p:nvCxnSpPr>
          <p:cNvPr id="259" name=""/>
          <p:cNvCxnSpPr/>
          <p:nvPr/>
        </p:nvCxnSpPr>
        <p:spPr>
          <a:xfrm flipH="1">
            <a:off x="886680" y="2452320"/>
            <a:ext cx="1726200" cy="1080"/>
          </a:xfrm>
          <a:prstGeom prst="straightConnector1">
            <a:avLst/>
          </a:prstGeom>
          <a:ln w="9360">
            <a:solidFill>
              <a:srgbClr val="335338"/>
            </a:solidFill>
            <a:miter/>
          </a:ln>
        </p:spPr>
      </p:cxnSp>
      <p:sp>
        <p:nvSpPr>
          <p:cNvPr id="260" name=""/>
          <p:cNvSpPr/>
          <p:nvPr/>
        </p:nvSpPr>
        <p:spPr>
          <a:xfrm>
            <a:off x="762120" y="20574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Add Your Text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63" name="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0d5e"/>
                </a:gs>
                <a:gs pos="50000">
                  <a:srgbClr val="481ece"/>
                </a:gs>
                <a:gs pos="100000">
                  <a:srgbClr val="210d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0d5e"/>
                </a:gs>
                <a:gs pos="50000">
                  <a:srgbClr val="481ece"/>
                </a:gs>
                <a:gs pos="100000">
                  <a:srgbClr val="210d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0d5e"/>
                </a:gs>
                <a:gs pos="50000">
                  <a:srgbClr val="481ece"/>
                </a:gs>
                <a:gs pos="100000">
                  <a:srgbClr val="210d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53d51"/>
                </a:gs>
                <a:gs pos="50000">
                  <a:srgbClr val="2f86b1"/>
                </a:gs>
                <a:gs pos="100000">
                  <a:srgbClr val="153d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dcdcd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83c2d"/>
                </a:gs>
                <a:gs pos="50000">
                  <a:srgbClr val="368463"/>
                </a:gs>
                <a:gs pos="100000">
                  <a:srgbClr val="183c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dcdcd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83" name=""/>
            <p:cNvGrpSpPr/>
            <p:nvPr/>
          </p:nvGrpSpPr>
          <p:grpSpPr>
            <a:xfrm>
              <a:off x="3008520" y="2209680"/>
              <a:ext cx="2900520" cy="2705400"/>
              <a:chOff x="3008520" y="2209680"/>
              <a:chExt cx="2900520" cy="2705400"/>
            </a:xfrm>
          </p:grpSpPr>
          <p:sp>
            <p:nvSpPr>
              <p:cNvPr id="284" name=""/>
              <p:cNvSpPr/>
              <p:nvPr/>
            </p:nvSpPr>
            <p:spPr>
              <a:xfrm flipH="1" rot="16200000">
                <a:off x="292680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c2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 rot="5400000">
                <a:off x="553104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c2"/>
                  </a:gs>
                  <a:gs pos="100000">
                    <a:srgbClr val="00006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 rot="10800000">
                <a:off x="423756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c2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d7e4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43836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68463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1d4735"/>
                  </a:gs>
                  <a:gs pos="50000">
                    <a:srgbClr val="368463"/>
                  </a:gs>
                  <a:gs pos="100000">
                    <a:srgbClr val="1d473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0d5e"/>
                </a:gs>
                <a:gs pos="50000">
                  <a:srgbClr val="481ece"/>
                </a:gs>
                <a:gs pos="100000">
                  <a:srgbClr val="210d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0d5e"/>
                </a:gs>
                <a:gs pos="50000">
                  <a:srgbClr val="481ece"/>
                </a:gs>
                <a:gs pos="100000">
                  <a:srgbClr val="210d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0d5e"/>
                </a:gs>
                <a:gs pos="50000">
                  <a:srgbClr val="481ece"/>
                </a:gs>
                <a:gs pos="100000">
                  <a:srgbClr val="210d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53d51"/>
                </a:gs>
                <a:gs pos="50000">
                  <a:srgbClr val="2f86b1"/>
                </a:gs>
                <a:gs pos="100000">
                  <a:srgbClr val="153d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53d51"/>
                </a:gs>
                <a:gs pos="50000">
                  <a:srgbClr val="2f86b1"/>
                </a:gs>
                <a:gs pos="100000">
                  <a:srgbClr val="153d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53d51"/>
                </a:gs>
                <a:gs pos="50000">
                  <a:srgbClr val="2f86b1"/>
                </a:gs>
                <a:gs pos="100000">
                  <a:srgbClr val="153d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d7e4be"/>
            </a:solidFill>
            <a:ln w="381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5338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33533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33533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33533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33533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322" name="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0360b"/>
                </a:gs>
                <a:gs pos="50000">
                  <a:srgbClr val="d2761a"/>
                </a:gs>
                <a:gs pos="100000">
                  <a:srgbClr val="60360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d276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83c2d"/>
                </a:gs>
                <a:gs pos="50000">
                  <a:srgbClr val="368463"/>
                </a:gs>
                <a:gs pos="100000">
                  <a:srgbClr val="183c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368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210d5e"/>
                </a:gs>
                <a:gs pos="50000">
                  <a:srgbClr val="481ece"/>
                </a:gs>
                <a:gs pos="100000">
                  <a:srgbClr val="210d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975512"/>
                </a:gs>
                <a:gs pos="50000">
                  <a:srgbClr val="d2761a"/>
                </a:gs>
                <a:gs pos="100000">
                  <a:srgbClr val="97551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275f47"/>
                </a:gs>
                <a:gs pos="50000">
                  <a:srgbClr val="368463"/>
                </a:gs>
                <a:gs pos="100000">
                  <a:srgbClr val="275f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481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341594"/>
                </a:gs>
                <a:gs pos="50000">
                  <a:srgbClr val="481ece"/>
                </a:gs>
                <a:gs pos="100000">
                  <a:srgbClr val="34159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1600200"/>
            <a:ext cx="6324480" cy="4495680"/>
          </a:xfrm>
          <a:prstGeom prst="rightArrow">
            <a:avLst>
              <a:gd name="adj1" fmla="val 79306"/>
              <a:gd name="adj2" fmla="val 34844"/>
            </a:avLst>
          </a:prstGeom>
          <a:gradFill rotWithShape="0">
            <a:gsLst>
              <a:gs pos="0">
                <a:srgbClr val="2f86b1"/>
              </a:gs>
              <a:gs pos="100000">
                <a:srgbClr val="d7e4b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2761a"/>
              </a:gs>
              <a:gs pos="100000">
                <a:srgbClr val="de9e5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8580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68463"/>
              </a:gs>
              <a:gs pos="100000">
                <a:srgbClr val="72a89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338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338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Sung Ha, Park</cp:lastModifiedBy>
  <dcterms:modified xsi:type="dcterms:W3CDTF">2004-11-22T08:52:30Z</dcterms:modified>
  <cp:revision>34</cp:revision>
  <dc:subject/>
  <dc:title>PowerPoint Template</dc:title>
</cp:coreProperties>
</file>