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2AC-AEDD-4E95-A837-C80A371B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2999880"/>
            <a:ext cx="7086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199320"/>
            <a:ext cx="7086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136-31CD-4C13-AF82-B0901A59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299988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7640" y="299988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199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7640" y="3199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DF6-2493-431F-BD38-A375C4B0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299988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2480" y="299988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58640" y="299988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19932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2480" y="319932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58640" y="319932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E38-236C-480C-A8D9-C0BEDBBE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320" y="299988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299988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299988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7640" y="299988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52440" y="838080"/>
            <a:ext cx="449568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299988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7640" y="299988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199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299988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DC4-923A-41CA-8AFD-23276B17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299988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7640" y="299988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7640" y="3199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299988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7640" y="299988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3199320"/>
            <a:ext cx="7086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2999880"/>
            <a:ext cx="7086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320" y="3199320"/>
            <a:ext cx="7086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299988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7640" y="299988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3199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7640" y="3199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299988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2480" y="299988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58640" y="299988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320" y="319932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2480" y="319932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58640" y="3199320"/>
            <a:ext cx="22816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299988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7C0-28C6-486B-81ED-DE2B76EC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299988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7640" y="299988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A81-93A4-423A-923F-D862ED7F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97A-530A-4EA5-8686-0B05668F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2440" y="838080"/>
            <a:ext cx="449568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545-8393-45E1-8BD7-B71C2D16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299988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7640" y="299988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199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A3F-D72F-442C-8AD9-7E7BEA82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2999880"/>
            <a:ext cx="3458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7640" y="299988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7640" y="319932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9C1-DA7C-4F5B-86CE-6174DE05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299988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7640" y="2999880"/>
            <a:ext cx="3458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199320"/>
            <a:ext cx="70866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823-5AB9-428F-A640-4BB7A9C3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9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-3240" y="6453360"/>
            <a:ext cx="9147240" cy="404640"/>
          </a:xfrm>
          <a:prstGeom prst="rect">
            <a:avLst/>
          </a:prstGeom>
          <a:solidFill>
            <a:srgbClr val="225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53360"/>
            <a:ext cx="1258920" cy="404640"/>
          </a:xfrm>
          <a:prstGeom prst="rect">
            <a:avLst/>
          </a:prstGeom>
          <a:solidFill>
            <a:srgbClr val="58a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076400"/>
            <a:ext cx="86104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a2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E704-9D5B-43A4-95E7-B43F7703EDD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0944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77280" y="59864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1160" y="0"/>
            <a:ext cx="5280120" cy="3024360"/>
          </a:xfrm>
          <a:prstGeom prst="rect">
            <a:avLst/>
          </a:prstGeom>
          <a:solidFill>
            <a:srgbClr val="58a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68960" y="2997360"/>
            <a:ext cx="3875040" cy="360360"/>
          </a:xfrm>
          <a:prstGeom prst="rect">
            <a:avLst/>
          </a:prstGeom>
          <a:solidFill>
            <a:srgbClr val="225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20520" y="2997360"/>
            <a:ext cx="5313240" cy="36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image" Target="../media/image6.png"/><Relationship Id="rId6" Type="http://schemas.openxmlformats.org/officeDocument/2006/relationships/image" Target="../media/image4.wmf"/><Relationship Id="rId7" Type="http://schemas.openxmlformats.org/officeDocument/2006/relationships/image" Target="../media/image7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2440" y="838080"/>
            <a:ext cx="4495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PowerPoint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09160" y="299988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241" name="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189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8a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8a2e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8a2e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f577f"/>
                </a:gs>
                <a:gs pos="50000">
                  <a:srgbClr val="58a2ec"/>
                </a:gs>
                <a:gs pos="100000">
                  <a:srgbClr val="2f577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58a2ec">
                    <a:alpha val="0"/>
                  </a:srgbClr>
                </a:gs>
                <a:gs pos="100000">
                  <a:srgbClr val="37669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64a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64a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23557"/>
                </a:gs>
                <a:gs pos="50000">
                  <a:srgbClr val="9964a2"/>
                </a:gs>
                <a:gs pos="100000">
                  <a:srgbClr val="52355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9964a2">
                    <a:alpha val="0"/>
                  </a:srgbClr>
                </a:gs>
                <a:gs pos="100000">
                  <a:srgbClr val="603f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254" name="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189e8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b4841"/>
                </a:gs>
                <a:gs pos="100000">
                  <a:srgbClr val="189e8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0c554c"/>
                </a:gs>
                <a:gs pos="50000">
                  <a:srgbClr val="189e8e"/>
                </a:gs>
                <a:gs pos="100000">
                  <a:srgbClr val="0c55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89e8e">
                    <a:alpha val="0"/>
                  </a:srgbClr>
                </a:gs>
                <a:gs pos="100000">
                  <a:srgbClr val="0f635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264" name="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269" name="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8a2ec"/>
              </a:gs>
              <a:gs pos="100000">
                <a:srgbClr val="189e8e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56b4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20876400">
            <a:off x="331632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792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68800" y="3743280"/>
            <a:ext cx="166500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8608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7824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6588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20826600">
            <a:off x="147312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397160" y="3352680"/>
            <a:ext cx="1371240" cy="1441080"/>
            <a:chOff x="1397160" y="3352680"/>
            <a:chExt cx="1371240" cy="1441080"/>
          </a:xfrm>
        </p:grpSpPr>
        <p:sp>
          <p:nvSpPr>
            <p:cNvPr id="290" name=""/>
            <p:cNvSpPr/>
            <p:nvPr/>
          </p:nvSpPr>
          <p:spPr>
            <a:xfrm>
              <a:off x="139716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1480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2812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9976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7760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29528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8420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95360" y="19969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4936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6852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6212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8452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9388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36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3672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5472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7973000">
            <a:off x="4615560" y="233100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189e8e"/>
              </a:gs>
              <a:gs pos="100000">
                <a:srgbClr val="158c7d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3465600">
            <a:off x="4614840" y="4494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189e8e"/>
              </a:gs>
              <a:gs pos="100000">
                <a:srgbClr val="158c7d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4368800">
            <a:off x="3396240" y="24069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189e8e"/>
              </a:gs>
              <a:gs pos="100000">
                <a:srgbClr val="158c7d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7534800">
            <a:off x="3358080" y="44618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189e8e"/>
              </a:gs>
              <a:gs pos="100000">
                <a:srgbClr val="158c7d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94440" y="34592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189e8e"/>
              </a:gs>
              <a:gs pos="100000">
                <a:srgbClr val="158c7d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0800000">
            <a:off x="2784240" y="345240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189e8e"/>
              </a:gs>
              <a:gs pos="100000">
                <a:srgbClr val="158c7d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5240" y="1701720"/>
            <a:ext cx="3743280" cy="3745080"/>
          </a:xfrm>
          <a:prstGeom prst="ellipse">
            <a:avLst/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267000" y="1749600"/>
            <a:ext cx="360360" cy="360360"/>
            <a:chOff x="3267000" y="1749600"/>
            <a:chExt cx="360360" cy="360360"/>
          </a:xfrm>
        </p:grpSpPr>
        <p:sp>
          <p:nvSpPr>
            <p:cNvPr id="316" name=""/>
            <p:cNvSpPr/>
            <p:nvPr/>
          </p:nvSpPr>
          <p:spPr>
            <a:xfrm>
              <a:off x="3267000" y="1749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5def7"/>
                </a:gs>
                <a:gs pos="100000">
                  <a:srgbClr val="58a2e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82840" y="1779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5def7"/>
                </a:gs>
                <a:gs pos="100000">
                  <a:srgbClr val="58a2e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322360" y="3405240"/>
            <a:ext cx="360360" cy="360360"/>
            <a:chOff x="2322360" y="3405240"/>
            <a:chExt cx="360360" cy="360360"/>
          </a:xfrm>
        </p:grpSpPr>
        <p:sp>
          <p:nvSpPr>
            <p:cNvPr id="319" name=""/>
            <p:cNvSpPr/>
            <p:nvPr/>
          </p:nvSpPr>
          <p:spPr>
            <a:xfrm>
              <a:off x="232236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5def7"/>
                </a:gs>
                <a:gs pos="100000">
                  <a:srgbClr val="58a2e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3820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5def7"/>
                </a:gs>
                <a:gs pos="100000">
                  <a:srgbClr val="58a2e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186000" y="4948200"/>
            <a:ext cx="360360" cy="360360"/>
            <a:chOff x="3186000" y="4948200"/>
            <a:chExt cx="360360" cy="360360"/>
          </a:xfrm>
        </p:grpSpPr>
        <p:sp>
          <p:nvSpPr>
            <p:cNvPr id="322" name=""/>
            <p:cNvSpPr/>
            <p:nvPr/>
          </p:nvSpPr>
          <p:spPr>
            <a:xfrm>
              <a:off x="3186000" y="4948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5def7"/>
                </a:gs>
                <a:gs pos="100000">
                  <a:srgbClr val="58a2e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1840" y="49784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5def7"/>
                </a:gs>
                <a:gs pos="100000">
                  <a:srgbClr val="58a2e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16680" y="1728720"/>
            <a:ext cx="360360" cy="360360"/>
            <a:chOff x="5116680" y="1728720"/>
            <a:chExt cx="360360" cy="360360"/>
          </a:xfrm>
        </p:grpSpPr>
        <p:sp>
          <p:nvSpPr>
            <p:cNvPr id="325" name=""/>
            <p:cNvSpPr/>
            <p:nvPr/>
          </p:nvSpPr>
          <p:spPr>
            <a:xfrm>
              <a:off x="5116680" y="1728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5def7"/>
                </a:gs>
                <a:gs pos="100000">
                  <a:srgbClr val="58a2e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32520" y="1758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5def7"/>
                </a:gs>
                <a:gs pos="100000">
                  <a:srgbClr val="58a2e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066000" y="3405240"/>
            <a:ext cx="360360" cy="360360"/>
            <a:chOff x="6066000" y="3405240"/>
            <a:chExt cx="360360" cy="360360"/>
          </a:xfrm>
        </p:grpSpPr>
        <p:sp>
          <p:nvSpPr>
            <p:cNvPr id="328" name=""/>
            <p:cNvSpPr/>
            <p:nvPr/>
          </p:nvSpPr>
          <p:spPr>
            <a:xfrm>
              <a:off x="6066000" y="3405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5def7"/>
                </a:gs>
                <a:gs pos="100000">
                  <a:srgbClr val="58a2e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81840" y="3435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5def7"/>
                </a:gs>
                <a:gs pos="100000">
                  <a:srgbClr val="58a2e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172120" y="5005440"/>
            <a:ext cx="360360" cy="360360"/>
            <a:chOff x="5172120" y="5005440"/>
            <a:chExt cx="360360" cy="360360"/>
          </a:xfrm>
        </p:grpSpPr>
        <p:sp>
          <p:nvSpPr>
            <p:cNvPr id="331" name=""/>
            <p:cNvSpPr/>
            <p:nvPr/>
          </p:nvSpPr>
          <p:spPr>
            <a:xfrm>
              <a:off x="5172120" y="50054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5def7"/>
                </a:gs>
                <a:gs pos="100000">
                  <a:srgbClr val="58a2e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7960" y="503532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5def7"/>
                </a:gs>
                <a:gs pos="100000">
                  <a:srgbClr val="58a2e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462480" y="26431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8a2e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56000" y="26272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284a6c"/>
              </a:gs>
              <a:gs pos="100000">
                <a:srgbClr val="58a2e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89200" y="277020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2f577f"/>
              </a:gs>
              <a:gs pos="50000">
                <a:srgbClr val="58a2ec"/>
              </a:gs>
              <a:gs pos="100000">
                <a:srgbClr val="2f577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71920" y="274320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a2ec">
                  <a:alpha val="0"/>
                </a:srgbClr>
              </a:gs>
              <a:gs pos="100000">
                <a:srgbClr val="37669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73440" y="285444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95760" y="287352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13040" y="288288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28880" y="289728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09880" y="293364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02840" y="3343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56600" y="1676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56b4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667160" y="1676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56b4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71000" y="3429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56b4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556600" y="50292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56b4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2760" y="34290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56b4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90840" y="496728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56b4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51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58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6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80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5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96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99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00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03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06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12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16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17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18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21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29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34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35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38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41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47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52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53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56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59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65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78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56b4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56b4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256b4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256b4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482" name=""/>
            <p:cNvCxnSpPr>
              <a:stCxn id="478" idx="3"/>
              <a:endCxn id="479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2256b4"/>
              </a:solidFill>
              <a:miter/>
              <a:tailEnd len="med" type="triangle" w="med"/>
            </a:ln>
          </p:spPr>
        </p:cxnSp>
        <p:cxnSp>
          <p:nvCxnSpPr>
            <p:cNvPr id="483" name=""/>
            <p:cNvCxnSpPr>
              <a:stCxn id="479" idx="3"/>
              <a:endCxn id="480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2256b4"/>
              </a:solidFill>
              <a:miter/>
              <a:tailEnd len="med" type="triangle" w="med"/>
            </a:ln>
          </p:spPr>
        </p:cxnSp>
        <p:cxnSp>
          <p:nvCxnSpPr>
            <p:cNvPr id="484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2256b4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487" name="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eda93"/>
                </a:gs>
                <a:gs pos="100000">
                  <a:srgbClr val="ffcc66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9bdf0"/>
                </a:gs>
                <a:gs pos="100000">
                  <a:srgbClr val="58a2ec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dbaaf"/>
                </a:gs>
                <a:gs pos="100000">
                  <a:srgbClr val="189e8e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dbaaf"/>
                </a:gs>
                <a:gs pos="100000">
                  <a:srgbClr val="189e8e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9bdf0"/>
                </a:gs>
                <a:gs pos="100000">
                  <a:srgbClr val="58a2e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da93"/>
                </a:gs>
                <a:gs pos="100000">
                  <a:srgbClr val="ffcc66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499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8a2ec"/>
                </a:gs>
                <a:gs pos="100000">
                  <a:srgbClr val="284a6c"/>
                </a:gs>
              </a:gsLst>
              <a:lin ang="198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01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189e8e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07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8a2ec"/>
                </a:gs>
                <a:gs pos="100000">
                  <a:srgbClr val="284a6c"/>
                </a:gs>
              </a:gsLst>
              <a:lin ang="198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13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189e8e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56b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56b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56b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56b4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703440" y="2165400"/>
          <a:ext cx="7813440" cy="3124080"/>
        </p:xfrm>
        <a:graphic>
          <a:graphicData uri="http://schemas.openxmlformats.org/drawingml/2006/table">
            <a:tbl>
              <a:tblPr/>
              <a:tblGrid>
                <a:gridCol w="1761840"/>
                <a:gridCol w="1228680"/>
                <a:gridCol w="1206720"/>
                <a:gridCol w="1203120"/>
                <a:gridCol w="1209960"/>
                <a:gridCol w="1203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256b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256b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256b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256b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256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256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256b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256b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256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256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256b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256b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256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256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89e8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601200" y="678600"/>
            <a:ext cx="7379640" cy="5581800"/>
            <a:chOff x="601200" y="678600"/>
            <a:chExt cx="7379640" cy="5581800"/>
          </a:xfrm>
        </p:grpSpPr>
        <p:sp>
          <p:nvSpPr>
            <p:cNvPr id="529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0601600">
              <a:off x="1469520" y="219024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0601600">
              <a:off x="1386360" y="2175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58a2ec"/>
                </a:gs>
                <a:gs pos="100000">
                  <a:srgbClr val="94c3f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189e8e"/>
                </a:gs>
                <a:gs pos="100000">
                  <a:srgbClr val="106d62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3f75aa"/>
                </a:gs>
                <a:gs pos="100000">
                  <a:srgbClr val="58a2e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rot="20602200">
              <a:off x="1402560" y="218592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5e2f"/>
                </a:gs>
                <a:gs pos="100000">
                  <a:srgbClr val="ffcc6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64a2"/>
                </a:gs>
                <a:gs pos="100000">
                  <a:srgbClr val="cfb7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539200">
              <a:off x="1019520" y="158256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964a2"/>
                </a:gs>
                <a:gs pos="100000">
                  <a:srgbClr val="462e4a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964a2"/>
                </a:gs>
                <a:gs pos="100000">
                  <a:srgbClr val="cfb7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8a2ec">
                    <a:alpha val="19215"/>
                  </a:srgbClr>
                </a:gs>
                <a:gs pos="100000">
                  <a:srgbClr val="8fc0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693800" y="239076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b4841"/>
              </a:gs>
              <a:gs pos="50000">
                <a:srgbClr val="189e8e"/>
              </a:gs>
              <a:gs pos="100000">
                <a:srgbClr val="0b484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13520" y="299736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781680" y="4176720"/>
            <a:ext cx="1544760" cy="1766880"/>
            <a:chOff x="6781680" y="4176720"/>
            <a:chExt cx="1544760" cy="1766880"/>
          </a:xfrm>
        </p:grpSpPr>
        <p:sp>
          <p:nvSpPr>
            <p:cNvPr id="553" name=""/>
            <p:cNvSpPr/>
            <p:nvPr/>
          </p:nvSpPr>
          <p:spPr>
            <a:xfrm>
              <a:off x="69343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81680" y="4176720"/>
              <a:ext cx="1544760" cy="1544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1516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603f66"/>
                </a:gs>
                <a:gs pos="100000">
                  <a:srgbClr val="9964a2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72400" y="426708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6e4875"/>
                </a:gs>
                <a:gs pos="100000">
                  <a:srgbClr val="9964a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557" name="" descr=""/>
            <p:cNvPicPr/>
            <p:nvPr/>
          </p:nvPicPr>
          <p:blipFill>
            <a:blip r:embed="rId2"/>
            <a:stretch/>
          </p:blipFill>
          <p:spPr>
            <a:xfrm>
              <a:off x="681516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13160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800600" y="4176720"/>
            <a:ext cx="1544760" cy="1766880"/>
            <a:chOff x="4800600" y="4176720"/>
            <a:chExt cx="1544760" cy="1766880"/>
          </a:xfrm>
        </p:grpSpPr>
        <p:sp>
          <p:nvSpPr>
            <p:cNvPr id="560" name=""/>
            <p:cNvSpPr/>
            <p:nvPr/>
          </p:nvSpPr>
          <p:spPr>
            <a:xfrm>
              <a:off x="4952880" y="563868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00600" y="4176720"/>
              <a:ext cx="1544760" cy="1544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3408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0f6359"/>
                </a:gs>
                <a:gs pos="100000">
                  <a:srgbClr val="189e8e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9096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17266"/>
                </a:gs>
                <a:gs pos="100000">
                  <a:srgbClr val="189e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564" name="" descr=""/>
            <p:cNvPicPr/>
            <p:nvPr/>
          </p:nvPicPr>
          <p:blipFill>
            <a:blip r:embed="rId4"/>
            <a:stretch/>
          </p:blipFill>
          <p:spPr>
            <a:xfrm>
              <a:off x="483408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515016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2819520" y="4176720"/>
            <a:ext cx="1544400" cy="1766880"/>
            <a:chOff x="2819520" y="4176720"/>
            <a:chExt cx="1544400" cy="1766880"/>
          </a:xfrm>
        </p:grpSpPr>
        <p:sp>
          <p:nvSpPr>
            <p:cNvPr id="567" name=""/>
            <p:cNvSpPr/>
            <p:nvPr/>
          </p:nvSpPr>
          <p:spPr>
            <a:xfrm>
              <a:off x="297180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19520" y="4176720"/>
              <a:ext cx="1544400" cy="1544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5264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76695"/>
                </a:gs>
                <a:gs pos="100000">
                  <a:srgbClr val="58a2ec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90988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f75aa"/>
                </a:gs>
                <a:gs pos="100000">
                  <a:srgbClr val="58a2e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571" name="" descr=""/>
            <p:cNvPicPr/>
            <p:nvPr/>
          </p:nvPicPr>
          <p:blipFill>
            <a:blip r:embed="rId6"/>
            <a:stretch/>
          </p:blipFill>
          <p:spPr>
            <a:xfrm>
              <a:off x="2852640" y="4267080"/>
              <a:ext cx="9781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316908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880920" y="4176720"/>
            <a:ext cx="1544760" cy="1766880"/>
            <a:chOff x="880920" y="4176720"/>
            <a:chExt cx="1544760" cy="1766880"/>
          </a:xfrm>
        </p:grpSpPr>
        <p:sp>
          <p:nvSpPr>
            <p:cNvPr id="574" name=""/>
            <p:cNvSpPr/>
            <p:nvPr/>
          </p:nvSpPr>
          <p:spPr>
            <a:xfrm>
              <a:off x="990720" y="563868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80920" y="4176720"/>
              <a:ext cx="1544760" cy="1544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14400" y="421308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a18140"/>
                </a:gs>
                <a:gs pos="100000">
                  <a:srgbClr val="ffcc66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71640" y="426708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b89349"/>
                </a:gs>
                <a:gs pos="100000">
                  <a:srgbClr val="ffcc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8"/>
            <a:stretch/>
          </p:blipFill>
          <p:spPr>
            <a:xfrm>
              <a:off x="914400" y="4267080"/>
              <a:ext cx="97776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30840" y="479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91" name="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28800" y="20239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73080" y="20631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58a2ec"/>
                </a:gs>
                <a:gs pos="100000">
                  <a:srgbClr val="284a6c"/>
                </a:gs>
              </a:gsLst>
              <a:lin ang="135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828800" y="2938320"/>
            <a:ext cx="761760" cy="665280"/>
            <a:chOff x="1828800" y="2938320"/>
            <a:chExt cx="761760" cy="665280"/>
          </a:xfrm>
        </p:grpSpPr>
        <p:sp>
          <p:nvSpPr>
            <p:cNvPr id="95" name=""/>
            <p:cNvSpPr/>
            <p:nvPr/>
          </p:nvSpPr>
          <p:spPr>
            <a:xfrm>
              <a:off x="1834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28800" y="293832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73080" y="297756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189e8e"/>
                </a:gs>
                <a:gs pos="100000">
                  <a:srgbClr val="0b4841"/>
                </a:gs>
              </a:gsLst>
              <a:lin ang="135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2256b4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56b4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2256b4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56b4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105" name="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800" y="38307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3080" y="38700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58a2ec"/>
                </a:gs>
                <a:gs pos="100000">
                  <a:srgbClr val="284a6c"/>
                </a:gs>
              </a:gsLst>
              <a:lin ang="135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28800" y="4745160"/>
            <a:ext cx="761760" cy="664920"/>
            <a:chOff x="1828800" y="4745160"/>
            <a:chExt cx="761760" cy="664920"/>
          </a:xfrm>
        </p:grpSpPr>
        <p:sp>
          <p:nvSpPr>
            <p:cNvPr id="109" name=""/>
            <p:cNvSpPr/>
            <p:nvPr/>
          </p:nvSpPr>
          <p:spPr>
            <a:xfrm>
              <a:off x="1834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28800" y="47451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73080" y="4784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189e8e"/>
                </a:gs>
                <a:gs pos="100000">
                  <a:srgbClr val="0b4841"/>
                </a:gs>
              </a:gsLst>
              <a:lin ang="1350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2256b4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56b4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2256b4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56b4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2286000" y="304776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133720" y="2057400"/>
            <a:ext cx="5340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256b4"/>
                    </a:gs>
                    <a:gs pos="100000">
                      <a:srgbClr val="58a2ec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66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256b4"/>
                  </a:gs>
                  <a:gs pos="100000">
                    <a:srgbClr val="58a2ec"/>
                  </a:gs>
                </a:gsLst>
                <a:lin ang="10800000"/>
              </a:gradFill>
              <a:effectLst>
                <a:outerShdw dist="89604" dir="2700000" blurRad="0" rotWithShape="0">
                  <a:srgbClr val="000066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4840" y="1391760"/>
            <a:ext cx="81864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8a2e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56b4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189e8e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189e8e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189e8e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189e8e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edd9d"/>
              </a:gs>
              <a:gs pos="100000">
                <a:srgbClr val="ff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9e0f7"/>
              </a:gs>
              <a:gs pos="100000">
                <a:srgbClr val="58a2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28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29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2a4e72"/>
                  </a:gs>
                  <a:gs pos="100000">
                    <a:srgbClr val="58a2e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8a2ec"/>
                  </a:gs>
                  <a:gs pos="100000">
                    <a:srgbClr val="b4d4f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89e8e"/>
                </a:gs>
                <a:gs pos="100000">
                  <a:srgbClr val="0b48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addcd6"/>
                </a:gs>
                <a:gs pos="100000">
                  <a:srgbClr val="189e8e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189e8e">
                    <a:alpha val="48235"/>
                  </a:srgbClr>
                </a:gs>
                <a:gs pos="100000">
                  <a:srgbClr val="127c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189e8e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39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8a2ec"/>
                </a:gs>
                <a:gs pos="100000">
                  <a:srgbClr val="1e375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189e8e"/>
                </a:gs>
                <a:gs pos="100000">
                  <a:srgbClr val="0731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5a48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964a2"/>
                </a:gs>
                <a:gs pos="100000">
                  <a:srgbClr val="3422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57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58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256b4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1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2e4a"/>
                </a:gs>
                <a:gs pos="50000">
                  <a:srgbClr val="9964a2"/>
                </a:gs>
                <a:gs pos="100000">
                  <a:srgbClr val="462e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2e4a"/>
                </a:gs>
                <a:gs pos="50000">
                  <a:srgbClr val="9964a2"/>
                </a:gs>
                <a:gs pos="100000">
                  <a:srgbClr val="462e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2e4a"/>
                </a:gs>
                <a:gs pos="50000">
                  <a:srgbClr val="9964a2"/>
                </a:gs>
                <a:gs pos="100000">
                  <a:srgbClr val="462e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b4841"/>
                </a:gs>
                <a:gs pos="50000">
                  <a:srgbClr val="189e8e"/>
                </a:gs>
                <a:gs pos="100000">
                  <a:srgbClr val="0b48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84a6c"/>
                </a:gs>
                <a:gs pos="50000">
                  <a:srgbClr val="58a2ec"/>
                </a:gs>
                <a:gs pos="100000">
                  <a:srgbClr val="284a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1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82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7bbe0"/>
                  </a:gs>
                  <a:gs pos="100000">
                    <a:srgbClr val="2256b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7bbe0"/>
                  </a:gs>
                  <a:gs pos="100000">
                    <a:srgbClr val="2256b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7bbe0"/>
                  </a:gs>
                  <a:gs pos="100000">
                    <a:srgbClr val="2256b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8a2ec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2f577f"/>
                  </a:gs>
                  <a:gs pos="50000">
                    <a:srgbClr val="58a2ec"/>
                  </a:gs>
                  <a:gs pos="100000">
                    <a:srgbClr val="2f577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2e4a"/>
                </a:gs>
                <a:gs pos="50000">
                  <a:srgbClr val="9964a2"/>
                </a:gs>
                <a:gs pos="100000">
                  <a:srgbClr val="462e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2e4a"/>
                </a:gs>
                <a:gs pos="50000">
                  <a:srgbClr val="9964a2"/>
                </a:gs>
                <a:gs pos="100000">
                  <a:srgbClr val="462e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2e4a"/>
                </a:gs>
                <a:gs pos="50000">
                  <a:srgbClr val="9964a2"/>
                </a:gs>
                <a:gs pos="100000">
                  <a:srgbClr val="462e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b4841"/>
                </a:gs>
                <a:gs pos="50000">
                  <a:srgbClr val="189e8e"/>
                </a:gs>
                <a:gs pos="100000">
                  <a:srgbClr val="0b48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b4841"/>
                </a:gs>
                <a:gs pos="50000">
                  <a:srgbClr val="189e8e"/>
                </a:gs>
                <a:gs pos="100000">
                  <a:srgbClr val="0b48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b4841"/>
                </a:gs>
                <a:gs pos="50000">
                  <a:srgbClr val="189e8e"/>
                </a:gs>
                <a:gs pos="100000">
                  <a:srgbClr val="0b48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189e8e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2753a"/>
              </a:gs>
              <a:gs pos="50000">
                <a:srgbClr val="ffcc66"/>
              </a:gs>
              <a:gs pos="100000">
                <a:srgbClr val="92753a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c5a36"/>
              </a:gs>
              <a:gs pos="50000">
                <a:srgbClr val="699d5f"/>
              </a:gs>
              <a:gs pos="100000">
                <a:srgbClr val="3c5a36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25d87"/>
              </a:gs>
              <a:gs pos="50000">
                <a:srgbClr val="58a2ec"/>
              </a:gs>
              <a:gs pos="100000">
                <a:srgbClr val="325d87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56b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56b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56b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56b4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6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55e2f"/>
                </a:gs>
                <a:gs pos="50000">
                  <a:srgbClr val="ffcc66"/>
                </a:gs>
                <a:gs pos="100000">
                  <a:srgbClr val="755e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84a6c"/>
                </a:gs>
                <a:gs pos="50000">
                  <a:srgbClr val="58a2ec"/>
                </a:gs>
                <a:gs pos="100000">
                  <a:srgbClr val="284a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8a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62e4a"/>
                </a:gs>
                <a:gs pos="50000">
                  <a:srgbClr val="9964a2"/>
                </a:gs>
                <a:gs pos="100000">
                  <a:srgbClr val="462e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b4841"/>
                </a:gs>
                <a:gs pos="50000">
                  <a:srgbClr val="189e8e"/>
                </a:gs>
                <a:gs pos="100000">
                  <a:srgbClr val="0b48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189e8e"/>
                </a:gs>
                <a:gs pos="100000">
                  <a:srgbClr val="6bc0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b89349"/>
                </a:gs>
                <a:gs pos="50000">
                  <a:srgbClr val="ffcc66"/>
                </a:gs>
                <a:gs pos="100000">
                  <a:srgbClr val="b893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3f75aa"/>
                </a:gs>
                <a:gs pos="50000">
                  <a:srgbClr val="58a2ec"/>
                </a:gs>
                <a:gs pos="100000">
                  <a:srgbClr val="3f75a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9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e4875"/>
                </a:gs>
                <a:gs pos="50000">
                  <a:srgbClr val="9964a2"/>
                </a:gs>
                <a:gs pos="100000">
                  <a:srgbClr val="6e48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17266"/>
                </a:gs>
                <a:gs pos="50000">
                  <a:srgbClr val="189e8e"/>
                </a:gs>
                <a:gs pos="100000">
                  <a:srgbClr val="1172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6:38:52Z</dcterms:modified>
  <cp:revision>22</cp:revision>
  <dc:subject/>
  <dc:title>PowerPoint Template</dc:title>
</cp:coreProperties>
</file>